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15.gif" ContentType="image/gif"/>
  <Override PartName="/ppt/media/image1.png" ContentType="image/png"/>
  <Override PartName="/ppt/media/image14.gif" ContentType="image/gif"/>
  <Override PartName="/ppt/media/image13.gif" ContentType="image/gif"/>
  <Override PartName="/ppt/media/image2.png" ContentType="image/png"/>
  <Override PartName="/ppt/media/image3.png" ContentType="image/png"/>
  <Override PartName="/ppt/media/camera.wav" ContentType="audio/x-wav"/>
  <Override PartName="/ppt/media/image6.png" ContentType="image/png"/>
  <Override PartName="/ppt/media/image11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91D5-130E-45DA-AC3D-8F70BFC71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60D6-46E4-40CA-BAA0-D305CFA2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61D5-1F7D-421A-BCDA-6AD165943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F51D-03BC-4919-BC19-3084E9BBC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EE72-5769-4B4C-BB1D-D56637C53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425C-23BC-4596-84EA-8D6F2711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DA15-8560-4598-94A1-361F45E1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395F-4363-4B26-AD77-61E774D0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3C5E-D9F5-4CE3-AC65-66A46A5A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8CC6-F1CB-4E23-AC08-6159B643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EE93-0ADE-4F25-BB70-287D20D3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B9B1-0CA4-4A3C-8204-18B0F5F3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BCAE-07F3-4011-A776-E1468700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1B34-096F-46B0-A235-339CBE16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4174-C785-4C86-8BFD-ECE17BCA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97A0-3374-47B1-8B22-922B90196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F375-400F-466C-86B4-6FC38D0BC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168C-6643-49AA-BC28-821FB744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CAFB-3050-40E8-AE57-AFF4693B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EE98-F14F-4DF8-B960-69885252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9882-7655-4D83-8ED4-71F1A5C8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34D8-F7AD-4207-B866-7852D44D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A5DE-C249-4F4C-998A-F742E281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5BAC-C449-4B0E-A979-D81BA9E0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21C9-2296-49E1-BF2C-A4890ECBD67A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47C9-52CD-4EF3-97F6-8437EFF18904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&#1057;&#1087;&#1088;&#1072;&#1074;&#1086;&#1095;&#1085;&#1080;&#1082;/spravochnik.htm" TargetMode="External"/><Relationship Id="rId3" Type="http://schemas.openxmlformats.org/officeDocument/2006/relationships/hyperlink" Target="http://www.yandex.ru/" TargetMode="Externa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image" Target="../media/image4.png"/><Relationship Id="rId6" Type="http://schemas.openxmlformats.org/officeDocument/2006/relationships/slide" Target="slide9.xml"/><Relationship Id="rId7" Type="http://schemas.openxmlformats.org/officeDocument/2006/relationships/image" Target="../media/image5.png"/><Relationship Id="rId8" Type="http://schemas.openxmlformats.org/officeDocument/2006/relationships/slide" Target="slide12.xml"/><Relationship Id="rId9" Type="http://schemas.openxmlformats.org/officeDocument/2006/relationships/image" Target="../media/image6.png"/><Relationship Id="rId10" Type="http://schemas.openxmlformats.org/officeDocument/2006/relationships/slide" Target="slide16.xml"/><Relationship Id="rId11" Type="http://schemas.openxmlformats.org/officeDocument/2006/relationships/image" Target="../media/image7.png"/><Relationship Id="rId12" Type="http://schemas.openxmlformats.org/officeDocument/2006/relationships/slide" Target="slide13.xm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Еще раз о площади треугольник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читель Маевская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талья Сергеевн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МБОУ СОШ № 18 г. Брянск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бсудите в группе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дополнительные построения выполняли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ми инструментами пользовались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колько измерений проводили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">
            <a:hlinkClick r:id="rId4" action="ppaction://hlinksldjump"/>
          </p:cNvPr>
          <p:cNvSpPr/>
          <p:nvPr/>
        </p:nvSpPr>
        <p:spPr>
          <a:xfrm>
            <a:off x="4253040" y="5500800"/>
            <a:ext cx="595080" cy="609480"/>
          </a:xfrm>
          <a:custGeom>
            <a:avLst/>
            <a:gdLst>
              <a:gd name="textAreaLeft" fmla="*/ 38520 w 595080"/>
              <a:gd name="textAreaRight" fmla="*/ 556560 w 595080"/>
              <a:gd name="textAreaTop" fmla="*/ 38520 h 609480"/>
              <a:gd name="textAreaBottom" fmla="*/ 570960 h 609480"/>
            </a:gdLst>
            <a:ahLst/>
            <a:rect l="textAreaLeft" t="textAreaTop" r="textAreaRight" b="textAreaBottom"/>
            <a:pathLst>
              <a:path w="21600" h="22122">
                <a:moveTo>
                  <a:pt x="0" y="0"/>
                </a:moveTo>
                <a:lnTo>
                  <a:pt x="21600" y="0"/>
                </a:lnTo>
                <a:lnTo>
                  <a:pt x="21600" y="22122"/>
                </a:lnTo>
                <a:lnTo>
                  <a:pt x="0" y="22122"/>
                </a:lnTo>
                <a:close/>
              </a:path>
              <a:path fill="lightenLess" w="21600" h="221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22">
                <a:moveTo>
                  <a:pt x="21600" y="0"/>
                </a:moveTo>
                <a:lnTo>
                  <a:pt x="21600" y="22122"/>
                </a:lnTo>
                <a:lnTo>
                  <a:pt x="20200" y="20722"/>
                </a:lnTo>
                <a:lnTo>
                  <a:pt x="20200" y="1400"/>
                </a:lnTo>
                <a:close/>
              </a:path>
              <a:path fill="darkenLess" w="21600" h="22122">
                <a:moveTo>
                  <a:pt x="21600" y="22122"/>
                </a:moveTo>
                <a:lnTo>
                  <a:pt x="0" y="22122"/>
                </a:lnTo>
                <a:lnTo>
                  <a:pt x="1400" y="20722"/>
                </a:lnTo>
                <a:lnTo>
                  <a:pt x="20200" y="20722"/>
                </a:lnTo>
                <a:close/>
              </a:path>
              <a:path fill="lighten" w="21600" h="22122">
                <a:moveTo>
                  <a:pt x="0" y="221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22"/>
                </a:lnTo>
                <a:close/>
              </a:path>
              <a:path fill="darken" w="21600" h="22122">
                <a:moveTo>
                  <a:pt x="3794" y="7754"/>
                </a:moveTo>
                <a:lnTo>
                  <a:pt x="7301" y="7754"/>
                </a:lnTo>
                <a:lnTo>
                  <a:pt x="7301" y="13089"/>
                </a:lnTo>
                <a:cubicBezTo>
                  <a:pt x="7301" y="14012"/>
                  <a:pt x="8102" y="14743"/>
                  <a:pt x="9138" y="14743"/>
                </a:cubicBezTo>
                <a:lnTo>
                  <a:pt x="10800" y="14743"/>
                </a:lnTo>
                <a:cubicBezTo>
                  <a:pt x="11836" y="14743"/>
                  <a:pt x="12636" y="14012"/>
                  <a:pt x="12636" y="13089"/>
                </a:cubicBezTo>
                <a:lnTo>
                  <a:pt x="12636" y="7754"/>
                </a:lnTo>
                <a:lnTo>
                  <a:pt x="10800" y="7754"/>
                </a:lnTo>
                <a:lnTo>
                  <a:pt x="14308" y="4246"/>
                </a:lnTo>
                <a:lnTo>
                  <a:pt x="17981" y="7754"/>
                </a:lnTo>
                <a:lnTo>
                  <a:pt x="16144" y="7754"/>
                </a:lnTo>
                <a:lnTo>
                  <a:pt x="16144" y="13089"/>
                </a:lnTo>
                <a:cubicBezTo>
                  <a:pt x="16144" y="15857"/>
                  <a:pt x="13568" y="18416"/>
                  <a:pt x="10800" y="18416"/>
                </a:cubicBezTo>
                <a:lnTo>
                  <a:pt x="9138" y="18416"/>
                </a:lnTo>
                <a:cubicBezTo>
                  <a:pt x="6370" y="18416"/>
                  <a:pt x="3794" y="15857"/>
                  <a:pt x="3794" y="13089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03040" y="34884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Используем формулу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измерения проводились и сколько их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ми инструментами пользовались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затруднения испытывали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огда удобно пользоваться данной формулой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5546880" y="539640"/>
            <a:ext cx="3276360" cy="476280"/>
          </a:xfrm>
          <a:prstGeom prst="rect">
            <a:avLst/>
          </a:prstGeom>
          <a:ln w="0">
            <a:noFill/>
          </a:ln>
        </p:spPr>
      </p:pic>
      <p:sp>
        <p:nvSpPr>
          <p:cNvPr id="261" name="">
            <a:hlinkClick r:id="rId6" action="ppaction://hlinksldjump"/>
          </p:cNvPr>
          <p:cNvSpPr/>
          <p:nvPr/>
        </p:nvSpPr>
        <p:spPr>
          <a:xfrm>
            <a:off x="4253040" y="5500800"/>
            <a:ext cx="595080" cy="609480"/>
          </a:xfrm>
          <a:custGeom>
            <a:avLst/>
            <a:gdLst>
              <a:gd name="textAreaLeft" fmla="*/ 38520 w 595080"/>
              <a:gd name="textAreaRight" fmla="*/ 556560 w 595080"/>
              <a:gd name="textAreaTop" fmla="*/ 38520 h 609480"/>
              <a:gd name="textAreaBottom" fmla="*/ 570960 h 609480"/>
            </a:gdLst>
            <a:ahLst/>
            <a:rect l="textAreaLeft" t="textAreaTop" r="textAreaRight" b="textAreaBottom"/>
            <a:pathLst>
              <a:path w="21600" h="22122">
                <a:moveTo>
                  <a:pt x="0" y="0"/>
                </a:moveTo>
                <a:lnTo>
                  <a:pt x="21600" y="0"/>
                </a:lnTo>
                <a:lnTo>
                  <a:pt x="21600" y="22122"/>
                </a:lnTo>
                <a:lnTo>
                  <a:pt x="0" y="22122"/>
                </a:lnTo>
                <a:close/>
              </a:path>
              <a:path fill="lightenLess" w="21600" h="221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22">
                <a:moveTo>
                  <a:pt x="21600" y="0"/>
                </a:moveTo>
                <a:lnTo>
                  <a:pt x="21600" y="22122"/>
                </a:lnTo>
                <a:lnTo>
                  <a:pt x="20200" y="20722"/>
                </a:lnTo>
                <a:lnTo>
                  <a:pt x="20200" y="1400"/>
                </a:lnTo>
                <a:close/>
              </a:path>
              <a:path fill="darkenLess" w="21600" h="22122">
                <a:moveTo>
                  <a:pt x="21600" y="22122"/>
                </a:moveTo>
                <a:lnTo>
                  <a:pt x="0" y="22122"/>
                </a:lnTo>
                <a:lnTo>
                  <a:pt x="1400" y="20722"/>
                </a:lnTo>
                <a:lnTo>
                  <a:pt x="20200" y="20722"/>
                </a:lnTo>
                <a:close/>
              </a:path>
              <a:path fill="lighten" w="21600" h="22122">
                <a:moveTo>
                  <a:pt x="0" y="221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22"/>
                </a:lnTo>
                <a:close/>
              </a:path>
              <a:path fill="darken" w="21600" h="22122">
                <a:moveTo>
                  <a:pt x="3794" y="7754"/>
                </a:moveTo>
                <a:lnTo>
                  <a:pt x="7301" y="7754"/>
                </a:lnTo>
                <a:lnTo>
                  <a:pt x="7301" y="13089"/>
                </a:lnTo>
                <a:cubicBezTo>
                  <a:pt x="7301" y="14012"/>
                  <a:pt x="8102" y="14743"/>
                  <a:pt x="9138" y="14743"/>
                </a:cubicBezTo>
                <a:lnTo>
                  <a:pt x="10800" y="14743"/>
                </a:lnTo>
                <a:cubicBezTo>
                  <a:pt x="11836" y="14743"/>
                  <a:pt x="12636" y="14012"/>
                  <a:pt x="12636" y="13089"/>
                </a:cubicBezTo>
                <a:lnTo>
                  <a:pt x="12636" y="7754"/>
                </a:lnTo>
                <a:lnTo>
                  <a:pt x="10800" y="7754"/>
                </a:lnTo>
                <a:lnTo>
                  <a:pt x="14308" y="4246"/>
                </a:lnTo>
                <a:lnTo>
                  <a:pt x="17981" y="7754"/>
                </a:lnTo>
                <a:lnTo>
                  <a:pt x="16144" y="7754"/>
                </a:lnTo>
                <a:lnTo>
                  <a:pt x="16144" y="13089"/>
                </a:lnTo>
                <a:cubicBezTo>
                  <a:pt x="16144" y="15857"/>
                  <a:pt x="13568" y="18416"/>
                  <a:pt x="10800" y="18416"/>
                </a:cubicBezTo>
                <a:lnTo>
                  <a:pt x="9138" y="18416"/>
                </a:lnTo>
                <a:cubicBezTo>
                  <a:pt x="6370" y="18416"/>
                  <a:pt x="3794" y="15857"/>
                  <a:pt x="3794" y="13089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03040" y="34884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Используем формулу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435640" y="303120"/>
            <a:ext cx="3432240" cy="982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2370240" y="1208160"/>
            <a:ext cx="4938480" cy="31068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7960" y="4198680"/>
            <a:ext cx="7772400" cy="24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ак построить вписанную окружность и найти ее радиус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акие измерения вы выполнили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В чем преимущества и недостатки этого способа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8229600" y="6248520"/>
            <a:ext cx="595440" cy="609480"/>
          </a:xfrm>
          <a:custGeom>
            <a:avLst/>
            <a:gdLst>
              <a:gd name="textAreaLeft" fmla="*/ 38520 w 595440"/>
              <a:gd name="textAreaRight" fmla="*/ 556920 w 595440"/>
              <a:gd name="textAreaTop" fmla="*/ 38520 h 609480"/>
              <a:gd name="textAreaBottom" fmla="*/ 570960 h 609480"/>
            </a:gdLst>
            <a:ahLst/>
            <a:rect l="textAreaLeft" t="textAreaTop" r="textAreaRight" b="textAreaBottom"/>
            <a:pathLst>
              <a:path w="21600" h="22109">
                <a:moveTo>
                  <a:pt x="0" y="0"/>
                </a:moveTo>
                <a:lnTo>
                  <a:pt x="21600" y="0"/>
                </a:lnTo>
                <a:lnTo>
                  <a:pt x="21600" y="22109"/>
                </a:lnTo>
                <a:lnTo>
                  <a:pt x="0" y="22109"/>
                </a:lnTo>
                <a:close/>
              </a:path>
              <a:path fill="lightenLess" w="21600" h="22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09">
                <a:moveTo>
                  <a:pt x="21600" y="0"/>
                </a:moveTo>
                <a:lnTo>
                  <a:pt x="21600" y="22109"/>
                </a:lnTo>
                <a:lnTo>
                  <a:pt x="20200" y="20709"/>
                </a:lnTo>
                <a:lnTo>
                  <a:pt x="20200" y="1400"/>
                </a:lnTo>
                <a:close/>
              </a:path>
              <a:path fill="darkenLess" w="21600" h="22109">
                <a:moveTo>
                  <a:pt x="21600" y="22109"/>
                </a:moveTo>
                <a:lnTo>
                  <a:pt x="0" y="22109"/>
                </a:lnTo>
                <a:lnTo>
                  <a:pt x="1400" y="20709"/>
                </a:lnTo>
                <a:lnTo>
                  <a:pt x="20200" y="20709"/>
                </a:lnTo>
                <a:close/>
              </a:path>
              <a:path fill="lighten" w="21600" h="22109">
                <a:moveTo>
                  <a:pt x="0" y="22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09"/>
                </a:lnTo>
                <a:close/>
              </a:path>
              <a:path fill="darken" w="21600" h="22109">
                <a:moveTo>
                  <a:pt x="3794" y="7747"/>
                </a:moveTo>
                <a:lnTo>
                  <a:pt x="7301" y="7747"/>
                </a:lnTo>
                <a:lnTo>
                  <a:pt x="7301" y="13082"/>
                </a:lnTo>
                <a:cubicBezTo>
                  <a:pt x="7301" y="14005"/>
                  <a:pt x="8102" y="14736"/>
                  <a:pt x="9138" y="14736"/>
                </a:cubicBezTo>
                <a:lnTo>
                  <a:pt x="10800" y="14736"/>
                </a:lnTo>
                <a:cubicBezTo>
                  <a:pt x="11836" y="14736"/>
                  <a:pt x="12636" y="14005"/>
                  <a:pt x="12636" y="13082"/>
                </a:cubicBezTo>
                <a:lnTo>
                  <a:pt x="12636" y="7747"/>
                </a:lnTo>
                <a:lnTo>
                  <a:pt x="10800" y="7747"/>
                </a:lnTo>
                <a:lnTo>
                  <a:pt x="14308" y="4240"/>
                </a:lnTo>
                <a:lnTo>
                  <a:pt x="17981" y="7747"/>
                </a:lnTo>
                <a:lnTo>
                  <a:pt x="16144" y="7747"/>
                </a:lnTo>
                <a:lnTo>
                  <a:pt x="16144" y="13082"/>
                </a:lnTo>
                <a:cubicBezTo>
                  <a:pt x="16144" y="15850"/>
                  <a:pt x="13568" y="18409"/>
                  <a:pt x="10800" y="18409"/>
                </a:cubicBezTo>
                <a:lnTo>
                  <a:pt x="9138" y="18409"/>
                </a:lnTo>
                <a:cubicBezTo>
                  <a:pt x="6370" y="18409"/>
                  <a:pt x="3794" y="15850"/>
                  <a:pt x="3794" y="13082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6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03040" y="34884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Используем формулу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4039920"/>
            <a:ext cx="7772400" cy="24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ак построить описанную окружность и найти ее радиус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акие измерения вы выполнили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В чем преимущества и недостатки этого способа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6026040" y="237960"/>
            <a:ext cx="1482840" cy="10652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3459240" y="1212840"/>
            <a:ext cx="2844720" cy="2647800"/>
          </a:xfrm>
          <a:prstGeom prst="rect">
            <a:avLst/>
          </a:prstGeom>
          <a:ln w="0">
            <a:noFill/>
          </a:ln>
        </p:spPr>
      </p:pic>
      <p:sp>
        <p:nvSpPr>
          <p:cNvPr id="271" name="">
            <a:hlinkClick r:id="rId6" action="ppaction://hlinksldjump"/>
          </p:cNvPr>
          <p:cNvSpPr/>
          <p:nvPr/>
        </p:nvSpPr>
        <p:spPr>
          <a:xfrm>
            <a:off x="8229600" y="6248520"/>
            <a:ext cx="595440" cy="609480"/>
          </a:xfrm>
          <a:custGeom>
            <a:avLst/>
            <a:gdLst>
              <a:gd name="textAreaLeft" fmla="*/ 38520 w 595440"/>
              <a:gd name="textAreaRight" fmla="*/ 556920 w 595440"/>
              <a:gd name="textAreaTop" fmla="*/ 38520 h 609480"/>
              <a:gd name="textAreaBottom" fmla="*/ 570960 h 609480"/>
            </a:gdLst>
            <a:ahLst/>
            <a:rect l="textAreaLeft" t="textAreaTop" r="textAreaRight" b="textAreaBottom"/>
            <a:pathLst>
              <a:path w="21600" h="22109">
                <a:moveTo>
                  <a:pt x="0" y="0"/>
                </a:moveTo>
                <a:lnTo>
                  <a:pt x="21600" y="0"/>
                </a:lnTo>
                <a:lnTo>
                  <a:pt x="21600" y="22109"/>
                </a:lnTo>
                <a:lnTo>
                  <a:pt x="0" y="22109"/>
                </a:lnTo>
                <a:close/>
              </a:path>
              <a:path fill="lightenLess" w="21600" h="22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09">
                <a:moveTo>
                  <a:pt x="21600" y="0"/>
                </a:moveTo>
                <a:lnTo>
                  <a:pt x="21600" y="22109"/>
                </a:lnTo>
                <a:lnTo>
                  <a:pt x="20200" y="20709"/>
                </a:lnTo>
                <a:lnTo>
                  <a:pt x="20200" y="1400"/>
                </a:lnTo>
                <a:close/>
              </a:path>
              <a:path fill="darkenLess" w="21600" h="22109">
                <a:moveTo>
                  <a:pt x="21600" y="22109"/>
                </a:moveTo>
                <a:lnTo>
                  <a:pt x="0" y="22109"/>
                </a:lnTo>
                <a:lnTo>
                  <a:pt x="1400" y="20709"/>
                </a:lnTo>
                <a:lnTo>
                  <a:pt x="20200" y="20709"/>
                </a:lnTo>
                <a:close/>
              </a:path>
              <a:path fill="lighten" w="21600" h="22109">
                <a:moveTo>
                  <a:pt x="0" y="22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09"/>
                </a:lnTo>
                <a:close/>
              </a:path>
              <a:path fill="darken" w="21600" h="22109">
                <a:moveTo>
                  <a:pt x="3794" y="7747"/>
                </a:moveTo>
                <a:lnTo>
                  <a:pt x="7301" y="7747"/>
                </a:lnTo>
                <a:lnTo>
                  <a:pt x="7301" y="13082"/>
                </a:lnTo>
                <a:cubicBezTo>
                  <a:pt x="7301" y="14005"/>
                  <a:pt x="8102" y="14736"/>
                  <a:pt x="9138" y="14736"/>
                </a:cubicBezTo>
                <a:lnTo>
                  <a:pt x="10800" y="14736"/>
                </a:lnTo>
                <a:cubicBezTo>
                  <a:pt x="11836" y="14736"/>
                  <a:pt x="12636" y="14005"/>
                  <a:pt x="12636" y="13082"/>
                </a:cubicBezTo>
                <a:lnTo>
                  <a:pt x="12636" y="7747"/>
                </a:lnTo>
                <a:lnTo>
                  <a:pt x="10800" y="7747"/>
                </a:lnTo>
                <a:lnTo>
                  <a:pt x="14308" y="4240"/>
                </a:lnTo>
                <a:lnTo>
                  <a:pt x="17981" y="7747"/>
                </a:lnTo>
                <a:lnTo>
                  <a:pt x="16144" y="7747"/>
                </a:lnTo>
                <a:lnTo>
                  <a:pt x="16144" y="13082"/>
                </a:lnTo>
                <a:cubicBezTo>
                  <a:pt x="16144" y="15850"/>
                  <a:pt x="13568" y="18409"/>
                  <a:pt x="10800" y="18409"/>
                </a:cubicBezTo>
                <a:lnTo>
                  <a:pt x="9138" y="18409"/>
                </a:lnTo>
                <a:cubicBezTo>
                  <a:pt x="6370" y="18409"/>
                  <a:pt x="3794" y="15850"/>
                  <a:pt x="3794" y="13082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Частные случа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ми формулами для нахождения площади треугольника можно воспользоваться в случае, если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Треугольник равносторонний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Треугольник прямоугольный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527120" y="1962000"/>
            <a:ext cx="1619280" cy="16574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1046160" y="4121280"/>
            <a:ext cx="1886040" cy="1257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5500800" y="1812960"/>
            <a:ext cx="1596960" cy="1452600"/>
          </a:xfrm>
          <a:prstGeom prst="rtTriangl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53040" y="2349360"/>
            <a:ext cx="3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80040" y="3306600"/>
            <a:ext cx="3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335560" y="4086360"/>
                <a:ext cx="167652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22360" y="232920"/>
            <a:ext cx="777240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Используем «незнакомую» формулу для вычисления площади треугольник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7960" y="4198680"/>
            <a:ext cx="7772400" cy="24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Хотите познакомиться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3228840" y="2406600"/>
            <a:ext cx="2737080" cy="1208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4121280" y="4805280"/>
            <a:ext cx="9046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41320" y="178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Отказаться от новых знаний просто невозможно!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3951360"/>
            <a:ext cx="77724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Тогда приступим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77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0" dur="770" fill="hold"/>
                                        <p:tgtEl>
                                          <p:spTgt spid="2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2" dur="77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4" dur="77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Тема урока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2009880" y="3206880"/>
            <a:ext cx="5713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58c"/>
                </a:solidFill>
                <a:latin typeface="Tahoma"/>
              </a:rPr>
              <a:t>Еще одна теорема о площади треугольника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аботаем в группах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 чего обычно мы начинаем изучение теоремы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смотрите на формулу и попытайтесь сформулировать теорему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чем вы испытываете затруднение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оверьте себя, обратившись к учебнику стр. 256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Умеем ли мы находить площадь треугольника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1116000" y="5516640"/>
            <a:ext cx="1943280" cy="792000"/>
          </a:xfrm>
          <a:prstGeom prst="roundRect">
            <a:avLst>
              <a:gd name="adj" fmla="val 495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ДА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>
            <a:hlinkClick r:id="rId2" action="ppaction://hlinksldjump"/>
          </p:cNvPr>
          <p:cNvSpPr/>
          <p:nvPr/>
        </p:nvSpPr>
        <p:spPr>
          <a:xfrm>
            <a:off x="5508720" y="5516640"/>
            <a:ext cx="1942920" cy="792000"/>
          </a:xfrm>
          <a:prstGeom prst="roundRect">
            <a:avLst>
              <a:gd name="adj" fmla="val 495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НЕ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116000" y="1557360"/>
            <a:ext cx="1440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41240" y="304920"/>
            <a:ext cx="764064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Площадь треугольника равна половине произведения двух его сторон на синус угла между ними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3240000"/>
            <a:ext cx="7772400" cy="27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ереведите теорему на язык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«если …, то … 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пишите условие и заключение теоремы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ыполните чертеж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Проверьте себя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BC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А=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, CB=a,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CB =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Доказать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348160" y="4525920"/>
            <a:ext cx="2316240" cy="8431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00440" y="162576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23960" y="345132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1680" y="337824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78000" y="3657600"/>
            <a:ext cx="2481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247760" y="2119320"/>
            <a:ext cx="1727280" cy="1538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046240" y="354168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449360" y="25830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436760" y="349740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0" y="0"/>
                </a:moveTo>
                <a:cubicBezTo>
                  <a:pt x="33" y="33"/>
                  <a:pt x="37" y="67"/>
                  <a:pt x="37" y="1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68600" y="3162240"/>
            <a:ext cx="6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Работаем самостоятельно в группах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Есть выбор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едлагаем идею доказательства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йти доказательство в Интернете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оспользуйтесь учебником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оберите мозаику из готовых карточек с доказательством (конверт №2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Идея: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оспользоваться формулой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52960" y="2651040"/>
            <a:ext cx="194292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аботаем в группах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бсудите шаги доказательства и обоснования к ним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едставьте наглядное доказательство на плакате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едставляем вам один из способов доказательства теоремы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Доказательство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38520" y="1541160"/>
            <a:ext cx="427536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Проведем высоту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к стороне СВ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Выразим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из прямоугольного </a:t>
            </a:r>
            <a:r>
              <a:rPr b="0" lang="ru-RU" sz="2800" spc="-1" strike="noStrike">
                <a:solidFill>
                  <a:srgbClr val="40458c"/>
                </a:solidFill>
                <a:latin typeface="Symbol"/>
                <a:ea typeface="Symbol"/>
              </a:rPr>
              <a:t>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АСН.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=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· sin </a:t>
            </a:r>
            <a:r>
              <a:rPr b="0" lang="el-GR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α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т.к.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in </a:t>
            </a:r>
            <a:r>
              <a:rPr b="0" lang="el-GR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α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= h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/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Воспользуемся формулой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 = ½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 h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и получим </a:t>
            </a:r>
            <a:r>
              <a:rPr b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= ½</a:t>
            </a:r>
            <a:r>
              <a:rPr b="1" lang="ru-RU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 b sin </a:t>
            </a:r>
            <a:r>
              <a:rPr b="1" i="1" lang="el-GR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00440" y="162576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23960" y="345132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11680" y="337824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78000" y="3657600"/>
            <a:ext cx="2481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1247760" y="2119320"/>
            <a:ext cx="1727280" cy="1538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46240" y="354168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49360" y="25830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36760" y="349740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0" y="0"/>
                </a:moveTo>
                <a:cubicBezTo>
                  <a:pt x="33" y="33"/>
                  <a:pt x="37" y="67"/>
                  <a:pt x="37" y="1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68600" y="3162240"/>
            <a:ext cx="6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960640" y="2104920"/>
            <a:ext cx="0" cy="1567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692440" y="370836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Н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36920" y="2697120"/>
            <a:ext cx="6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варианты доказательства вы нашли в Интернете и в учебнике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зовите идеи, используемые разными авторами при доказательстве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ое доказательство вам понравилось больше и почему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дание «Кто быстрее?»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Вам предложены готовые слайды презентации с доказательством  теоремы, но их порядок нарушен. Восстановите порядок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Примечание (презентация «Кто быстрее?» расположена на Рабочем столе компьютера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За верно выполненное задание получаете «+»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Продолжи запис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16160" y="1905120"/>
            <a:ext cx="369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458c"/>
                </a:solidFill>
                <a:latin typeface="Times New Roman"/>
              </a:rPr>
              <a:t>S = </a:t>
            </a:r>
            <a:r>
              <a:rPr b="0" i="1" lang="en-US" sz="4000" spc="-1" strike="noStrike">
                <a:solidFill>
                  <a:srgbClr val="40458c"/>
                </a:solidFill>
                <a:latin typeface="Times New Roman"/>
                <a:ea typeface="Tahoma"/>
              </a:rPr>
              <a:t>½ b c sin …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458c"/>
                </a:solidFill>
                <a:latin typeface="Times New Roman"/>
              </a:rPr>
              <a:t>S = </a:t>
            </a:r>
            <a:r>
              <a:rPr b="0" i="1" lang="en-US" sz="4000" spc="-1" strike="noStrike">
                <a:solidFill>
                  <a:srgbClr val="40458c"/>
                </a:solidFill>
                <a:latin typeface="Times New Roman"/>
                <a:ea typeface="Tahoma"/>
              </a:rPr>
              <a:t>½ a c sin …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458c"/>
                </a:solidFill>
                <a:latin typeface="Times New Roman"/>
              </a:rPr>
              <a:t>S = </a:t>
            </a:r>
            <a:r>
              <a:rPr b="0" i="1" lang="en-US" sz="4000" spc="-1" strike="noStrike">
                <a:solidFill>
                  <a:srgbClr val="40458c"/>
                </a:solidFill>
                <a:latin typeface="Times New Roman"/>
                <a:ea typeface="Tahoma"/>
              </a:rPr>
              <a:t>½ b … sin …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00440" y="162576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23960" y="345132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11680" y="337824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89000" y="380196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49360" y="25830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79680" y="230508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77920" y="304560"/>
            <a:ext cx="85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Tahoma"/>
              </a:rPr>
              <a:t>Необходимо знать формулы для нахождения площади треугольник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озможны два варианта поиска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братиться к </a:t>
            </a:r>
            <a:r>
              <a:rPr b="0" lang="ru-RU" sz="32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электронному справочнику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оспользоваться </a:t>
            </a:r>
            <a:r>
              <a:rPr b="0" lang="ru-RU" sz="32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Интернет-ресурсами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ешите задач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одолжаем работать в группах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дача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Сформулируйте условие задачи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Решите ее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Ответы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4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2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21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ahoma"/>
              </a:rPr>
              <a:t>√3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438280" y="36576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14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434960" y="24084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36760" y="349740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0" y="0"/>
                </a:moveTo>
                <a:cubicBezTo>
                  <a:pt x="33" y="33"/>
                  <a:pt x="37" y="67"/>
                  <a:pt x="37" y="1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68600" y="3162240"/>
            <a:ext cx="81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30</a:t>
            </a:r>
            <a:r>
              <a:rPr b="1" i="1" lang="ru-RU" sz="3200" spc="-1" strike="noStrike" baseline="30000">
                <a:solidFill>
                  <a:srgbClr val="660066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 вас ошибка! Вернитесь назад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3362400" y="3384720"/>
            <a:ext cx="181764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109520" y="1868400"/>
            <a:ext cx="6688440" cy="17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мник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3506760" y="430848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дача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айти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B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Ответы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1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10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ahoma"/>
              </a:rPr>
              <a:t>√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38360" y="3440160"/>
            <a:ext cx="6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00520" y="343692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65520" y="169380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63680" y="3614760"/>
            <a:ext cx="12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10</a:t>
            </a:r>
            <a:r>
              <a:rPr b="1" i="1" lang="ru-RU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√2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436760" y="349740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0" y="0"/>
                </a:moveTo>
                <a:cubicBezTo>
                  <a:pt x="33" y="33"/>
                  <a:pt x="37" y="67"/>
                  <a:pt x="37" y="1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68600" y="3162240"/>
            <a:ext cx="9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45</a:t>
            </a:r>
            <a:r>
              <a:rPr b="1" i="1" lang="ru-RU" sz="3200" spc="-1" strike="noStrike" baseline="30000">
                <a:solidFill>
                  <a:srgbClr val="660066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50960" y="4308480"/>
            <a:ext cx="1711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S</a:t>
            </a:r>
            <a:r>
              <a:rPr b="1" i="1" lang="en-US" sz="3200" spc="-1" strike="noStrike" baseline="-25000">
                <a:solidFill>
                  <a:srgbClr val="660066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=5</a:t>
            </a: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 вас ошибка! Вернитесь назад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3362400" y="3384720"/>
            <a:ext cx="181764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1109520" y="1868400"/>
            <a:ext cx="6688440" cy="17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мник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3506760" y="430848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дача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айти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Ответы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64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6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38360" y="3440160"/>
            <a:ext cx="6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00520" y="343692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765520" y="169380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63680" y="3614760"/>
            <a:ext cx="12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36760" y="349740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0" y="0"/>
                </a:moveTo>
                <a:cubicBezTo>
                  <a:pt x="33" y="33"/>
                  <a:pt x="37" y="67"/>
                  <a:pt x="37" y="1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68600" y="3162240"/>
            <a:ext cx="9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200240" y="4308480"/>
            <a:ext cx="264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cos </a:t>
            </a:r>
            <a:r>
              <a:rPr b="1" i="1" lang="el-GR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α</a:t>
            </a:r>
            <a:r>
              <a:rPr b="1" i="1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= 15/17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709640" y="2392200"/>
            <a:ext cx="5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 вас ошибка! Вернитесь назад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3362400" y="3384720"/>
            <a:ext cx="181764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8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1109520" y="1868400"/>
            <a:ext cx="6688440" cy="17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мник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3506760" y="430848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Тогда сможем выполнить практическую работу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8062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йти несколькими способами площадь треугольника, лежащего в конверте №1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из перечисленных инструментов вам могут пригодиться: треугольник, транспортир, циркуль, измерительная линейка, палетка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3063960" y="2771640"/>
            <a:ext cx="2878200" cy="128916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" dur="3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" dur="3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дача 4 (№1023, стр. 26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йдите площадь прямоугольника, диагональ которого равна 10 см, а угол между диагоналями равен 30</a:t>
            </a:r>
            <a:r>
              <a:rPr b="0" lang="ru-RU" sz="3200" spc="-1" strike="noStrike" baseline="30000">
                <a:solidFill>
                  <a:srgbClr val="40458c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тветы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12,5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5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25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 вас ошибка! Вернитесь назад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3362400" y="3384720"/>
            <a:ext cx="1817640" cy="16714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7300800" y="2075040"/>
            <a:ext cx="392400" cy="392040"/>
          </a:xfrm>
          <a:custGeom>
            <a:avLst/>
            <a:gdLst>
              <a:gd name="textAreaLeft" fmla="*/ 25200 w 392400"/>
              <a:gd name="textAreaRight" fmla="*/ 367200 w 392400"/>
              <a:gd name="textAreaTop" fmla="*/ 25200 h 392040"/>
              <a:gd name="textAreaBottom" fmla="*/ 366840 h 39204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3" y="10800"/>
                </a:moveTo>
                <a:lnTo>
                  <a:pt x="17816" y="3794"/>
                </a:lnTo>
                <a:lnTo>
                  <a:pt x="17816" y="17806"/>
                </a:ln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8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1109520" y="1868400"/>
            <a:ext cx="6688440" cy="17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мник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3506760" y="430848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цените свою работу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5000" y="1658880"/>
            <a:ext cx="777240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 пять «+» - «отлично!!!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 четыре «+» - «хорошо!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И можно приступить к обдумыванию решения № 1059 (домашняя работа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 три «+» решите дополнительно №1020 в) и получишь «хорошо»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 два «+» решите №1020 а), б)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000"/>
                            </p:stCondLst>
                            <p:childTnLst>
                              <p:par>
                                <p:cTn id="5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Вернемся к практической работе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8062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зовите новый способ  нахождения площади треугольника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из перечисленных предметов вам могут пригодиться: треугольник, транспортир, измерительная линейка, палетка, циркуль, таблица Брадиса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3063960" y="2771640"/>
            <a:ext cx="2878200" cy="128916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103400" y="5502240"/>
            <a:ext cx="2394000" cy="144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727440" y="5486400"/>
            <a:ext cx="4673520" cy="144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4570560" y="5992560"/>
            <a:ext cx="3278160" cy="140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3" dur="3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300"/>
                            </p:stCondLst>
                            <p:childTnLst>
                              <p:par>
                                <p:cTn id="5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2" dur="3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Что необходимо знать для нахождения площади треугольника изученным способом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и решении каких задач можно использовать данную формулу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ту формулу можно использовать при доказательстве теоремы синусов, с которой мы познакомимся на следующем уроке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2940120" y="331920"/>
            <a:ext cx="29113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77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5" dur="770" fill="hold"/>
                                        <p:tgtEl>
                                          <p:spTgt spid="4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7" dur="77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иготовиться к конкурсу шпаргалок «Площадь треугольника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6040" indent="-53604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ешить задачи № 1020, 1059 (для всех) с учетом полученных отметок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6040" indent="-53604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 желанию подобрать две три задачи по данной теме для создания презентации на уроке информатики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440080" y="2147760"/>
            <a:ext cx="4924440" cy="211644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38080" y="4560480"/>
            <a:ext cx="777240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ужна помощь? Нажми </a:t>
            </a:r>
            <a:r>
              <a:rPr b="0" lang="ru-RU" sz="2800" spc="-1" strike="noStrike" u="sng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сюда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Обсудим способы выполнения работы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7720" y="3168720"/>
            <a:ext cx="77439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800" spc="-1" strike="noStrike" u="sng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Палетк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Используем формулы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2563920" y="898560"/>
            <a:ext cx="4924440" cy="211608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846520" y="4792680"/>
            <a:ext cx="3276360" cy="4762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41240" y="4595760"/>
            <a:ext cx="1101960" cy="8319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197000" y="5659560"/>
            <a:ext cx="2771640" cy="793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479920" y="5616720"/>
            <a:ext cx="1822680" cy="8046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853320" y="4606920"/>
            <a:ext cx="113328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Площадь одной клетки равна 1 см</a:t>
            </a:r>
            <a:r>
              <a:rPr b="1" lang="ru-RU" sz="2400" spc="-1" strike="noStrike" baseline="30000">
                <a:solidFill>
                  <a:srgbClr val="6600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2651040" y="2728800"/>
            <a:ext cx="5085000" cy="205740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028960" y="1162080"/>
          <a:ext cx="5754600" cy="5175360"/>
        </p:xfrm>
        <a:graphic>
          <a:graphicData uri="http://schemas.openxmlformats.org/drawingml/2006/table">
            <a:tbl>
              <a:tblPr/>
              <a:tblGrid>
                <a:gridCol w="576000"/>
                <a:gridCol w="574560"/>
                <a:gridCol w="576360"/>
                <a:gridCol w="574560"/>
                <a:gridCol w="576360"/>
                <a:gridCol w="574920"/>
                <a:gridCol w="574560"/>
                <a:gridCol w="576360"/>
                <a:gridCol w="574560"/>
                <a:gridCol w="576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274680" y="4424400"/>
            <a:ext cx="15447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660066"/>
                </a:solidFill>
                <a:latin typeface="Symbol"/>
                <a:ea typeface="Symbol"/>
              </a:rPr>
              <a:t></a:t>
            </a: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 1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8</a:t>
            </a: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см</a:t>
            </a:r>
            <a:r>
              <a:rPr b="1" lang="ru-RU" sz="2400" spc="-1" strike="noStrike" baseline="30000">
                <a:solidFill>
                  <a:srgbClr val="6600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бсудите в группе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добно ли пользоваться палеткой для вычисления площади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чем вы видите недостатки и достоинства данного способа, если таковые имеются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">
            <a:hlinkClick r:id="rId3" action="ppaction://hlinksldjump"/>
          </p:cNvPr>
          <p:cNvSpPr/>
          <p:nvPr/>
        </p:nvSpPr>
        <p:spPr>
          <a:xfrm>
            <a:off x="8447040" y="6124680"/>
            <a:ext cx="450720" cy="479160"/>
          </a:xfrm>
          <a:custGeom>
            <a:avLst/>
            <a:gdLst>
              <a:gd name="textAreaLeft" fmla="*/ 29160 w 450720"/>
              <a:gd name="textAreaRight" fmla="*/ 421560 w 450720"/>
              <a:gd name="textAreaTop" fmla="*/ 29160 h 479160"/>
              <a:gd name="textAreaBottom" fmla="*/ 450000 h 479160"/>
            </a:gdLst>
            <a:ahLst/>
            <a:rect l="textAreaLeft" t="textAreaTop" r="textAreaRight" b="textAreaBottom"/>
            <a:pathLst>
              <a:path w="21600" h="22962">
                <a:moveTo>
                  <a:pt x="0" y="0"/>
                </a:moveTo>
                <a:lnTo>
                  <a:pt x="21600" y="0"/>
                </a:lnTo>
                <a:lnTo>
                  <a:pt x="21600" y="22962"/>
                </a:lnTo>
                <a:lnTo>
                  <a:pt x="0" y="22962"/>
                </a:lnTo>
                <a:close/>
              </a:path>
              <a:path fill="lightenLess" w="21600" h="229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62">
                <a:moveTo>
                  <a:pt x="21600" y="0"/>
                </a:moveTo>
                <a:lnTo>
                  <a:pt x="21600" y="22962"/>
                </a:lnTo>
                <a:lnTo>
                  <a:pt x="20200" y="21562"/>
                </a:lnTo>
                <a:lnTo>
                  <a:pt x="20200" y="1400"/>
                </a:lnTo>
                <a:close/>
              </a:path>
              <a:path fill="darkenLess" w="21600" h="22962">
                <a:moveTo>
                  <a:pt x="21600" y="22962"/>
                </a:moveTo>
                <a:lnTo>
                  <a:pt x="0" y="22962"/>
                </a:lnTo>
                <a:lnTo>
                  <a:pt x="1400" y="21562"/>
                </a:lnTo>
                <a:lnTo>
                  <a:pt x="20200" y="21562"/>
                </a:lnTo>
                <a:close/>
              </a:path>
              <a:path fill="lighten" w="21600" h="22962">
                <a:moveTo>
                  <a:pt x="0" y="229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62"/>
                </a:lnTo>
                <a:close/>
              </a:path>
              <a:path fill="darken" w="21600" h="22962">
                <a:moveTo>
                  <a:pt x="3794" y="8174"/>
                </a:moveTo>
                <a:lnTo>
                  <a:pt x="7301" y="8174"/>
                </a:lnTo>
                <a:lnTo>
                  <a:pt x="7301" y="13509"/>
                </a:lnTo>
                <a:cubicBezTo>
                  <a:pt x="7301" y="14431"/>
                  <a:pt x="8102" y="15163"/>
                  <a:pt x="9138" y="15163"/>
                </a:cubicBezTo>
                <a:lnTo>
                  <a:pt x="10800" y="15163"/>
                </a:lnTo>
                <a:cubicBezTo>
                  <a:pt x="11836" y="15163"/>
                  <a:pt x="12636" y="14431"/>
                  <a:pt x="12636" y="13509"/>
                </a:cubicBezTo>
                <a:lnTo>
                  <a:pt x="12636" y="8174"/>
                </a:lnTo>
                <a:lnTo>
                  <a:pt x="10800" y="8174"/>
                </a:lnTo>
                <a:lnTo>
                  <a:pt x="14308" y="4666"/>
                </a:lnTo>
                <a:lnTo>
                  <a:pt x="17981" y="8174"/>
                </a:lnTo>
                <a:lnTo>
                  <a:pt x="16144" y="8174"/>
                </a:lnTo>
                <a:lnTo>
                  <a:pt x="16144" y="13509"/>
                </a:lnTo>
                <a:cubicBezTo>
                  <a:pt x="16144" y="16277"/>
                  <a:pt x="13568" y="18836"/>
                  <a:pt x="10800" y="18836"/>
                </a:cubicBezTo>
                <a:lnTo>
                  <a:pt x="9138" y="18836"/>
                </a:lnTo>
                <a:cubicBezTo>
                  <a:pt x="6370" y="18836"/>
                  <a:pt x="3794" y="16277"/>
                  <a:pt x="3794" y="13509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481560" y="5079960"/>
                <a:ext cx="1960560" cy="13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с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с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781200" y="5129280"/>
                <a:ext cx="21002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а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1969920" y="2100240"/>
            <a:ext cx="5737320" cy="213048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11800" y="2133720"/>
            <a:ext cx="0" cy="210492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74960" y="4238640"/>
            <a:ext cx="570384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79960" y="41958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52760" y="2989440"/>
            <a:ext cx="6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r>
              <a:rPr b="1" i="1" lang="ru-RU" sz="3200" spc="-1" strike="noStrike" baseline="-25000">
                <a:solidFill>
                  <a:srgbClr val="660066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930320" y="1393560"/>
            <a:ext cx="4529160" cy="2873160"/>
          </a:xfrm>
          <a:prstGeom prst="line">
            <a:avLst/>
          </a:prstGeom>
          <a:ln w="2844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5876640" y="1728720"/>
            <a:ext cx="1842840" cy="252576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45320" y="2305080"/>
            <a:ext cx="6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r>
              <a:rPr b="1" i="1" lang="ru-RU" sz="3200" spc="-1" strike="noStrike" baseline="-25000">
                <a:solidFill>
                  <a:srgbClr val="660066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44800" y="210492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116760" y="5051520"/>
                <a:ext cx="207324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45720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Используем формулу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76840" y="239760"/>
            <a:ext cx="1173240" cy="885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 flipH="1" flipV="1">
            <a:off x="4397400" y="1247760"/>
            <a:ext cx="3309840" cy="2976480"/>
          </a:xfrm>
          <a:prstGeom prst="line">
            <a:avLst/>
          </a:prstGeom>
          <a:ln w="38160">
            <a:solidFill>
              <a:srgbClr val="33cc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916280" y="1407600"/>
            <a:ext cx="2582640" cy="283068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18040" y="27846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40120" y="2173320"/>
            <a:ext cx="6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8T06:27:54Z</dcterms:created>
  <dc:creator>Неизвестный</dc:creator>
  <dc:description/>
  <dc:language>en-US</dc:language>
  <cp:lastModifiedBy>Квартира</cp:lastModifiedBy>
  <dcterms:modified xsi:type="dcterms:W3CDTF">2017-05-22T19:46:08Z</dcterms:modified>
  <cp:revision>24</cp:revision>
  <dc:subject/>
  <dc:title>Программа  построения графика функции по выбору</dc:title>
</cp:coreProperties>
</file>