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C3E-DE1C-44BF-8DBE-4D07EBDF02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EF9-A4D1-45CF-AC87-3B061ACBB28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A27-25AC-4C17-9C92-7D3E7AB9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47F-A876-46D9-88BF-2693D007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962-8DF8-4735-A066-B92A7FEE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482-753C-4A8F-9B2E-A636C183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C035-6D2C-487C-85CE-A2B19DC4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B4E-2206-41D2-A295-709407E8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B1B-A39D-4B0D-A612-A1C1DFB7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493-407E-4450-9D35-58CEF38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BC9-9490-446C-9F9A-DC1C5BC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8B3-396E-4F49-8CB1-4A40920B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8F2-E78D-4802-A886-69DF0B4B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0AB-4836-46D4-A185-1394A25B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BD7F-7C02-4A78-8ABB-7ABA7CF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C3E-084A-4172-9DE0-DC4DE994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AAFD-E59B-47D2-86F2-CCF32B0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AAB0-0EF6-4567-9BD5-B474F6FB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962-2608-4F59-8079-64D5985B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748-81A1-4724-8A8B-0DBE274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DDF-E878-4488-B52F-A2B4CC3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852-8E96-42F8-ADB0-C8E306DF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FAF-1517-4585-B6C8-AACCD97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B27-E930-4F8D-B5CC-8CDE3CA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EE4-6255-4C63-9F2D-9584A63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A35-0B8B-4F0D-9FC5-8A7919F1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4811-4DB9-44E0-B893-FECF6CBC72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3DE9-AE23-4F2E-9C76-80F5199A86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ий потенциал нравственных ценностей в эпоху социальных переме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ь - поведенческий ориентир личност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D:\Desktop\Кафедра педагогики на сайт 04062015\ae4df6f207a713a6340df4d2f71919d4.jpg"/>
          <p:cNvPicPr/>
          <p:nvPr/>
        </p:nvPicPr>
        <p:blipFill>
          <a:blip r:embed="rId1"/>
          <a:stretch/>
        </p:blipFill>
        <p:spPr>
          <a:xfrm>
            <a:off x="7486560" y="0"/>
            <a:ext cx="1683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благо, это то, что честно и полезно, все, чего требует от нас долг человека, гражданина, семьянина (В.И. Даль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му, кто не постиг науки добра, всякая другая наука приносит лишь вред (Аристотель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 есть то, что никем не может быть определено, но что определяет все остальное (Л.Н. Толстой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ыть добрым - это значит.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вели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нко чувствовать природу другого челове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овать каждый день подтверждения высокого звания «человек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ть гибки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ворить счастье, делая других счастливыми, и самому быть счастливы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лощать в реальной жизни нравственность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еть доброту и умножать ее и т.п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86600" y="8578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бр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я добро, будь благодарен за э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та для души - то же, что здоровье для тела: она незаметна, когда владеешь е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е сложное искусство - делать добро для конкретного человек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Ценности в образовании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–абсолютная ценност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емья – общество в миниатю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уд- основа человеческого быт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нания –результат разнообразного тру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ультура – богатство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ечество – уникальная для каждого человека Роди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– общий дом человече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р – согласие между людьми, народами, государствам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6300720" y="5661000"/>
            <a:ext cx="2678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хема 2" descr=""/>
          <p:cNvPicPr/>
          <p:nvPr/>
        </p:nvPicPr>
        <p:blipFill>
          <a:blip r:embed="rId1"/>
          <a:stretch/>
        </p:blipFill>
        <p:spPr>
          <a:xfrm>
            <a:off x="-1500120" y="1127160"/>
            <a:ext cx="11760120" cy="5810040"/>
          </a:xfrm>
          <a:prstGeom prst="rect">
            <a:avLst/>
          </a:prstGeom>
          <a:ln w="0">
            <a:noFill/>
          </a:ln>
        </p:spPr>
      </p:pic>
      <p:pic>
        <p:nvPicPr>
          <p:cNvPr id="138" name="Заголовок 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ъявление ценностей воспитаннику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ознание ценностных ориентаций личностью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нятие ценностной ориентац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изация ценностных ориентаций в деятельности и поведен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236000" y="5157720"/>
            <a:ext cx="14461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икл формирования ценносте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крепление ценностной ориентации в направленности личности и перевод ее в статус качества личности, т.е. в своего рода потенциальное состояни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туализация потенциальной ценностной ориентации, заключающейся в качествах лич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4" descr="D:\Desktop\Кафедра педагогики на сайт 04062015\19101931_yarsma.jpg"/>
          <p:cNvPicPr/>
          <p:nvPr/>
        </p:nvPicPr>
        <p:blipFill>
          <a:blip r:embed="rId1"/>
          <a:stretch/>
        </p:blipFill>
        <p:spPr>
          <a:xfrm>
            <a:off x="7308720" y="5373720"/>
            <a:ext cx="15145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Процесс формирования нравственного созн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) установка на восприятие информации и определение ее личностной ценности и значимост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) аналитико-синтетическое преобразование информаци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) избрание вариантов программ для действий лич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164360" y="537372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66"/>
                </a:solidFill>
                <a:latin typeface="Arial"/>
              </a:rPr>
              <a:t>Становление нравственного пове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752480"/>
            <a:ext cx="782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жизненная ситуац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эмоционально-чувственное переживание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ыбор и принятие решения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левой стимул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поступо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D:\Desktop\Кафедра педагогики на сайт 04062015\ekskursiya.png"/>
          <p:cNvPicPr/>
          <p:nvPr/>
        </p:nvPicPr>
        <p:blipFill>
          <a:blip r:embed="rId1"/>
          <a:stretch/>
        </p:blipFill>
        <p:spPr>
          <a:xfrm>
            <a:off x="7236000" y="5229360"/>
            <a:ext cx="160020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чины, тормозящие развитие аксиологических основ личности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91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гнитивный диссонанс, возникающий в ответ на противоречие между имеющимися и предлагае- мыми знаниями и представлениям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щитные механизмы, как бы «оберегающие» личность от некорректного вмешательства, навязывания позиций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итуационные факторы; отсутствие ценностного стержня лич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адекватное определение ценностных ориентац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D:\Desktop\Кафедра педагогики на сайт 04062015\questions-to-a-lawyer.jpg"/>
          <p:cNvPicPr/>
          <p:nvPr/>
        </p:nvPicPr>
        <p:blipFill>
          <a:blip r:embed="rId1"/>
          <a:stretch/>
        </p:blipFill>
        <p:spPr>
          <a:xfrm>
            <a:off x="7956720" y="5661000"/>
            <a:ext cx="107136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93800" y="79416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Социальные переме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214720"/>
            <a:ext cx="8572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нение способа организации обществ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емены в экономике,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социальной структуре или моделях социального взаимодействия;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изменении культурных моделей: новые области знаний, новые верования, ценности, выразительные средства искусства 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распределении социальных вознаграждени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циальные институты обретают новые формы, и их связь друг с другом быстро меняетс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63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вободное развитие позитивно значи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убокое осмысление осознаваемой ценностной ориент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рокое соотнесение ценностной ориентации с системой ценност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нос значимых ценностных ориентаций на различные жизненные ситу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724360" y="5589720"/>
            <a:ext cx="33274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овия формирования нравственных ценносте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стоятельный поиск новых личностно привлекательных ценносте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аксиологических тенденций в образова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механизмов перевода личности из состояния «Я» реальное в «Я» идеальное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4572000" y="5334120"/>
            <a:ext cx="39038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овременный национальный воспитательный идеа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2600" y="2361960"/>
            <a:ext cx="8286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то высоконравственный, творческий, компетентный гражданин России, принимающий судьбу Отечества как свою личную, осознающий ответственность за настоящее и будущее своей страны, укорененный в духовных и культурных традициях многонационального народа Российской Федер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D:\Desktop\Кафедра педагогики на сайт 04062015\711bddf994.jpg"/>
          <p:cNvPicPr/>
          <p:nvPr/>
        </p:nvPicPr>
        <p:blipFill>
          <a:blip r:embed="rId1"/>
          <a:stretch/>
        </p:blipFill>
        <p:spPr>
          <a:xfrm>
            <a:off x="7164360" y="5300640"/>
            <a:ext cx="13921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нквей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б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заметное, хруп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величивает, чувствует, определя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ает человека сильным и свободны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D:\Desktop\Кафедра педагогики на сайт 04062015\74407797_large_231896543_vectorized.png"/>
          <p:cNvPicPr/>
          <p:nvPr/>
        </p:nvPicPr>
        <p:blipFill>
          <a:blip r:embed="rId1"/>
          <a:stretch/>
        </p:blipFill>
        <p:spPr>
          <a:xfrm>
            <a:off x="6524640" y="0"/>
            <a:ext cx="2619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равственное воспит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процесс формирования ценностных ориентаций как важнейших элементов внутренней структуры личнос- ти, которые, выражаясь в установках, свойствах и качествах, определяют отно- шение человека к обществу, природе, другим людям, самому себ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7786800" y="4572000"/>
          <a:ext cx="9921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6800" y="4572000"/>
                    <a:ext cx="9921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Ценности личност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нутренний, эмоционально освоенный регулятор деятельности, определяющий отношение к окружающему миру и к себе и моделирующий содержание и характер выполняемой им деятельност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D:\Desktop\Кафедра педагогики на сайт 04062015\zdjecie-1272.jpg"/>
          <p:cNvPicPr/>
          <p:nvPr/>
        </p:nvPicPr>
        <p:blipFill>
          <a:blip r:embed="rId1"/>
          <a:stretch/>
        </p:blipFill>
        <p:spPr>
          <a:xfrm>
            <a:off x="7308720" y="4869000"/>
            <a:ext cx="1416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нности, три подсистем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огни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ценностные представления чело- века (знания, мировоззрение, представление о своей жизни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эмотивн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относительно устойчивые чувства человека к объектам, выражающиеся в эмоцио- нальной оценке (эмоционально-ценностные отношения к миру, своим связям, чувствам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веденческа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предрасположенность к тому или иному типу социального повед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ловек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ъект, уникальность, позволяющая быть универсальным критерием и исчерпывающей мерой жизнедеятельности общества и индивид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2987640" y="4959360"/>
            <a:ext cx="45846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вобод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стояние души человека обеспечивает ему естественное и потому наиболее органичное и полное самовыраж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л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вокупность общественных тре- бований к поведению, которые, будучи принятыми человеком, становятся обязанностью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464080" y="5599080"/>
            <a:ext cx="34704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равственные ценнос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ест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сознание и чувство моральной ответственности за свои поступки не перед обществом, а перед своим "я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сот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ак характеристика эстетических и этических явлений, гармония формы и содерж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D:\Desktop\Кафедра педагогики на сайт 04062015\pedsostav_main_14313992463.jpg"/>
          <p:cNvPicPr/>
          <p:nvPr/>
        </p:nvPicPr>
        <p:blipFill>
          <a:blip r:embed="rId1"/>
          <a:stretch/>
        </p:blipFill>
        <p:spPr>
          <a:xfrm>
            <a:off x="5508720" y="5300640"/>
            <a:ext cx="276048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ухов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собое внутренне состояние, гармония умственных и нравственных сил человек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20:16:10Z</dcterms:created>
  <dc:creator>xxx</dc:creator>
  <dc:description/>
  <dc:language>en-US</dc:language>
  <cp:lastModifiedBy>Slushatel</cp:lastModifiedBy>
  <dcterms:modified xsi:type="dcterms:W3CDTF">2017-04-12T09:48:19Z</dcterms:modified>
  <cp:revision>31</cp:revision>
  <dc:subject/>
  <dc:title>Аксиологические основы формирования нравственных  ценностей школьников</dc:title>
</cp:coreProperties>
</file>