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38DB-5448-4883-B42C-7AE86D1F2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CF09-A8F9-42FF-B0BE-FB0B6EE07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CD7C-E317-46B9-BA1E-BC0F7C44B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664A-5AE2-42D4-9E9F-0F363851B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FA3DD-FA9E-4F51-940D-46301B419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2A500-8698-4A65-A4F6-6053F436C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D3A30-7224-4777-952E-350F144DB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A6B42-79E1-4567-A0ED-E7C8661CE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83620-8250-4725-B43D-C33AB10B3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F3748-EACD-4BE7-AAD4-48D4BE535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CD203-E772-46BF-91AD-F4A4C34D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0592-0E5F-4854-8529-C1F1F9D2B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697F8-06D8-4F23-AE92-67DAA4BF1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11E75-B64D-4E5F-A9A7-2780D4E6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163BE-7C50-49B6-9A8C-C4EA3B7DB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CE9D3-917D-401C-BB48-F20BC5133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F37CA-0087-430F-A768-BFD193225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C889-66B2-4B0C-B8DB-B947C3712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33C5-06F4-4897-B518-3634DB1F8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70E2-3D94-4601-B18E-B5C29A4D9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A6EE-C299-4310-B845-E38859246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D0F6-5E12-4D85-82A6-AE48FEE9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BD94-7D65-44E3-A12E-E339B3CD2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0009-E94C-4B43-8BE5-35551EBB6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40177-D836-43CB-9023-F45D29D0E00C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429EE-95D6-4E47-B681-0D81F106E6E8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848720" cy="633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Управление качеством образования в образовательной организации </a:t>
            </a:r>
            <a:br>
              <a:rPr sz="3600"/>
            </a:b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на основе диагностико – технологического подхода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валева С. С.,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. директора по УВР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Супоневская средняя общеобразовательная школа № 1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и Героя Советского Союза Н. И. Чувина» Брянского района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EEBAB-0B8E-4145-8BC5-6EC8EFFCE691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Picture 9" descr="Изображение 007"/>
          <p:cNvPicPr/>
          <p:nvPr/>
        </p:nvPicPr>
        <p:blipFill>
          <a:blip r:embed="rId1"/>
          <a:stretch/>
        </p:blipFill>
        <p:spPr>
          <a:xfrm>
            <a:off x="1889280" y="2852640"/>
            <a:ext cx="5340240" cy="529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5 класс</a:t>
            </a:r>
            <a:r>
              <a:rPr b="0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: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ный контроль (русский язык, математика, история, география, т. к. в 4 классе – ВПР по окружающему миру) – внутрен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Р  (по русскому языку, математике, истории, биологии) - внеш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овая промежуточная аттестация  - внутренняя оценка  + экзамен (по литературе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ные + метапредметные результаты (защита проекта  - февральская сессия) + личностны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132B8-0C2B-4056-B0E7-92246F1DDE48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Picture 8" descr="https://www.youcubed.org/wp-content/uploads/2017/03/common_core_math.jpg"/>
          <p:cNvPicPr/>
          <p:nvPr/>
        </p:nvPicPr>
        <p:blipFill>
          <a:blip r:embed="rId1"/>
          <a:stretch/>
        </p:blipFill>
        <p:spPr>
          <a:xfrm>
            <a:off x="108000" y="115920"/>
            <a:ext cx="34164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D4025-0A79-4587-B63B-1C10708A1640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Таблица 5" descr=""/>
          <p:cNvPicPr/>
          <p:nvPr/>
        </p:nvPicPr>
        <p:blipFill>
          <a:blip r:embed="rId1"/>
          <a:stretch/>
        </p:blipFill>
        <p:spPr>
          <a:xfrm>
            <a:off x="536400" y="2157480"/>
            <a:ext cx="7778880" cy="372564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000" y="415440"/>
            <a:ext cx="849636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Супоневская СОШ № 1 имени Героя Советского Союза Н. И. Чувина» Брянского района за 20__ -  20 ___ учебный год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т достижений обучающегося  4 «А» класса за Ι четверть по предметным результатам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предмет      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КА</a:t>
            </a:r>
            <a:endParaRPr b="0" lang="en-US" sz="1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77BE3-0EC4-4DCA-94C5-766A23F72933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000" y="415440"/>
            <a:ext cx="849636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Супоневская СОШ № 1 имени Героя Советского Союза Н. И. Чувина» Брянского района за 20__ -  20 ___ учебный год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т достижений учащегося  7  класса за Ι четверть по предметным результатам (Лист 1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предмет      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А</a:t>
            </a:r>
            <a:endParaRPr b="0" lang="en-US" sz="1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8" name="Таблица 6" descr=""/>
          <p:cNvPicPr/>
          <p:nvPr/>
        </p:nvPicPr>
        <p:blipFill>
          <a:blip r:embed="rId1"/>
          <a:stretch/>
        </p:blipFill>
        <p:spPr>
          <a:xfrm>
            <a:off x="249120" y="2030400"/>
            <a:ext cx="8570880" cy="42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11 класс: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ный контроль (русский язык, математика) – внутрен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зовые работы / пробные экзамены (по материалам БЦОКО) – внутренняя / внеш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Р  - внеш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овая промежуточная аттестация - внутрен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ая итоговая аттестация - внеш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FF926-2AA3-4D0D-9201-35D81E0F979B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6" descr="https://duelit.ru/wp-content/uploads/2014/06/shkola.jpg"/>
          <p:cNvPicPr/>
          <p:nvPr/>
        </p:nvPicPr>
        <p:blipFill>
          <a:blip r:embed="rId1"/>
          <a:stretch/>
        </p:blipFill>
        <p:spPr>
          <a:xfrm>
            <a:off x="179280" y="200160"/>
            <a:ext cx="2468520" cy="16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8425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истема управления качеством образования на разных уровнях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28B64-65B0-4759-AB09-7A015298BDC4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79280" y="1446120"/>
          <a:ext cx="8858520" cy="5429520"/>
        </p:xfrm>
        <a:graphic>
          <a:graphicData uri="http://schemas.openxmlformats.org/drawingml/2006/table">
            <a:tbl>
              <a:tblPr/>
              <a:tblGrid>
                <a:gridCol w="1771920"/>
                <a:gridCol w="1771560"/>
                <a:gridCol w="1771560"/>
                <a:gridCol w="1771560"/>
                <a:gridCol w="1771920"/>
              </a:tblGrid>
              <a:tr h="381240">
                <a:tc>
                  <a:txBody>
                    <a:bodyPr lIns="34200" rIns="34200" tIns="34200" bIns="342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министра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ный руководит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ающий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ит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48280">
                <a:tc>
                  <a:txBody>
                    <a:bodyPr lIns="34200" rIns="34200" tIns="34200" bIns="34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Создание условий для повышения качества образования для обучающихся и педагог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Определение методик, форм, критериев, показателей и процедур оценки результативности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Обеспечение эффективного социального партнерств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Создание эффективной информационной систем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Систематическое изучение образовательного спроса обучающихся, родителей, общественности по качеству образова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Обеспечение условий развития личности обучающегося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Проведение оценки результативности  по установленной циклограмме и технологии мониторинг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Обработка результатов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Оформление ЛИСТОВ ДОСТИЖЕНИЙ по предметным результатам. 5. Педагогическая рефлексия и взаимооценка колле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Обеспечение взаимодействия учителей-предметников, обучающихся, родителей по проведению мониторинга   классного коллектив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Обработка данных мониторинга уровня обучаемости обучающихся класс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Оформление ЛИСТОВ ДОСТИЖЕНИЙ по метапредметным, личностным результатам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Индивидуальная работа с родителями по выполнению различных рекомендаций учителей-предметников и специалист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Стремление к самопознанию, самовоспитанию, саморазвитию, самореализации, самопрезентаци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Овладение ключевыми компетентностями и культурой умственного труд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Накопление достижений ( в том числе и для формирования портфолио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4200" rIns="34200" tIns="34200" bIns="342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Создание условий в семье, обеспечивающих физическое, нравственное и интеллектуальное развитие личности ребенк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Обеспечение систематического контроля за результатами обучения ребенк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Исполнение рекомендаций учителей, классного руководителя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68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Участие в соуправлении школо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4200" marR="34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92920" cy="65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ные результаты УВР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38863-2F46-4BED-A362-D8EAF5FF93E1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755640" y="1052640"/>
          <a:ext cx="7704000" cy="5697360"/>
        </p:xfrm>
        <a:graphic>
          <a:graphicData uri="http://schemas.openxmlformats.org/drawingml/2006/table">
            <a:tbl>
              <a:tblPr/>
              <a:tblGrid>
                <a:gridCol w="2573280"/>
                <a:gridCol w="1709640"/>
                <a:gridCol w="1711440"/>
                <a:gridCol w="1709640"/>
              </a:tblGrid>
              <a:tr h="884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5/2016 уч.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6/2017 уч.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7/2018 уч.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чество зн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,4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5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,6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512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ен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511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лотая меда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513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бряная меда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263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ые олимпиады (муниц. этап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побе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 призер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побе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 призер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побе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 призер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1311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ые олимпиады (регион. этап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ризе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ризе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A5662-5547-45FA-BA5F-C070D0C2ADEB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00000" y="476280"/>
            <a:ext cx="7793280" cy="65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зультаты ЕГЭ -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тематик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68360" y="1341360"/>
          <a:ext cx="8280360" cy="5332320"/>
        </p:xfrm>
        <a:graphic>
          <a:graphicData uri="http://schemas.openxmlformats.org/drawingml/2006/table">
            <a:tbl>
              <a:tblPr/>
              <a:tblGrid>
                <a:gridCol w="1289160"/>
                <a:gridCol w="712800"/>
                <a:gridCol w="838080"/>
                <a:gridCol w="725400"/>
                <a:gridCol w="785880"/>
                <a:gridCol w="665280"/>
                <a:gridCol w="1087200"/>
                <a:gridCol w="1087560"/>
                <a:gridCol w="1089000"/>
              </a:tblGrid>
              <a:tr h="7304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.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-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балл / отмет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м. кол-во баллов (порог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бал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успеваем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по район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по обла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762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-2016 (профильный уровен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(35,7 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852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-2016 (базовый уровен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0 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(из 2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ч-во знаний – 9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639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6-2017 (профильный уровен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(50 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065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6-2017 (базовый уровен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0 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(из 2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ч-во знаний – 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639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-2018 (профильный уровен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(79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852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-2018 (базовый уровен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 (93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(из 2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ч-во знаний – 9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86169-E633-4AF6-B645-E1117DC8F502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00000" y="476280"/>
            <a:ext cx="7793280" cy="65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зультаты ЕГЭ –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сский язык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324000" y="1773360"/>
          <a:ext cx="8496000" cy="2952720"/>
        </p:xfrm>
        <a:graphic>
          <a:graphicData uri="http://schemas.openxmlformats.org/drawingml/2006/table">
            <a:tbl>
              <a:tblPr/>
              <a:tblGrid>
                <a:gridCol w="1222200"/>
                <a:gridCol w="676440"/>
                <a:gridCol w="1071360"/>
                <a:gridCol w="1212840"/>
                <a:gridCol w="496800"/>
                <a:gridCol w="505080"/>
                <a:gridCol w="1150920"/>
                <a:gridCol w="993600"/>
                <a:gridCol w="1166760"/>
              </a:tblGrid>
              <a:tr h="6656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.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-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б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м. кол-во баллов (порог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б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успеваем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по район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по обла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731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-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7318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6-2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82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7-20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Номер слайда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D1569-70CA-443E-ACE3-7BE219B4FC31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047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сем  коллегам 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желаю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едагогических успехов и удачи!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омер слайда 6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DA249-A5C3-4348-8B41-A9D49FF69321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356000" y="1988640"/>
            <a:ext cx="3810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337644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Прямоугольник 2"/>
          <p:cNvSpPr/>
          <p:nvPr/>
        </p:nvSpPr>
        <p:spPr>
          <a:xfrm>
            <a:off x="6589800" y="2720880"/>
            <a:ext cx="25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ветител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Прямоугольник 11"/>
          <p:cNvSpPr/>
          <p:nvPr/>
        </p:nvSpPr>
        <p:spPr>
          <a:xfrm>
            <a:off x="4581360" y="105264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н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Прямоугольник 12"/>
          <p:cNvSpPr/>
          <p:nvPr/>
        </p:nvSpPr>
        <p:spPr>
          <a:xfrm>
            <a:off x="1187280" y="4511520"/>
            <a:ext cx="3030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ель педагогического процесс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Прямоугольник 13"/>
          <p:cNvSpPr/>
          <p:nvPr/>
        </p:nvSpPr>
        <p:spPr>
          <a:xfrm>
            <a:off x="5003640" y="4048200"/>
            <a:ext cx="3892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ый участник общени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обучающимися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х родителями, учителям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Прямоугольник 14"/>
          <p:cNvSpPr/>
          <p:nvPr/>
        </p:nvSpPr>
        <p:spPr>
          <a:xfrm>
            <a:off x="361800" y="2727360"/>
            <a:ext cx="2567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тор деятельности обучающихс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Прямоугольник 15"/>
          <p:cNvSpPr/>
          <p:nvPr/>
        </p:nvSpPr>
        <p:spPr>
          <a:xfrm>
            <a:off x="395280" y="190188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Прямоугольник 16"/>
          <p:cNvSpPr/>
          <p:nvPr/>
        </p:nvSpPr>
        <p:spPr>
          <a:xfrm>
            <a:off x="1760400" y="917640"/>
            <a:ext cx="281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Picture 14" descr=""/>
          <p:cNvPicPr/>
          <p:nvPr/>
        </p:nvPicPr>
        <p:blipFill>
          <a:blip r:embed="rId1"/>
          <a:stretch/>
        </p:blipFill>
        <p:spPr>
          <a:xfrm>
            <a:off x="0" y="25895160"/>
            <a:ext cx="5856120" cy="32893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5" descr="C:\Users\User\Desktop\Бобкова - Учитель года\DSC02799.JPG"/>
          <p:cNvPicPr/>
          <p:nvPr/>
        </p:nvPicPr>
        <p:blipFill>
          <a:blip r:embed="rId2"/>
          <a:stretch/>
        </p:blipFill>
        <p:spPr>
          <a:xfrm>
            <a:off x="2905200" y="1979640"/>
            <a:ext cx="3684600" cy="20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D0256-9B45-4C90-BECD-3A51C31C412E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Picture 2" descr="https://bigslide.ru/images/2/1208/831/img2.jpg"/>
          <p:cNvPicPr/>
          <p:nvPr/>
        </p:nvPicPr>
        <p:blipFill>
          <a:blip r:embed="rId1"/>
          <a:stretch/>
        </p:blipFill>
        <p:spPr>
          <a:xfrm>
            <a:off x="395280" y="209520"/>
            <a:ext cx="8501040" cy="63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72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нутренняя оценка:</a:t>
            </a:r>
            <a:r>
              <a:rPr b="1" i="1" lang="ru-RU" sz="5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55640" y="1844640"/>
            <a:ext cx="8128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ный контроль (предварительный контроль,   стартовая диагностика)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ущая и тематическая оценка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школьный мониторинг индивидуальных образовательных достижений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овая промежуточная аттестация обучающихся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тфолио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E63BC-01C2-4865-90A7-707009AEBAE9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10" descr="https://c.pxhere.com/photos/95/40/still_life_school_retro_ink-1070694.jpg!d"/>
          <p:cNvPicPr/>
          <p:nvPr/>
        </p:nvPicPr>
        <p:blipFill>
          <a:blip r:embed="rId1"/>
          <a:stretch/>
        </p:blipFill>
        <p:spPr>
          <a:xfrm>
            <a:off x="5724360" y="4797360"/>
            <a:ext cx="316728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042920" y="2017800"/>
            <a:ext cx="791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ая итоговая аттестация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ависимая оценка качества образования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иторинговые исследования муниципального, регионального и федерального уровне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B1FB2-87D0-4439-908A-6BA1E8EF6F81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72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нешняя оценка:</a:t>
            </a:r>
            <a:r>
              <a:rPr b="1" i="1" lang="ru-RU" sz="5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157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Единая система качества образования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5640" y="2017800"/>
            <a:ext cx="8199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А – 9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А –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 (Национальные исследования качества образования по учебному предмету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Р (Всероссийские проверочные работы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народные исследования качества образова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ние профессиональных компетенций учителе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C90A7-5EC9-408D-9034-E114F7C9597B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47280" y="259920"/>
            <a:ext cx="7396200" cy="18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Анализ работы по ФГОС НОО 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(ФГОС ООО) в ___ классе за 20__- 20__ учебный год </a:t>
            </a:r>
            <a:br>
              <a:rPr sz="2800"/>
            </a:b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ФИО учителя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486640" cy="40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результаты вводного контроля - внутренняя оценка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результаты внутришкольного мониторинга индивидуальных образовательных достижений – внутренняя оценка (в соответствии с планом ВШК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результаты ВПР – внешняя оценка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результаты НИКО - внешняя оценка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результаты годовой промежуточной аттестации обучающихся по каждому учебному предмету – внутренняя оценка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результаты государственной итоговой аттестации - внешняя оценка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D3DBA-FF90-42EC-9603-08CDDAEADE4C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Picture 6" descr="https://okru.ru/files/images/20150201/1423070417_u3.jpg"/>
          <p:cNvPicPr/>
          <p:nvPr/>
        </p:nvPicPr>
        <p:blipFill>
          <a:blip r:embed="rId1"/>
          <a:stretch/>
        </p:blipFill>
        <p:spPr>
          <a:xfrm>
            <a:off x="108000" y="260280"/>
            <a:ext cx="194292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2, 3 классы: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4360" y="2017800"/>
            <a:ext cx="827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ный контроль (русский язык, математика) – внутренняя оценка)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овая промежуточная аттестация (по каждому учебному предмету + итоговая комплексная работа на межпредметной основе (русский язык, литературное чтение, математика, окружающий мир)) - внутренняя оценка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леживание предметных + метапредметных + личностных результат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A7904-552B-4461-8EB7-3382E0E37D03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Picture 6" descr="http://images.tildacdn.info/ccc5032d-76ee-43d5-b06c-2602f500eda0/1291236603_1981.jpg"/>
          <p:cNvPicPr/>
          <p:nvPr/>
        </p:nvPicPr>
        <p:blipFill>
          <a:blip r:embed="rId1"/>
          <a:stretch/>
        </p:blipFill>
        <p:spPr>
          <a:xfrm>
            <a:off x="179280" y="115920"/>
            <a:ext cx="24004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4 класс</a:t>
            </a:r>
            <a:r>
              <a:rPr b="0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: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55640" y="2276640"/>
            <a:ext cx="8199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ный контроль (русский язык, математика) – внутренняя оценк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Р - внеш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овая промежуточная аттестация  - внутренняя оцен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ные + метапредметные результаты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защита проектов) + личностны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Номер слайда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88235-5909-49BB-A0FA-EF2A680EDEB2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6" descr="http://images.tildacdn.info/ccc5032d-76ee-43d5-b06c-2602f500eda0/1291236603_1981.jpg"/>
          <p:cNvPicPr/>
          <p:nvPr/>
        </p:nvPicPr>
        <p:blipFill>
          <a:blip r:embed="rId1"/>
          <a:stretch/>
        </p:blipFill>
        <p:spPr>
          <a:xfrm>
            <a:off x="179280" y="115920"/>
            <a:ext cx="24004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4T08:11:03Z</dcterms:created>
  <dc:creator>проектор</dc:creator>
  <dc:description/>
  <dc:language>en-US</dc:language>
  <cp:lastModifiedBy>Пользователь Windows</cp:lastModifiedBy>
  <dcterms:modified xsi:type="dcterms:W3CDTF">2018-11-14T21:35:24Z</dcterms:modified>
  <cp:revision>57</cp:revision>
  <dc:subject/>
  <dc:title>Тема: «Ф. Абрамов «О чём плачут лошади»</dc:title>
</cp:coreProperties>
</file>