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3C5-83B5-480B-8AC3-09975572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FBFD-1266-47D2-BA77-94C3D44C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1774-E753-41E7-8272-52F6FEBD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76D3-B824-4CB3-BD1A-63BCCE28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AC7E1-0B8F-45EB-9D6A-E1D64627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962FE-8005-494A-890D-8673390E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6C2E2-7247-4743-81BA-EFF05742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0AE49-39CE-4309-9AAC-F281F83E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235D9-40C4-49F5-B544-589AADB6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2A9B3-916C-442D-BC3E-347B7C77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BEFCD-4423-4B66-A756-1B67EB30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7365-746C-4113-B98B-357E04D3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0D368-984B-4518-84B4-237182AA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48F16-906B-4DD6-97E4-B8C6D8BB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38D20-37A9-4EFD-BD4D-4FEAE98E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1996F-86EE-46E5-9180-C6D3B2F6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8B380-B85A-486C-B4A7-B6501BF4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99F66-7A48-4618-B0D8-9BCF36B0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33ECC-312A-4F79-B6AA-96702E4C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29697-AAE8-495D-9A17-F960EB3A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074A2-F1E3-4D87-83A2-C3A4A08B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7A6B6-916E-4A69-A6A7-EAEBDC00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A2E0-7006-4039-A38C-85B6CE6A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888F4-955D-47FF-8553-EF7383E4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FB453-61C8-456B-A781-51508004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E1715-F21C-4C42-B9F2-8D1CD824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91591-FA00-4660-A3EE-298B25C5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895E7-7644-4FE9-9333-5CBBD7DE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DCC1D-5C38-4481-BA45-EF8AD744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BE71F-F4E9-4C22-8102-4792DE64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B3E-242C-4A2F-AF0D-B724E7CC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ACB-5B8C-42AC-AF37-74FAC166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315A-EC07-4583-8BFF-F90A0F44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CEBC-4FFC-4F66-82A1-79D9C175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B52A-CBEA-490C-8E5B-137B6618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03A9-8107-4FA9-B2C0-CE4EA91C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F6A0-34EC-4316-A4F1-7D986CC916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DB29-481E-47B6-82EF-0410486FF9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B353-4B46-49BE-8C6F-29BD7A0AF0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онкурс программисто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имена правильны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z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y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Qu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AB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B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лько раз выполнится цик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коррек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5" descr="214"/>
          <p:cNvPicPr/>
          <p:nvPr/>
        </p:nvPicPr>
        <p:blipFill>
          <a:blip r:embed="rId3"/>
          <a:stretch/>
        </p:blipFill>
        <p:spPr>
          <a:xfrm>
            <a:off x="1476360" y="5013360"/>
            <a:ext cx="1943280" cy="1176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214"/>
          <p:cNvPicPr/>
          <p:nvPr/>
        </p:nvPicPr>
        <p:blipFill>
          <a:blip r:embed="rId4"/>
          <a:stretch/>
        </p:blipFill>
        <p:spPr>
          <a:xfrm>
            <a:off x="3780000" y="5445000"/>
            <a:ext cx="129672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1. Решить квадратное уравн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и исправить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ura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c: integer; 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ln(a,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=0 then if c=0 then writeln(‘x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 else writeln(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c=0 then writeln(‘x=0’) else writeln(‘x1=’,-sqrt(c/a),’x2=’,sqrt(c/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2. Определить наименьшую цифру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minimi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min,z,a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ln(a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&gt;1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:=a mod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z&lt;min then min:=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=a div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ln(z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ить реверс элементов одномерного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re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a:array[1..10] of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readln(a[i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a[10+1-i]:=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write(a[i]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разработч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1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ичное число, введенное пользователем преобразовать в десятичн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какие различные числа входят в цел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2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, представленное в шестнадцатеричной системе счисления, перевести в десятичную систему 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есть ли в целом числе две подряд идущие одинаковые цифры и ка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болельщ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йте ответы на следующи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году был разработан язык Паска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дения об окружающем мире и о нас сам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действий, которая приводит к решению поставленной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ая единица хран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кратное повторение одних и тех же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аш класс приходит новый ученик по фамилии Афанасенко. Вы справшиваете учителя, кто это: девочка или мальчик. Какое количество информации содержит ответ учи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209"/>
          <p:cNvPicPr/>
          <p:nvPr/>
        </p:nvPicPr>
        <p:blipFill>
          <a:blip r:embed="rId1"/>
          <a:stretch/>
        </p:blipFill>
        <p:spPr>
          <a:xfrm>
            <a:off x="1762200" y="3500280"/>
            <a:ext cx="2592360" cy="1795680"/>
          </a:xfrm>
          <a:prstGeom prst="rect">
            <a:avLst/>
          </a:prstGeom>
          <a:ln w="0">
            <a:noFill/>
          </a:ln>
        </p:spPr>
      </p:pic>
      <p:sp>
        <p:nvSpPr>
          <p:cNvPr id="163" name="WordArt 5"/>
          <p:cNvSpPr txBox="1"/>
          <p:nvPr/>
        </p:nvSpPr>
        <p:spPr>
          <a:xfrm rot="21144600">
            <a:off x="324000" y="141264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7d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борочный тур</a:t>
            </a:r>
            <a:endParaRPr b="1" lang="en-US" sz="1800" spc="1" strike="noStrike">
              <a:ln w="25560">
                <a:solidFill>
                  <a:srgbClr val="00007d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Picture 7" descr="i1"/>
          <p:cNvPicPr/>
          <p:nvPr/>
        </p:nvPicPr>
        <p:blipFill>
          <a:blip r:embed="rId2"/>
          <a:stretch/>
        </p:blipFill>
        <p:spPr>
          <a:xfrm>
            <a:off x="6443640" y="2924280"/>
            <a:ext cx="1716120" cy="20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5"/>
          <p:cNvSpPr txBox="1"/>
          <p:nvPr/>
        </p:nvSpPr>
        <p:spPr>
          <a:xfrm>
            <a:off x="250920" y="1484280"/>
            <a:ext cx="756108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н всегда имел запас калькуляторо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3924360" y="1700280"/>
            <a:ext cx="1704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с ка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Найдите знакомые термины в следующих фраз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042920" y="2708280"/>
            <a:ext cx="64915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приказу директо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ы шка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еставили в уго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2844720" y="3467160"/>
            <a:ext cx="237492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84360" y="692280"/>
            <a:ext cx="78483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  В коробке лежат 5 карандашей: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 сини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 крас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Сколько карандашей надо взять из коробки, не заглядывая в неё, чтобы среди них был хотя б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дин красны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каранда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Отгадайте ан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95280" y="3500280"/>
            <a:ext cx="7705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лодая наука, рожденная компьюте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1187280" y="5084640"/>
            <a:ext cx="619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К  +  УМ  +  НЕ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57200" y="457200"/>
            <a:ext cx="757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ства взаимодействия программы и пользов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1042920" y="2060640"/>
            <a:ext cx="6191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ЙФ  +  РЕ  +  Н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748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мпьютерное зазерка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лговременный склероз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Оперативная памя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кальный 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Глобальная се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цовский бл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Материнская пла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оптимиза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Picture 14" descr="218"/>
          <p:cNvPicPr/>
          <p:nvPr/>
        </p:nvPicPr>
        <p:blipFill>
          <a:blip r:embed="rId3"/>
          <a:stretch/>
        </p:blipFill>
        <p:spPr>
          <a:xfrm>
            <a:off x="2411280" y="3645000"/>
            <a:ext cx="1905120" cy="157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Друзья мои!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Поверьте: год за годом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Не отпадет нам в информатике нужда,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компьютер переста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быть нам богом –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Мы подчиним его себе, и –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очное и понятное предписание исполнителю совершить указанную последовательность команд называе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горит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-схе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ую модель вычислительной машины, которая могла выполнять арифметические операции, со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льгельм Лейб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л Гау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фнутий Чебыш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ая программа была напис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ом Бэббид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ой Августой Лавл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ардом Айк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м Алл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Возможность применения алгоритма для решения любой задачи из круга задач, для которого он был предназначен. О каком свойстве идёт реч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о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зна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ре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иклический алгоритм –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кратное повторение однотипных действий при различных значениях параметров, определяющих эти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ение операций, предполагающих различные варианты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овательное выполнение операций в порядке их 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горитм перехода на начало програ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126828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 фрагмент программы на языке Паскаль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:=27;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 a&gt;0 then a:=a*2 else a:=a+2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riteln(a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будет выведено на экран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3284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бщение об ошиб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71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сставьте строки программы в правильном порядке, чтобы получилась программа, которая находит сумму первых десяти натуральных чисе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ln(s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 i,s:integ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s+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i:=1 to 10 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0:57:42Z</dcterms:created>
  <dc:creator>щзщз</dc:creator>
  <dc:description/>
  <dc:language>en-US</dc:language>
  <cp:lastModifiedBy>acer pc</cp:lastModifiedBy>
  <dcterms:modified xsi:type="dcterms:W3CDTF">2013-11-27T17:01:33Z</dcterms:modified>
  <cp:revision>36</cp:revision>
  <dc:subject/>
  <dc:title>Слайд 1</dc:title>
</cp:coreProperties>
</file>