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C732-D91F-4EFD-831E-8D7C217123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EC22-525A-4A42-B631-3F99A36165E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F0A-7DAD-485E-B3CD-5C5CC0DA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FAC-BC55-41C4-B009-EED192CC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9AC-0F13-4A67-915E-192E6895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11A-6570-493B-B112-B23A4F90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716F-0173-47A9-A34E-90F3D56B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C1D7-02E2-40D3-A460-3C7CE39A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EB8C-FAB0-49F0-B04D-4C17B3BD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38A4-8F41-4E79-A109-D153103F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B9A4-AB2B-4A0E-AFE9-7A2AA39D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E8D4-47AB-440F-876C-B772931C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7C39-78B8-4D87-8614-6F3E8EE6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3655-3F6C-4C7F-8464-D0E61BCC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9BA3-9182-46A1-AB21-5A1FB6F3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DE08-566E-4ECC-9482-62320874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68B3-673E-4DB1-90A9-3CFF1C23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5917-16F1-4558-B174-5395F8EB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1E5E-E5E3-4460-AA71-42AB6C2B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147-6CC4-4925-88CB-E9C50093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FAB-723C-44BF-BA88-0874AB0C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AE6-67AE-4D97-9788-7403CAA1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463-70E2-48B9-BECA-6878A466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DD9-757F-4708-A7E4-1533CD8E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5CB-E392-4EA6-8DC7-D934C255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B59-408F-40B6-BA3D-03D28BAE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611C-549D-44F6-ADA5-1A9BE2D67E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EC1F-2B72-4E8F-9450-0FB43405A03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ий потенциал нравственных ценностей в эпоху социальных переме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ь - поведенческий ориентир личност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D:\Desktop\Кафедра педагогики на сайт 04062015\ae4df6f207a713a6340df4d2f71919d4.jpg"/>
          <p:cNvPicPr/>
          <p:nvPr/>
        </p:nvPicPr>
        <p:blipFill>
          <a:blip r:embed="rId1"/>
          <a:stretch/>
        </p:blipFill>
        <p:spPr>
          <a:xfrm>
            <a:off x="7486560" y="0"/>
            <a:ext cx="1683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благо, это то, что честно и полезно, все, чего требует от нас долг человека, гражданина, семьянина (В.И. Даль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му, кто не постиг науки добра, всякая другая наука приносит лишь вред (Аристотел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 есть то, что никем не может быть определено, но что определяет все остальное (Л.Н. Толстой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ыть добрым - это значит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вели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нко чувствовать природу другого челове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овать каждый день подтверждения высокого звания «человек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гиб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ворить счастье, делая других счастливыми, и самому быть счастливы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лощать в реальной жизни нравствен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еть доброту и умножать ее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8660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я добро, будь благодарен за э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та для души - то же, что здоровье для тела: она незаметна, когда владеешь е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е сложное искусство - делать добро для конкретного челове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нности в образован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–абсолютная цен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я – общество в миниатю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- основа человеческого бы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–результат разнообразного тру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ьтура – богатство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ечество – уникальная для каждого человека Род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– общий дом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р – согласие между людьми, народами, государствам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300720" y="5661000"/>
            <a:ext cx="2678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-1500120" y="1127160"/>
            <a:ext cx="11760120" cy="581004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ъявление ценностей воспитаннику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ознание ценностных ориентаций личностью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ятие ценностной ориента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ценностных ориентаций в деятельности и поведен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236000" y="5157720"/>
            <a:ext cx="1446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крепление ценностной ориентации в направленности личности и перевод ее в статус качества личности, т.е. в своего рода потенциальное состоя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туализация потенциальной ценностной ориентации, заключающейся в качествах лич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308720" y="5373720"/>
            <a:ext cx="15145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Процесс формирования нравственного со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становка на восприятие информации и определение ее личностной ценности и значимост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аналитико-синтетическое преобразование информаци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) избрание вариантов программ для действий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164360" y="537372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Становление нравственного пове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56800" y="1752480"/>
            <a:ext cx="782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жизненная ситуац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эмоционально-чувственное переживани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бор и принятие решен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левой стиму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оступо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236000" y="522936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чины, тормозящие развитие аксиологических основ личност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91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нитивный диссонанс, возникающий в ответ на противоречие между имеющимися и предлагае- мыми знаниями и представлениям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щитные механизмы, как бы «оберегающие» личность от некорректного вмешательства, навязывания позиций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туационные факторы; отсутствие ценностного стержня лич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адекватное определение ценностных ори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D:\Desktop\Кафедра педагогики на сайт 04062015\questions-to-a-lawyer.jpg"/>
          <p:cNvPicPr/>
          <p:nvPr/>
        </p:nvPicPr>
        <p:blipFill>
          <a:blip r:embed="rId1"/>
          <a:stretch/>
        </p:blipFill>
        <p:spPr>
          <a:xfrm>
            <a:off x="7956720" y="5661000"/>
            <a:ext cx="1071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циальные перем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21472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способа организации об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мены в экономике,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социальной структуре или моделях социального взаимодействия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изменении культурных моделей: новые области знаний, новые верования, ценности, выразительные средства искусства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распределении социальных вознагражден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циальные институты обретают новые формы, и их связь друг с другом быстро меняетс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бодное развитие позитивно значи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убокое осмысление осознавае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рокое соотнесение ценностной ориентации с системой ценнос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нос значимых ценностных ориентаций на различные жизне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724360" y="5589720"/>
            <a:ext cx="33274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ый поиск новых личностно привлекательных ценнос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аксиологических тенденций в образова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механизмов перевода личности из состояния «Я» реальное в «Я» идеальное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4572000" y="5334120"/>
            <a:ext cx="3903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временный национальный воспитательный идеа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600" y="2361960"/>
            <a:ext cx="8286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D:\Desktop\Кафедра педагогики на сайт 04062015\711bddf994.jpg"/>
          <p:cNvPicPr/>
          <p:nvPr/>
        </p:nvPicPr>
        <p:blipFill>
          <a:blip r:embed="rId1"/>
          <a:stretch/>
        </p:blipFill>
        <p:spPr>
          <a:xfrm>
            <a:off x="7164360" y="5300640"/>
            <a:ext cx="13921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аметное, хруп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величивает, чувствует, определя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ет человека сильным и свободны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D:\Desktop\Кафедра педагогики на сайт 04062015\74407797_large_231896543_vectorized.png"/>
          <p:cNvPicPr/>
          <p:nvPr/>
        </p:nvPicPr>
        <p:blipFill>
          <a:blip r:embed="rId1"/>
          <a:stretch/>
        </p:blipFill>
        <p:spPr>
          <a:xfrm>
            <a:off x="6524640" y="0"/>
            <a:ext cx="2619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равственное воспит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процесс формирования ценностных ориентаций как важнейших элементов внутренней структуры личнос- ти, которые, выражаясь в установках, свойствах и качествах, определяют отно- шение человека к обществу, природе, другим людям, самому себ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7786800" y="4572000"/>
          <a:ext cx="992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4572000"/>
                    <a:ext cx="992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Ценности личност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утренний, эмоционально освоенный регулятор деятельности, определяющий отношение к окружающему миру и к себе и моделирующий содержание и характер выполняемой им деятель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D:\Desktop\Кафедра педагогики на сайт 04062015\zdjecie-1272.jpg"/>
          <p:cNvPicPr/>
          <p:nvPr/>
        </p:nvPicPr>
        <p:blipFill>
          <a:blip r:embed="rId1"/>
          <a:stretch/>
        </p:blipFill>
        <p:spPr>
          <a:xfrm>
            <a:off x="7308720" y="4869000"/>
            <a:ext cx="1416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нности, три подсисте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гни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ценностные представления чело- века (знания, мировоззрение, представление о своей жизни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мо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относительно устойчивые чувства человека к объектам, выражающиеся в эмоцио- нальной оценке (эмоционально-ценностные отношения к миру, своим связям, чувствам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предрасположенность к тому или иному типу социального повед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, уникальность, позволяющая быть универсальным критерием и исчерпывающей мерой жизнедеятельности общества и индиви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2987640" y="4959360"/>
            <a:ext cx="4584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бод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стояние души человека обеспечивает ему естественное и потому наиболее органичное и полное самовыраж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л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вокупность общественных тре- бований к поведению, которые, будучи принятыми человеком, становятся обязанностью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464080" y="5599080"/>
            <a:ext cx="34704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е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знание и чувство моральной ответственности за свои поступки не перед обществом, а перед своим "я"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характеристика эстетических и этических явлений, гармония формы и содерж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508720" y="5300640"/>
            <a:ext cx="27604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хов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собое внутренне состояние, гармония умственных и нравственных сил человек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16:10Z</dcterms:created>
  <dc:creator>xxx</dc:creator>
  <dc:description/>
  <dc:language>en-US</dc:language>
  <cp:lastModifiedBy>Slushatel</cp:lastModifiedBy>
  <dcterms:modified xsi:type="dcterms:W3CDTF">2017-04-12T09:48:19Z</dcterms:modified>
  <cp:revision>31</cp:revision>
  <dc:subject/>
  <dc:title>Аксиологические основы формирования нравственных  ценностей школьников</dc:title>
</cp:coreProperties>
</file>