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154-7325-4112-88C1-D0ECEDDA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849-037A-4C09-BD1C-CA141050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9AD-35A0-49CF-A26C-3A1F803D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DCC-80F7-4109-BCBC-5A2DB592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12E6-C9E0-4058-81C1-B7E5F232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38C4-FACB-468E-9F8A-F428FD7F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0F6F-20A9-48C3-BC3D-6196F763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A920-0AC1-47DF-89F1-A9B39F32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A72B-565A-4FD1-BBB1-C5EFC7D1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07B7-294E-408B-A540-4E7DE616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2E3A-8A31-476E-8475-3922B846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7C6-2111-4A8A-A89A-7BF24378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A089-1421-4381-B6DF-87AF15A1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A814-8CD3-422A-A43E-6011002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FA97-87ED-4697-97BC-FAE4CC99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050B-9D29-4A97-A607-68A57851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C545-4CC6-45F2-AD22-2FC6CA86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821-07A5-44FC-8EC6-12B3572C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770-6DB9-4089-BF77-0212E42D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6A7-4085-478B-9F82-072431FF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2C7-B118-425C-A89B-D75BB49B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07E-64D9-4802-8B0E-947011A5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93F-3B70-4FC1-B2A5-8FEBE9E8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7F3-FEF9-46EB-ADE5-2E194997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3FB1-323E-4715-A722-E8949D70AF93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3E08-53BA-4DF3-981A-5266C119F8B2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ан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Выразим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04176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из прямоугольного треугольни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23880" y="2538360"/>
                <a:ext cx="609624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a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b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h / b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Доказать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оказательств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92360" y="1773360"/>
            <a:ext cx="5040000" cy="3411000"/>
            <a:chOff x="1692360" y="1773360"/>
            <a:chExt cx="5040000" cy="3411000"/>
          </a:xfrm>
        </p:grpSpPr>
        <p:sp>
          <p:nvSpPr>
            <p:cNvPr id="345" name=""/>
            <p:cNvSpPr/>
            <p:nvPr/>
          </p:nvSpPr>
          <p:spPr>
            <a:xfrm>
              <a:off x="2430000" y="2493000"/>
              <a:ext cx="3344400" cy="2159280"/>
            </a:xfrm>
            <a:prstGeom prst="triangle">
              <a:avLst>
                <a:gd name="adj" fmla="val 67889"/>
              </a:avLst>
            </a:prstGeom>
            <a:solidFill>
              <a:srgbClr val="33cc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520" y="177336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2360" y="436032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4280" y="4256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0000" y="4652640"/>
              <a:ext cx="3304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89320" y="2472480"/>
              <a:ext cx="2300040" cy="217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3120" y="448848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8240" y="312984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1320" y="4425480"/>
              <a:ext cx="78120" cy="2473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0" y="0"/>
                  </a:moveTo>
                  <a:cubicBezTo>
                    <a:pt x="33" y="33"/>
                    <a:pt x="37" y="67"/>
                    <a:pt x="37" y="11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200" y="39506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404176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671000" y="2452320"/>
              <a:ext cx="2160" cy="2220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3520" y="4724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6520" y="329148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8261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Проведем высоту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278136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h = b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b / 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BC, </a:t>
            </a:r>
            <a:br>
              <a:rPr sz="5400"/>
            </a:b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a, b – 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стороны,</a:t>
            </a:r>
            <a:br>
              <a:rPr sz="5400"/>
            </a:b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l-GR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- угол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43:02Z</dcterms:created>
  <dc:creator>Учитель</dc:creator>
  <dc:description/>
  <dc:language>en-US</dc:language>
  <cp:lastModifiedBy>Учитель</cp:lastModifiedBy>
  <dcterms:modified xsi:type="dcterms:W3CDTF">2007-11-30T11:49:20Z</dcterms:modified>
  <cp:revision>4</cp:revision>
  <dc:subject/>
  <dc:title>Дано:</dc:title>
</cp:coreProperties>
</file>