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A233-5577-48D4-B846-AB6B10DDC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943F-EE56-4DF0-BC4E-31E739270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699A-E185-419D-8ED7-9B9092C15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1FBC-6B14-4345-9EFC-50F9496A6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5295-D636-4859-BD6A-BE6EA6A70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9807-DE61-4E91-A3DA-4D2571F57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8F17-B4C0-432C-8E20-95C32F89B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6983-3761-4E13-95D2-564D98E11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DC39-7FFE-46BD-B7DE-385ABFBC7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075C-C73A-4498-958D-8377A5963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DABD-C99C-4D54-8B54-B320F13AA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DF20-41C2-4AF5-A138-77E10D6E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CF6CF-CE85-4BC3-8E5A-D42DBAF9F1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5"/>
          <p:cNvSpPr/>
          <p:nvPr/>
        </p:nvSpPr>
        <p:spPr>
          <a:xfrm>
            <a:off x="380880" y="152280"/>
            <a:ext cx="830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астер-класс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Применение деятельностного подхода на этапе изучения нового материала» 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6"/>
          <p:cNvSpPr/>
          <p:nvPr/>
        </p:nvSpPr>
        <p:spPr>
          <a:xfrm>
            <a:off x="228600" y="5533920"/>
            <a:ext cx="8610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бченко Елена Ивановна,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физики и математики МБОУ «Старобобовичская СОШ» Новозыбковского района Брянской области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0 г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7" descr=""/>
          <p:cNvPicPr/>
          <p:nvPr/>
        </p:nvPicPr>
        <p:blipFill>
          <a:blip r:embed="rId1"/>
          <a:stretch/>
        </p:blipFill>
        <p:spPr>
          <a:xfrm>
            <a:off x="2438280" y="1676520"/>
            <a:ext cx="4267440" cy="39621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1219320" y="762120"/>
            <a:ext cx="792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«Школа не должна научить на всю жизнь,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Школа должна научить учиться всю жизнь.”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сточная мудрость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3"/>
          <p:cNvSpPr/>
          <p:nvPr/>
        </p:nvSpPr>
        <p:spPr>
          <a:xfrm>
            <a:off x="2889720" y="152280"/>
            <a:ext cx="339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Calibri"/>
              </a:rPr>
              <a:t>О самом главном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1548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рганизация деятельности учащихся по созданию понятий «Механическое движение, траектория, путь»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152280" y="1227960"/>
            <a:ext cx="914400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Calibri"/>
              </a:rPr>
              <a:t>Метод «Проблемный полилог»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рганизовать работу класса на решение проблемной задачи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определению понятия механического движения. 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астники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 ученики. </a:t>
            </a:r>
            <a:br>
              <a:rPr sz="1400"/>
            </a:br>
            <a:br>
              <a:rPr sz="1400"/>
            </a:b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7"/>
          <p:cNvSpPr/>
          <p:nvPr/>
        </p:nvSpPr>
        <p:spPr>
          <a:xfrm>
            <a:off x="1066680" y="3505320"/>
            <a:ext cx="807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«Движенья нет, - сказал мудрец брадатый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ругой смолчал и стал пред ним ходить»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    А . С. Пушкин </a:t>
            </a:r>
            <a:br>
              <a:rPr sz="2400"/>
            </a:b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"/>
          <p:cNvPicPr/>
          <p:nvPr/>
        </p:nvPicPr>
        <p:blipFill>
          <a:blip r:embed="rId1"/>
          <a:stretch/>
        </p:blipFill>
        <p:spPr>
          <a:xfrm>
            <a:off x="1447920" y="4876920"/>
            <a:ext cx="6191280" cy="16761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0"/>
          <p:cNvSpPr/>
          <p:nvPr/>
        </p:nvSpPr>
        <p:spPr>
          <a:xfrm>
            <a:off x="0" y="2044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Calibri"/>
              </a:rPr>
              <a:t>Метод «Игра»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кретизировать ярким примером абстрактное понятие «траектория»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астники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 ученики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1" descr=""/>
          <p:cNvPicPr/>
          <p:nvPr/>
        </p:nvPicPr>
        <p:blipFill>
          <a:blip r:embed="rId1"/>
          <a:stretch/>
        </p:blipFill>
        <p:spPr>
          <a:xfrm>
            <a:off x="5410080" y="2895480"/>
            <a:ext cx="2746440" cy="307836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8" descr="E:\Москва\Обобщение опыта\P1010055.JPG"/>
          <p:cNvPicPr/>
          <p:nvPr/>
        </p:nvPicPr>
        <p:blipFill>
          <a:blip r:embed="rId2"/>
          <a:stretch/>
        </p:blipFill>
        <p:spPr>
          <a:xfrm>
            <a:off x="838080" y="297180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9"/>
          <p:cNvSpPr/>
          <p:nvPr/>
        </p:nvSpPr>
        <p:spPr>
          <a:xfrm>
            <a:off x="380880" y="4788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Calibri"/>
              </a:rPr>
              <a:t>Метод «Исследователи»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вивать навыки исследовательской деятельности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астники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 ученики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"/>
          <p:cNvPicPr/>
          <p:nvPr/>
        </p:nvPicPr>
        <p:blipFill>
          <a:blip r:embed="rId1"/>
          <a:stretch/>
        </p:blipFill>
        <p:spPr>
          <a:xfrm>
            <a:off x="2438280" y="1773360"/>
            <a:ext cx="4876920" cy="4813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7"/>
          <p:cNvSpPr/>
          <p:nvPr/>
        </p:nvSpPr>
        <p:spPr>
          <a:xfrm>
            <a:off x="0" y="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Метод «Интерактивный рисунок»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ть работу учащихся по классификации  движения на прямолинейное и криволинейное в зависимости от траектории тела. 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и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ученики. </a:t>
            </a:r>
            <a:br>
              <a:rPr sz="2400"/>
            </a:b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8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2133720" cy="129528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9" descr=""/>
          <p:cNvPicPr/>
          <p:nvPr/>
        </p:nvPicPr>
        <p:blipFill>
          <a:blip r:embed="rId2"/>
          <a:stretch/>
        </p:blipFill>
        <p:spPr>
          <a:xfrm>
            <a:off x="2514600" y="2286000"/>
            <a:ext cx="2286000" cy="129528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0" descr=""/>
          <p:cNvPicPr/>
          <p:nvPr/>
        </p:nvPicPr>
        <p:blipFill>
          <a:blip r:embed="rId3"/>
          <a:stretch/>
        </p:blipFill>
        <p:spPr>
          <a:xfrm>
            <a:off x="4952880" y="2362320"/>
            <a:ext cx="1905120" cy="129528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1" descr="http://dxmbkxacdb7tv.cloudfront.net/ab3cbb60-c33b-4026-aa05-df7d715a1ef1/%D0%BC%D1%8F%D1%87.png"/>
          <p:cNvPicPr/>
          <p:nvPr/>
        </p:nvPicPr>
        <p:blipFill>
          <a:blip r:embed="rId4"/>
          <a:stretch/>
        </p:blipFill>
        <p:spPr>
          <a:xfrm>
            <a:off x="7010280" y="2362320"/>
            <a:ext cx="1828800" cy="12952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Object 10"/>
          <p:cNvGraphicFramePr/>
          <p:nvPr/>
        </p:nvGraphicFramePr>
        <p:xfrm>
          <a:off x="228600" y="5562720"/>
          <a:ext cx="2971800" cy="110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5562720"/>
                    <a:ext cx="2971800" cy="11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4" name="Рисунок 14" descr=""/>
          <p:cNvPicPr/>
          <p:nvPr/>
        </p:nvPicPr>
        <p:blipFill>
          <a:blip r:embed="rId7"/>
          <a:stretch/>
        </p:blipFill>
        <p:spPr>
          <a:xfrm>
            <a:off x="228600" y="3886200"/>
            <a:ext cx="2971800" cy="16002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15" descr="{E6B73230-AA3F-430A-8A8C-91D42DDB21CE}"/>
          <p:cNvPicPr/>
          <p:nvPr/>
        </p:nvPicPr>
        <p:blipFill>
          <a:blip r:embed="rId8"/>
          <a:stretch/>
        </p:blipFill>
        <p:spPr>
          <a:xfrm>
            <a:off x="3352680" y="3886200"/>
            <a:ext cx="3124440" cy="27432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12"/>
          <p:cNvGraphicFramePr/>
          <p:nvPr/>
        </p:nvGraphicFramePr>
        <p:xfrm>
          <a:off x="6629400" y="3962520"/>
          <a:ext cx="2247840" cy="2568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8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629400" y="3962520"/>
                    <a:ext cx="2247840" cy="25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0"/>
          <p:cNvSpPr/>
          <p:nvPr/>
        </p:nvSpPr>
        <p:spPr>
          <a:xfrm>
            <a:off x="609480" y="1868040"/>
            <a:ext cx="822960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лементы педагогических технологий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ного подхода;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ельской деятельности;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ого обучен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br>
              <a:rPr sz="2400"/>
            </a:br>
            <a:br>
              <a:rPr sz="1400"/>
            </a:b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10"/>
          <p:cNvSpPr/>
          <p:nvPr/>
        </p:nvSpPr>
        <p:spPr>
          <a:xfrm>
            <a:off x="152280" y="-228600"/>
            <a:ext cx="8991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орьте, заблуждайтесь, ошибайтесь, но, ради бога, размышляйте, и хотя и криво, да сами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»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Э. Лессинг, нем. поэт, драматург XVIII в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4" descr=""/>
          <p:cNvPicPr/>
          <p:nvPr/>
        </p:nvPicPr>
        <p:blipFill>
          <a:blip r:embed="rId1"/>
          <a:stretch/>
        </p:blipFill>
        <p:spPr>
          <a:xfrm>
            <a:off x="1828800" y="3733920"/>
            <a:ext cx="2133720" cy="26780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6" descr=""/>
          <p:cNvPicPr/>
          <p:nvPr/>
        </p:nvPicPr>
        <p:blipFill>
          <a:blip r:embed="rId2"/>
          <a:stretch/>
        </p:blipFill>
        <p:spPr>
          <a:xfrm>
            <a:off x="5105520" y="3733920"/>
            <a:ext cx="1981080" cy="26272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1" descr=""/>
          <p:cNvPicPr/>
          <p:nvPr/>
        </p:nvPicPr>
        <p:blipFill>
          <a:blip r:embed="rId1"/>
          <a:stretch/>
        </p:blipFill>
        <p:spPr>
          <a:xfrm>
            <a:off x="2438280" y="2057400"/>
            <a:ext cx="4881600" cy="429408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11"/>
          <p:cNvSpPr/>
          <p:nvPr/>
        </p:nvSpPr>
        <p:spPr>
          <a:xfrm>
            <a:off x="0" y="0"/>
            <a:ext cx="9144000" cy="20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Ценность человека должна определяться тем, что он дает, а не тем, чего он способен добиться.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арайтесь стать не успешным, а ценным человеком».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ьберт Эйнштейн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Я</cp:lastModifiedBy>
  <dcterms:modified xsi:type="dcterms:W3CDTF">2001-12-31T21:08:48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