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 type="dt" idx="5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5"/>
          <p:cNvSpPr>
            <a:spLocks noGrp="1"/>
          </p:cNvSpPr>
          <p:nvPr>
            <p:ph type="ftr" idx="5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PlaceHolder 6"/>
          <p:cNvSpPr>
            <a:spLocks noGrp="1"/>
          </p:cNvSpPr>
          <p:nvPr>
            <p:ph type="sldNum" idx="5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C049E-4DB5-4993-A53B-17292A37FDB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E96C0-7B21-4336-B9FD-A11B52B79323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8D83-6F27-4330-AD0E-693CDBF15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EC52-5243-4610-8970-728F1C3E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3AFB6A-E32D-4EDF-B138-94D36B9F2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E8E040-81EC-412C-9A49-4A8D3CBF6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F86F95-FA9F-45E2-AD29-CD18A6705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D88EFF-0508-428B-9570-A3E71F7E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AFFB38-764E-4F03-BF33-45032F50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29F617-F168-4493-9986-87A60F8E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C91046-C981-4CD9-B716-5367C1160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64F6DF-E9C2-43CE-9BA4-FC9DFFD2F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E07373-17A7-472C-B4D8-AF211C48D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1A8E29-8C0A-4445-8D7E-BA1D1CEC5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E733-6198-47C7-A4F9-A1E2C01F7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AED2B3-88B0-42AA-8205-A7C269D1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913F95-B994-4A51-944E-4C11E1C13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07C0CC-6142-4C2C-BA13-1DEFA4C86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C502BC-2F89-40FC-8485-2D50D199C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C1C3AB-8FBD-436E-B9E7-0BE78D551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5CF597-D34F-4D29-8E79-565FEE4E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13675B-6F22-444E-8CE2-73717CEB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463584-F263-4FA4-849B-3511480D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0B4702-D08C-452A-BEB2-402F9DC71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610490-22D1-4261-B89A-C0856F576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9502-BF65-4775-A694-FA967DF58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B8C0C6-1F07-4B7E-BE79-0B6933F9D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B221C2-3D0F-4396-9DA2-11BBF7E0F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A04B3E-8D17-45E5-8275-620B49FD8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69FB6D-E4A7-47E1-8886-6DDBF5307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B34CFF-006D-4786-8FFD-53017B4A4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B0F726-3BE0-4CBD-99EE-464FC1301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0502CD-2A30-4E87-8E31-A8524D7D6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9DA372-8AC4-4AE9-8520-4ACB92458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E39D4F-BC73-4383-ADDC-846C484A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5C5FE4-9744-4B87-A373-92E97BD5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2662D-26DD-4854-892E-7AA73082D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4239F4-4C1E-4DA9-AA17-3641E06F4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95B241-7B52-4B7B-B1C7-D7590F30B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651894-C847-4DB2-958D-C2D700798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B75AE4-62A0-4983-A82E-B9FD6A77D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686E4C-78CA-4AF1-9FD1-D7503B9F1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B6402C-0CC9-4F21-81A1-BA913CA37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EC9308-50FE-4FC9-805F-10469C826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2B1044-1FBC-40EB-AD95-9A18C42E8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1C1389-D9AB-4DA6-94A7-73EC4469C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3069FE-857C-4B28-887D-F3AF8FF5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21661-149C-4830-8904-960C7AF06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0E9DA7-DE9D-46BB-BFD8-32A4E1C3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B4531D-0812-4C33-8FD1-110EE0FB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8659BA-8F71-4FCE-8778-F51A40481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EB8E58-F425-4DE3-9166-C1600B909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99C000-A776-481B-9F2A-C6EBCE6CD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398E91-AACB-493A-BDC8-0F66B0C00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DEB955-4545-4929-A454-99E9E42DF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92256F-D0BA-4920-A264-0AFC01627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8E0DC4-EEA2-4723-B6DA-816CDE9F7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E9D283-F415-4DA3-B436-71A40C644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010B5-EA88-4EB1-B42F-202E20F5D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1F94BF-D8C9-4CAD-8CD5-23C671DCF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85819B-78CA-42DA-A5F0-41B0F1B7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A4F816-102E-4004-A222-EBBF1F93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A3619F-876D-4F8F-BBE3-CCBA02AC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EA403E-C493-457A-A403-61C5333E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9CC193-8615-4F8A-BBED-727343AAD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1851A2-FC5C-48A4-AC6D-333AEAA7A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E3E0E7-50C8-4651-8276-E651AE426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39B41E-0AB6-454D-B8E8-AD98B8675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049926-12BD-47E7-83DD-50426A4FA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BE326-2755-4C9E-9DEC-AA7DAA2B4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F78FEE-853C-4B27-B456-5144F23F2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1CF9C8-E956-46D6-A05B-81A8E3A65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852A61-D096-4A91-A170-304968FB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8304FF-49D4-480E-A85C-C2822092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C590C2-AB8F-48C8-A5AB-B28992B7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42B77B-5DAA-42F1-88D2-3C2CB1BB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F9079A-0943-4031-BF02-99CE223DC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70C7BF-60A4-4EF5-8EBD-174A5B7B5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18FBE0-2774-44F6-B9BB-38568056B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EFA2CC-C124-42DE-81B0-B63973C4A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9BEA0-67C3-4608-90CE-9ED9209C3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5EBD7C-29BF-4F6B-B84F-A78C70FE1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3C5C89-65E4-42AC-80CF-FA18C4A95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9EEF66-8DDF-4B48-B113-9643919B1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447F10-BCF2-4C02-BDD9-4C781FE4C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805BF8-ED86-4858-B5A2-36D3076D3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57D4C4-7AC1-4AD0-8F29-E75BFA72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C7DCCF-0E48-450E-81CE-0F912F77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2C74CF-890F-42A1-B340-67A9D298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B84161-2ACA-4F42-A7E5-9EA1E2F6C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66E610-DB75-44A3-8D26-ECACE3783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FD5B8-C0EE-4182-9266-AE3732DAE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0A0CB4-011E-408A-89D1-6A0A63526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8ACB64-DC2F-41B5-AE54-E1C1517F2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90C3E8-9339-40B5-BDBF-0EFDE60E4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3BD2B6-3D4A-4BAA-ABBB-E87852281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7F924F-FC4B-402D-A68E-1317F25D7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0AED90-DE99-4F3E-A8F9-41CDCC5F6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25BFA1-CB46-46F6-991D-3D2C89B94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86CDAE-4922-4222-A05B-F02B7E05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FB3E65-293F-4691-A18D-08A87E4F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889EB1-1578-46F2-B742-2F963543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E723B-B4B3-48CC-B3E8-56865BDB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37E5FF-8437-4698-BC16-8CD0FB5DE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172089-8E5E-4CE0-B6BD-7726EEA23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F27130-85AD-446E-8ECA-6383798F2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37216C-2EA1-432D-8226-80A70AA34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D35C64-0D16-4E67-BCD6-4A8332303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841505-38C7-4A0C-802C-7DD7203FA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E4BFDF-ED7B-48BC-B5BF-5A40BACE4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7E1132-14D6-47D1-B171-E63BD5689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3040ED-5B22-4153-89A4-1DE16EDDD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B39CF3-4E02-4AB4-944B-1BA952E5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ABEF-1018-4172-A1EE-DD7FC7ECF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DF4BF-6879-4818-B137-FA554291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93336B-D91E-45C0-AD8C-BA1B0121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B62431-C534-4073-B980-D7C7C333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7179A7-2BE1-4E09-B578-48AFA090E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AB26B1-87BB-4084-8FD8-C15A8DC4D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DBFD66-80DD-4B98-836B-7A29BF4CE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41B83F-68F1-48D4-A00D-B4359E2DD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7C1546-5310-4F78-92E0-479F414CB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8EDE6D-69D7-4622-8F78-E66460D4F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8AC18D-E342-4C25-8347-9E78F7B8C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CD6EA6-7775-4B06-8F77-40A2C3318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6A185-3F31-41B1-B814-2D049F0B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F08F64-6B70-436A-ACBF-9462A88F4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3442F5-3D9A-4E4D-9050-4D9CEF3B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25EDA8-8B30-462C-83B7-A3F1C037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43B420-580C-42A6-A2E5-0BAF911F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3A60D9-3D35-4C99-968B-2F9A05766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AE1E1F-C049-44BA-8AB0-A73EF0BF9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D42107-0DD3-4361-9958-4C026E42D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0E209-8819-4AF3-A7AA-C13E45DE5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ABC54-B48E-4641-80BB-3F7B0D65F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BCDFE-0218-4B9D-A855-8652FB31B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15E47-909A-40EC-B3A2-9B2350C62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5408A-0B14-4C89-AFD6-00112991D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B8890-8232-4F4B-8287-FB2268457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6B33D-C976-47AA-B084-F1F80796E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29BFD-D8CA-4EDA-B655-FB5EE8BFB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F5EC-098D-4EEA-AC22-CAEF46130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D176A-EAE7-4835-B2B3-C1B8BDA5C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6443B-1B1B-4DF9-BBE2-B80A9DC6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289F2-5CF4-4494-BF7D-90F2D3AC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B664D-708E-4A8C-BAF2-8BE8D56C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456D9-2B08-40A6-9E42-315549842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9E473-AF04-42CE-B0B4-F433B6B28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EB699-85AB-4AEC-BDBB-C6600A530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1A521-9906-4E8C-BB45-5DD6F0FE9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D84FA-DDAD-48BF-B1E4-A4136F802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AF710-8F9A-4EDC-AD49-A12347EC6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ED87-10EE-476C-8E18-9E8948B22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3FAF8-FA6F-4069-BB4F-7A9E53661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A3C97-81CD-4AB3-B615-1F40ACD61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F65B6-73E3-4A02-9505-44B0405D0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89AC0-3E03-4131-BCEE-819C7DA2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8B361-8507-4C83-B4AE-4F32F165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1A195-18FC-46F9-ABD6-5D422992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E7C1D-6208-47C2-A53D-F4658C3EF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0560D-149D-4695-9AD0-D6A934E39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625A8-968C-471F-82D9-08FBE704B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3B4F1-6B16-41EA-B2D1-986711763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4BEE-0E4D-403F-9DE9-92BC4FB22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D8A8D-8EBB-42BA-B99F-D380A962C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E1A54-2531-4CFF-8C99-262402CA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AC4CE-9810-4CA8-BB9E-EA12F3701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DFAF6-B35B-4480-9F4D-B84385C03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C955D-21FB-4A0D-AA98-17D07E258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65C40-BE0C-4F67-8543-CD1A4937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2A6CF-DF1C-429A-BF46-E005A1BA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4233E-B248-4ED4-931D-2345EF0B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4E4E6-E123-42D6-9B9A-6B25253F5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6788A-3414-48C4-802B-26519098E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F5C5-310B-4CA7-9ACC-087BF39C0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A088B-02CD-4586-93B4-58D934FA7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F7428-8951-4603-8128-81D03A612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AF25D-31FF-446C-B2DF-EFEBA927C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85158-BCA3-4DF9-8242-FE66C5F91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4483E-01C3-4BBC-A382-2B51BB590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206D39-5730-4A9A-9E34-D39B7D01F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0EE9A-9437-431A-92D1-899C55DE9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36F29-D8E4-481B-BA47-F5A13648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8AEA2-DE66-4F9C-82D1-CD456116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8EA1F-8DCD-4970-98C8-2A4B575D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3C45-7B2D-4008-865D-B2399D43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C456C-47C8-4113-9EC0-A5DB65F84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F523D1-7064-467B-A43D-118103D8F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0DF15-63CE-4C15-B782-C64E7D68E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B0A65-0C21-40D2-80FC-01B5C575D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04F9A2-587C-45D4-BCDF-08F209AAE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6547B-72FE-42A7-9385-E95E7253C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CE95A-CCAB-4C20-B60A-22EA2A117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3821B-BD6F-43CA-A282-6E5A975C6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8DD653-0C92-46E1-A8B0-BE91AE9AE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96D727-92CD-4B46-815D-34B9B9BF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2ADF-4342-4081-9DDE-76ABA103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032EC7-03A6-4EC9-8452-4AEEB784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5819D2-AEA2-47FE-B650-E11C6A31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E221EF-61F0-4254-BD1A-613009DFF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000E6-166E-4E4D-A2ED-2634C2A5E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2747F5-2134-4549-9D3E-5FF054E3F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8DF1BF-1499-43CC-B37F-5E560FC16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2735BA-8FBB-4CF9-B26D-5A600DB38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1D1839-60B6-4D2B-96B7-5A69250D8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321B0B-2648-42CB-B5F6-AFD552CEB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1162E7-8813-4476-9E2A-B3E8EEA12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13B9-50A4-4BC6-B55B-73C98D45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351267-08B9-4AB3-808B-415024C1C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8D21A6-CA97-4BA1-992C-6B6F090B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76BFFE-27A3-41F4-84D0-266AA8B5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F4A80A-5AE2-415C-899D-A26109B9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B7DCF4-8F3F-4349-9A06-E79013E5C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194DB3-7554-4EE6-8CA7-05F1F639C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A11FF5-964D-46DB-8823-31C09367E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D2FC92-4E50-471E-9F29-57AA25C40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C31036-FC83-4B8C-848C-B4B1228A0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954B11-E66B-445E-8E0D-438BB3651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C6967-896E-4AA8-9BE0-15C3C81268A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1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63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764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5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6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7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8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9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0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1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2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73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774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775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76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77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778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9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80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781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82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3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4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5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6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7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8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9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790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91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2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93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794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795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796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797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98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99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0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1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2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3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4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805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FA613-FFBE-41DD-B416-611C8DDB7FD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5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85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86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86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86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6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6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86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6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6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86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86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87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7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80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881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88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883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884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5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6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7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8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9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90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91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89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800C0-26F1-473B-8136-C19DE7E218E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5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6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37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38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9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0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1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2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3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4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5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6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47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948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949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0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1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952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3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4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955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956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7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8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9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60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61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62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63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964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965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6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67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968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969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970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971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2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3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4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5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6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7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8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979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B03FA-A1EC-47E8-94C2-3AD6E511CCD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2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2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3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3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3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3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3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03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04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4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5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05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05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54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1055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105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057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1058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59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0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1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2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3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4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5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06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F0B84-CDE3-48F5-9C1A-90BA608E8CC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1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11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2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12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12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2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2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12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2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2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12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3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13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3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41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1142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114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144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1145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46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47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48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49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50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51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52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15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 type="dt" idx="4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 type="ftr" idx="4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 type="sldNum" idx="4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6AAF5-53FD-4D85-B331-ED64F3D8C4E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9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19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20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20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21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1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1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21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21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21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1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1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2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2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2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2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2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22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2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2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122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123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23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123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33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34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3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36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37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3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39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24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 type="dt" idx="4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 type="ftr" idx="4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5" name="PlaceHolder 5"/>
          <p:cNvSpPr>
            <a:spLocks noGrp="1"/>
          </p:cNvSpPr>
          <p:nvPr>
            <p:ph type="sldNum" idx="4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9EA62-ABE8-4EA9-898F-0A2A32772FB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8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28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29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29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29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9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9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30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0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0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30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30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1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1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31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31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15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1316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131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318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1319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0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1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2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3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4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5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6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32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4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4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4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31C26-B07A-4300-AD5C-54F391ADB27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7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37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8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38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38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8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8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38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39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39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9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9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9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9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9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9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9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39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40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02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1403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140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405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1406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07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08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09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10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11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12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13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41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 type="dt" idx="4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 type="ftr" idx="5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9" name="PlaceHolder 5"/>
          <p:cNvSpPr>
            <a:spLocks noGrp="1"/>
          </p:cNvSpPr>
          <p:nvPr>
            <p:ph type="sldNum" idx="5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08979-FF67-4598-8B12-5EA339F4F57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5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46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6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47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47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7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7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47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47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47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7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8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8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8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8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8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8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48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48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89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1490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149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492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1493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94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95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96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97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98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99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00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50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 type="dt" idx="5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 type="ftr" idx="5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6" name="PlaceHolder 5"/>
          <p:cNvSpPr>
            <a:spLocks noGrp="1"/>
          </p:cNvSpPr>
          <p:nvPr>
            <p:ph type="sldNum" idx="5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C94CA-742D-4894-ADA2-3D741C61495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0760" y="4661280"/>
              <a:ext cx="998640" cy="4633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6640" y="4640040"/>
              <a:ext cx="995400" cy="4586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4760" y="4626000"/>
              <a:ext cx="660240" cy="4190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1760"/>
                  <a:gd name="textAreaBottom" fmla="*/ 492120 h 49176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280"/>
                  <a:gd name="textAreaBottom" fmla="*/ 278640 h 2782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B7FC3-82C6-436C-ABB2-A1A43CEF11F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ED820-6770-4E93-8BA8-BDF80E0D899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4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5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5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5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5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5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6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26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6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71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272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27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74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275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6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7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8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9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0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1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2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28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EF217-061D-4EB7-8587-51A790BD9F3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2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3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3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4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4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4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4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5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5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5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36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6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36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3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4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6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7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9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37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6454C-BFDF-438D-8E39-8342C01BE44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1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1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2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2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2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2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2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43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3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3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44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4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45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446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4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48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49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0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1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2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3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4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5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6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45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8313B-F3AE-40FE-B14E-CB32757D047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0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1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51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51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51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2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2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52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3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32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533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53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35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536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7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8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9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0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1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2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3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4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A99A8-7C10-4B37-B9B3-F875864D301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8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9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9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0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60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0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0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61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61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19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620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62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22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623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4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5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6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7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8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9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30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63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F5443-E19D-4B11-8E06-C0CDDD2BE21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76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77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8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9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0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1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2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3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4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5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86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87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88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89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0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691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2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3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94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95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6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7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8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9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0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1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2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703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04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5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06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707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708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709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710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1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2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3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4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5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6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7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718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2F2AD-CEEA-4D30-89EF-33B3FD94774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0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1371600" y="1928520"/>
            <a:ext cx="6400800" cy="18558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99ccff"/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Моделирование как инструмент познавательно-речевой активности детей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алабанова Милена Валерьевна, старший воспитатель МБДОУ д/с «Золотой петушок» Брянского райо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Этапы работы с моделью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оздание моделе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цесс запомина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спользование моделей для организации собственной деятельности (ребёнок должен действовать самостоятельно с моделью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"/>
          <p:cNvSpPr txBox="1"/>
          <p:nvPr/>
        </p:nvSpPr>
        <p:spPr>
          <a:xfrm>
            <a:off x="428760" y="571680"/>
            <a:ext cx="795312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3200" spc="-1" strike="noStrike">
                <a:solidFill>
                  <a:srgbClr val="000073"/>
                </a:solidFill>
                <a:latin typeface="Comic Sans MS"/>
              </a:rPr>
              <a:t>«Учите ребенка каким-нибудь неизвестным  ему пяти словам – он будет долго и напрасно мучиться, но свяжите двадцать таких слов с картинками, и он усвоит их на лету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3"/>
                </a:solidFill>
                <a:latin typeface="Comic Sans MS"/>
              </a:rPr>
              <a:t>К.Д. Ушинск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9" name="Picture 5" descr="0012-012-Spasibo-za-vnimani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826560" y="151920"/>
            <a:ext cx="67294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Приемы, используемые  при формировании познавательно – речевого развития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3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e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e5"/>
                </a:solidFill>
                <a:latin typeface="Comic Sans MS"/>
              </a:rPr>
              <a:t>Наглядные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–наблюдения, рассматривание картин, демонстрации фильмов, слайдов, презентаци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e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e5"/>
                </a:solidFill>
                <a:latin typeface="Comic Sans MS"/>
              </a:rPr>
              <a:t>Практические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упражнения, игры, эксперименты и опыты, моделирование, проектная деятельность, исследовательско-поисковая  деятельност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e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e5"/>
                </a:solidFill>
                <a:latin typeface="Comic Sans MS"/>
              </a:rPr>
              <a:t>Словесные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рассказ, чтение, вопросы, беседы, использование художественного слов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Основные задачи познавательно-речевой деятельност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5" name=""/>
          <p:cNvSpPr txBox="1"/>
          <p:nvPr/>
        </p:nvSpPr>
        <p:spPr>
          <a:xfrm>
            <a:off x="394920" y="1484280"/>
            <a:ext cx="8209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богащать  познавательную сферу детей информацией через занятия, наблюдения, экспериментальную деятельность, речь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богащать эмоционально-чувственный опыт в процессе непосредственного общения с предметами, явлениями, людьм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мочь упорядочить сведения об окружающем мире, формировать представления его целостност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Формировать бережное отношение к окружающему миру, закреплять положительные эмоции, умение их проявлять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оздать условия, способствующие выявлению и поддержанию интересов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ддерживать условия для развития познавательно-речевых процессов дошкольников во всех видах деятельно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Для правильной организации организации познавательно-речевого развития выделяются следующие аспекты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7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ечь педагог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Формирование представлений об окружающем мир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звитие любознательност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енсорное воспита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гр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/>
          </p:nvPr>
        </p:nvSpPr>
        <p:spPr>
          <a:xfrm>
            <a:off x="468360" y="213840"/>
            <a:ext cx="791352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a0aff"/>
                </a:solidFill>
                <a:latin typeface="Comic Sans MS"/>
              </a:rPr>
              <a:t>Моделирование  -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это одно из средств познания действительности, исследование каких-либо явлений, процессов посредством построения и изучения моделе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a0aff"/>
                </a:solidFill>
                <a:latin typeface="Comic Sans MS"/>
              </a:rPr>
              <a:t>Модель -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это любой образ (мысленный или условный; изображения, описания, схема, чертеж, график, план) какого-либо процесса или явления (оригинала данной модели), используемый в качестве заместител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Виды моделирова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едметно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едметно – схематическо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рафическо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Модель должн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2" name=""/>
          <p:cNvSpPr txBox="1"/>
          <p:nvPr/>
        </p:nvSpPr>
        <p:spPr>
          <a:xfrm>
            <a:off x="685800" y="1828440"/>
            <a:ext cx="769608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Четко отображать основные свойства и отношения, которые являются объектом познания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ыть простой для восприятия и доступной для создания действий с ней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Ярко и отчетливо передавать с ее помощью те свойства и отношения, которые должны быть освоены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блегчать позна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Закономерности формирования моделирования у дошкольников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4" name=""/>
          <p:cNvSpPr txBox="1"/>
          <p:nvPr/>
        </p:nvSpPr>
        <p:spPr>
          <a:xfrm>
            <a:off x="285480" y="1357200"/>
            <a:ext cx="86439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оделирование выполняется на знакомом детям материале, с опорой на знания, полученные на занятиях или в обыденной жизн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Целесообразно начинать с моделирования единичных конкретных ситуаций, а позднее с построения моделей, имеющих обобщенный характер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ледует начинать с иконических  моделей, т.е. сохраняющих известное сходство  с моделируемым объектом, постоянно переходя к условно- символическим изображениям отношений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"/>
          <p:cNvSpPr txBox="1"/>
          <p:nvPr/>
        </p:nvSpPr>
        <p:spPr>
          <a:xfrm>
            <a:off x="685800" y="713880"/>
            <a:ext cx="76960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чинать следует с моделирования пространственных отношений, а затем переходить к моделированию временных, логических и т. д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бучение моделированию осуществляется легче, если начинается с применения готовых моделей, а затем их построения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оцесс обучения моделированию заканчивается интериоризацией  действий, т.е. переводом планирования во внутренний пла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2:59:41Z</dcterms:created>
  <dc:creator>Оля</dc:creator>
  <dc:description/>
  <dc:language>en-US</dc:language>
  <cp:lastModifiedBy>Doshkola</cp:lastModifiedBy>
  <dcterms:modified xsi:type="dcterms:W3CDTF">2017-11-28T07:59:00Z</dcterms:modified>
  <cp:revision>32</cp:revision>
  <dc:subject/>
  <dc:title>Моделирование в детском саду</dc:title>
</cp:coreProperties>
</file>