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 type="dt" idx="5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5"/>
          <p:cNvSpPr>
            <a:spLocks noGrp="1"/>
          </p:cNvSpPr>
          <p:nvPr>
            <p:ph type="ftr" idx="5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PlaceHolder 6"/>
          <p:cNvSpPr>
            <a:spLocks noGrp="1"/>
          </p:cNvSpPr>
          <p:nvPr>
            <p:ph type="sldNum" idx="5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F212-991B-44BA-B853-03B0F3A651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6C21-95B6-41B6-A0A7-0872662A7D01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3241-0CBE-4453-8FE3-8B3FEBC3D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518C-0BE9-4557-92F3-7C3183FC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99E0F8-4E21-4AD4-9DF6-BA344788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B4926-5CBB-4CB4-A702-D3ED0D3A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FA3D1C-D054-4191-89A8-A0356A29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E0063-64AB-46E2-A41D-BFB74B40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346FC-571B-4900-8556-6A57DBC6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55317-AFF8-4B84-B62D-4D55DA59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C9B23-E3BF-4328-8D40-0C224EE6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FA477-1BB7-4ED5-997F-BBDEDCA47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54E3F-B280-4A46-95B6-D1677FD68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940B1-E8A7-49E1-8C18-8955DA1B4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094D-CD4B-4B82-9133-D69E2908F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94423-C352-4B2A-B8C1-12169757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95E3F3-F49A-4B0B-8CCB-88872AC5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4DFFE-BEA8-4C8A-A366-36427AA1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8B7AE-6B1F-47E3-882E-E86429A8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9F18A9-2A8D-4C1D-B95E-A655B3B7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734FA7-04B5-41CD-B30F-1A8F9BAF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F83DD2-B7B7-4095-A536-4A9F9CF8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60B1BE-72B8-440F-8D5C-166EC5FD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13D0D8-4D19-4C4D-9008-23B22558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49953B-EB45-47C1-8BBB-C0C35E275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6D29-C480-4693-B5BE-1719AFF85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F1FD83-997B-45FE-8AF6-EE536DC09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59B79-41B1-433B-8567-32C0C40FB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1882E-BACA-41BD-A4ED-609AC6DB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0E885-2C76-4F11-9342-7715827A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70518-7063-4A35-A548-6DAFF04F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415AE-3285-4FD5-ABAB-33154FD1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5519D-5DDE-4C45-A953-B81696FE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B85A4-BEC7-4AD2-8061-752E3981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2475E-6447-4408-8675-CF36D36B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F859E-98A2-4D81-9046-8D4A42F4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3A41-5914-49A3-A2F5-8432AC504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2F9FD-B4DC-45FF-9CD6-E4AD688B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31068-0816-4A19-96A5-B1BBF7BB9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AE9BA-EFF3-491B-BA83-03410A46A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30A80A-A954-4735-A90C-EE743B046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89CF3F-64C8-4B4D-A86C-3F288BF1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294DA2-6701-4FCA-AE4A-528B266E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6F4C89-ACB6-4C1C-B036-5B51773B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663EB0-2A3B-4D99-8DCF-A6262FF7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1B7C12-5CBE-44C3-B9D1-7D1DFBB4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856166-F41C-452D-B057-3F091676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8C9A-3EF6-4770-89DE-D0CDE12B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5A0626-B31F-47CE-A538-CB84C592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4F3D2A-20D7-4F4F-9AB1-D502692B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559CD7-EC24-4AAF-BC50-4DC8453F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4E5F85-0F71-4E08-927E-D31E6C07D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B65ACD-75E3-42B4-B62E-55097A647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B9545F-0576-4D2D-98CD-19EB6322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C94A85-BD62-41E6-BABB-2047A0AB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9A1EB4-EF5E-48CF-9631-0BD0F121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4C0B8C-B4B3-4925-83E5-E0CC652E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77DB54-FBF4-4BEC-82B0-9E465C73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7EBF-E70F-4DA8-8E02-26AD70DF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D0C564-2199-4CAA-8866-9A5CF424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6A1ADA-9102-460A-9AC3-A17A195C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677681-DAC6-4BBA-B24D-BF26A23A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236BD3-7C54-4DA9-915B-17510B82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A5676A-51E2-4C6D-B900-D2579910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3BD337-100D-4123-9832-40ED07D27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F149B9-B464-4664-9495-86BAD6C3F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83105F-5AD0-4367-BF10-5F6F35B99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96F839-3A66-43F8-80DB-0B3D4C83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EE3B5E-F716-4411-AA2C-6745176A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4204-B7E6-4EA4-A9C3-DF2A8639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F6923F-30C3-4062-988B-DE799890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374A86-D61A-4F54-A2D6-4C32770D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D75FF8-4399-481D-8F7F-978DFAA3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622A7B-F5DC-49E4-B3B3-C24250CD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DFC2BF-7917-4A3D-91C2-79199EF4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745612-89CC-40DB-8509-719D3137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92C2B2-367A-42C2-8E01-6067A6A1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A7E491-8015-4797-9D9E-646765330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2B4AE5-8E6A-4E94-892A-0FD03A053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47C538-93DC-4015-81FF-9E2CA3EFA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C72A-777B-4A9C-8049-C14A14FC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85EFC7-A856-4023-981E-AB4B304E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721A24-6962-4E48-AD22-A2222E6B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17CD7F-1AC1-4235-9D5F-95FBCB87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5BF196-465A-4193-829C-B561B63B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3652CD-F2E5-478F-B293-ECCFB4D8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493E7C-407D-491B-BCC2-B42375A7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06FB1A-8364-4DA1-9927-58A3A1F8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3D2174-51DB-4635-9F3C-2002E4F5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C49599-3E1C-40B3-B981-E86F52E9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38BD8F-DBBF-410B-816B-82E6883DE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61C5-B88C-41B9-BF9F-9D1B6556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47AA59-7222-4E7C-B22F-9004254F5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C21557-36D6-4556-BF2D-5D64298DB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7E4B3D-3BCC-4665-96C8-3DE195FA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3155F1-4386-412F-A100-33DF9AAA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0DF455-8795-4517-9BF7-368C3580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25069A-41A7-457C-B750-5780977D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6A29BC-5147-4303-83B7-4368B959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9DBF5C-5469-4C17-8269-8D976AC8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BB1FF0-1DE3-4FA6-BD9E-1D4AA2FB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4B25D4-B203-42F5-8687-08E10550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1A75-913C-4926-85B7-D208F7B1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755143-FCDE-4F54-933C-C29EB743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CFE1BF-5C1F-493B-AAE2-6E5507161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22697C-7A2D-4E91-8F45-B811BDA8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F54166-9294-4256-BC2C-2B49DDF90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53E850-02EA-47C9-9272-31574A9F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513466-07A9-485C-8054-AFCB16AB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381A87-1B96-427D-9373-2E1E86A8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8BC642-A425-443D-9A20-483D61B4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DB1F71-CC43-44D8-8415-9C495059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C691A2-34C7-494B-8D52-38955669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43DC-8107-42E9-BF05-9E37B4D0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A5EA-8F13-48A9-989D-F35F2058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D7F784-0D92-4F80-8C3A-CD2A923D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DC65CB-7F33-44D6-9315-73A75843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A25BDF-DB9F-41BE-8A03-D1F72930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BB6512-00C0-4E74-9E87-28B0C453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E26169-A71A-4107-864B-C7B0EAD75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3EAF94-8250-40D4-8FD6-E197E0E68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7A6B00-8E2E-4764-B841-91BDFBC1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3FDBFC-762E-40E8-809E-1A50AA1B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0E3E7A-5387-474E-9DA8-1D38C806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4541C2-3CE4-4608-85C1-A44A5478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663A-25B0-43D4-92CC-B0A55DA4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E96FA2-C254-424D-956D-2F0E5583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8C3479-1015-431E-8471-342127BF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EDB5E1-4FAC-48BE-BA55-2CE37FF2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136B91-86A5-4F76-AB0D-CDE598BC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0C30D9-B7C5-4DF8-BA3F-F34CC1B5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F2238A-1739-47B2-967F-890E0BC3B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3E2072-EFA9-4B3A-A870-3E91160D4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CE2C-42BF-46B1-9846-27A8B88C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2067-095D-4A5F-BEEF-52F723220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9844-8845-4A4D-A822-DEBBD9AB5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02231-A74E-4920-9F78-F068ADA32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F6E68-D659-4AD0-BE47-056DF730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86DBD-AE78-46D4-B407-87C1632F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45A5B-38AB-4416-B315-C8C1F845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F4F63-EF03-4CEA-A9B4-5848A3B2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DD63-1409-4D23-9CC2-71A0EBB0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EC437-36DA-4723-B942-74290CCC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6F29F-0244-4D47-8BA3-7B03E16B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E148E-E237-4051-8195-DAB4D80F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C73C0-A7FC-4E42-B5A1-2AC0DAAD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5C516-9EA7-4FFC-B60F-8FF17517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27364-2520-47C4-946D-5403F58BF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3834E-0827-4DF9-AFDE-853D7C730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9AB2F-EBD4-4924-AA43-3258C0BD5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2B2CA-CFA1-467F-BDE2-B3989EBC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1DDE6-21C2-4D0B-B61C-45EFDF8D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2CAC-24D9-4C45-A914-D3829496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2C0B3-8438-4118-B628-44D0A752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6ACC3-46AC-4AD6-A9B0-4AE7D1F9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700A8-13B5-4EBE-9E5F-BF555125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184E7-12BE-4838-9B91-BF5D9231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84BD8-0F0A-4740-AEF9-EBDBADC1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3287F-9334-4B39-8495-05B34BEC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4B4FB-D2D0-41D9-8B0B-54FF8907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70F48-E522-48E2-98BA-DB4D068D0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40988-5E44-42BC-AC54-0554FD281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C1C28-9FF9-41EB-86DD-4D97285AA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DC85-E85B-419B-8478-289E05EE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42711-9981-48F9-B5F6-D8A3EF79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5B6DF-E81E-4CCB-8A6C-6EA75F60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15693-1D53-43BB-B97B-348ABB53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F27D8-D4D7-48CD-AA3F-9338E5AE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AFFE2-EBEC-4A8D-88E4-457086CE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4C979-C154-416B-BFDB-E2ACEB9B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715B6-956D-441B-B891-AEFF9CE1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CB682-44F3-4EA3-A27C-C03F9163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9E7C2-0AFF-44D2-BCE8-01618ADE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BE3AE-F06F-42E5-BEBD-62F831632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19CB-2748-4D5D-85B0-82A8874B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C7F53-A7D5-4641-9647-79A2F4D33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54A86-250B-4C0C-AD89-733F4F67D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2FC32-4D74-4668-AA4A-E360C9EA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0E90F-AEDC-4DA3-9DCE-92F82CBF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6F363-4255-4FE4-AFE1-D76BCB55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90164-97EE-49F4-AC65-4613C9C3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50924-FDF2-4086-8E4E-1FBD39A0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661A9-933F-45FD-90E9-A4BAFE5E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61230-50C6-4931-A6F3-52F0B20A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C026E-4CA9-44ED-B5F8-1BD7B68F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A1A5-8BE6-41BB-BB6F-E8F09E41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CDD3E-4C74-47B5-AAD3-96AF3542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41A43-DB8E-420F-91A8-40C664C02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2A73A-D942-499F-A49C-2BD4531C7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3371F-7E64-4CA1-B84F-4BE37592A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34F5A-6A0E-4464-B503-B512E4ED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0FC77-5376-44A8-BFFB-ED2585B6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AA1BF-A7AC-458D-A011-F0E4FE3A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BE649-6F78-47B2-BF8C-FFE73D0F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F394F-CABF-4A6D-B2DE-DCFCACBA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80FC4-8500-4408-9046-D37306E3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7049-DAEA-467F-AE71-99B1EDEE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9DCB6-90AC-45A5-BA77-B4538BEB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3BE27-7FDE-4D1B-9FAD-CD1F9CAA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41C62-940C-47D0-98A2-C66C2123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A5C6C-C01A-4B65-83C9-70EA27AC1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2D830-B765-44B7-A233-857A8F83C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73089-41E7-4A79-B23D-09C8440B7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4459C-15B7-45BC-95E9-2DC038A6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FACF9-C887-4140-9975-893B0E17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EE081-9955-4DBD-A18E-F0CC4B47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1B249-6940-4EF7-847B-E7DD6352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A79A-1A52-458C-9EF5-C7D22F7F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CDBC3-BDB7-475E-9247-538ECB63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6B4A1-3601-4255-92BC-2212DFC4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F424D-9595-456E-884B-82239B6C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F0E1E-7D98-4EFD-B346-0B82F4E8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8C5AB-5A75-44DA-9EBE-E6E880F8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AFF1E-3C0A-45E5-93BC-88028FF49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F9153-26D8-4300-A333-73AD1DB67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03CBBC-D3C1-4F9A-8D51-FA483C25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E425F-F55E-48EE-9F66-0346629E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70407-E6BF-4AE5-B0A5-4A7D0F00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8C18-3A8E-40AB-A277-173D0E199E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6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6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7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7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7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7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7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77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8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79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9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93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794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79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96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797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98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99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0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1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2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3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4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0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FC90-36E6-4EB3-9833-DA22C31F8F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5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5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6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6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6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86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6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6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87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80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881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88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83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884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5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6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7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8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9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90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91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9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85CE-2ADD-4398-8439-DAFB46B862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3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3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4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4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4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95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5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5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96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6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67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968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96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70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971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2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3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4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5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6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7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8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97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F1BC-B32E-49B0-B44A-63DEFD8059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2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3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3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3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3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4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4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5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05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5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54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055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05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57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058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59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0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1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2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3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4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5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06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3B09-0FAA-4A0B-97F5-CC60D28248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1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1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2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2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2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12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2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3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13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3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41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142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14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44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145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6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7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8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9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0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1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2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15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 type="dt" idx="4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 type="ftr" idx="4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 type="sldNum" idx="4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F5E6-929C-4916-92CB-82AF57EA33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9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9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0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20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21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21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1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1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22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2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2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22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23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3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23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3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4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6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7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9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24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5E25-F484-4C17-BABE-A7DE4785BB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8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28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9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29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29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30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0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30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31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1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15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316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31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18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319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0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1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2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3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4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5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6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2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AD9E-0154-44B7-816D-9454DD3A6B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7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7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8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38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38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8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8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38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9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39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39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40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02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403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40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05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406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07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08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09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0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1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2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3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41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F3E9-CC63-4C28-815A-23D65A4337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5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6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6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47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47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47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7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47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48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48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89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490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49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92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493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4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5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6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7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8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9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00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50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E1B1-630E-462F-BBE4-E2CB5EC297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0760" y="4661280"/>
              <a:ext cx="998640" cy="4633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6640" y="4640040"/>
              <a:ext cx="995400" cy="4586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4760" y="4626000"/>
              <a:ext cx="660240" cy="4190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76D3-C9EB-4B12-9354-75776F3454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5294-A684-4345-A8FE-2C4E932534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4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5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5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5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5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6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6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6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1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272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27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74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275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6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7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8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9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0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1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8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8818-B559-4EE8-A9D5-C0937B2A6E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2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3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4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4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4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4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5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5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36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6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36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3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4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6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7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9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7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BF16-A014-456C-BC58-AB1E26DC24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1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2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2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3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3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3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44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4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5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446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4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48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49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0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1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2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3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4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5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6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5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DCC1-3762-4EDD-A64F-4709F2C67A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1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1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1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1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2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2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52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3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32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533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53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35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536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7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8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0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1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2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3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4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9C76-0873-4C51-93FB-19E9A72BA8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9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9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0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0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0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0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61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1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19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620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62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22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623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4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5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6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7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8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9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0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3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621A-C6D5-47FB-AA1A-F39308EF31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7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8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8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8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9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9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9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70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0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06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707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70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09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710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1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2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3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4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5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6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7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71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B306-C4FD-4A2E-8FF5-B98561C0FD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371600" y="1928520"/>
            <a:ext cx="6400800" cy="1855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99ccff"/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Моделирование как инструмент познавательно-речевой активности дете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алабанова Милена Валерьевна, старший воспитатель МБДОУ д/с «Золотой петушок» Брянского райо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Этапы работы с модель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здание моделе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цесс запомина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спользование моделей для организации собственной деятельности (ребёнок должен действовать самостоятельно с моделью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 txBox="1"/>
          <p:nvPr/>
        </p:nvSpPr>
        <p:spPr>
          <a:xfrm>
            <a:off x="428760" y="571680"/>
            <a:ext cx="79531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3200" spc="-1" strike="noStrike">
                <a:solidFill>
                  <a:srgbClr val="000073"/>
                </a:solidFill>
                <a:latin typeface="Comic Sans MS"/>
              </a:rPr>
              <a:t>«Учите ребенка каким-нибудь неизвестным  ему пяти словам – он будет долго и напрасно мучиться, но свяжите двадцать таких слов с картинками, и он усвоит их на лету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3"/>
                </a:solidFill>
                <a:latin typeface="Comic Sans MS"/>
              </a:rPr>
              <a:t>К.Д. Ушинск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9" name="Picture 5" descr="0012-012-Spasibo-za-vniman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826560" y="151920"/>
            <a:ext cx="67294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риемы, используемые  при формировании познавательно – речевого развития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e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e5"/>
                </a:solidFill>
                <a:latin typeface="Comic Sans MS"/>
              </a:rPr>
              <a:t>Наглядные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наблюдения, рассматривание картин, демонстрации фильмов, слайдов, презентац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e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e5"/>
                </a:solidFill>
                <a:latin typeface="Comic Sans MS"/>
              </a:rPr>
              <a:t>Практически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упражнения, игры, эксперименты и опыты, моделирование, проектная деятельность, исследовательско-поисковая  деятельнос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e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e5"/>
                </a:solidFill>
                <a:latin typeface="Comic Sans MS"/>
              </a:rPr>
              <a:t>Словесны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рассказ, чтение, вопросы, беседы, использование художественного слов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Основные задачи познавательно-речевой деятельност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394920" y="1484280"/>
            <a:ext cx="8209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огащать  познавательную сферу детей информацией через занятия, наблюдения, экспериментальную деятельность, речь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огащать эмоционально-чувственный опыт в процессе непосредственного общения с предметами, явлениями, людьм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мочь упорядочить сведения об окружающем мире, формировать представления его целостност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ормировать бережное отношение к окружающему миру, закреплять положительные эмоции, умение их проявлять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здать условия, способствующие выявлению и поддержанию интересов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ддерживать условия для развития познавательно-речевых процессов дошкольников во всех видах 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Для правильной организации организации познавательно-речевого развития выделяются следующие аспекты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чь педагог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ирование представлений об окружающем мир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витие любознательн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нсорное воспит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г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/>
          </p:nvPr>
        </p:nvSpPr>
        <p:spPr>
          <a:xfrm>
            <a:off x="468360" y="213840"/>
            <a:ext cx="791352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a0aff"/>
                </a:solidFill>
                <a:latin typeface="Comic Sans MS"/>
              </a:rPr>
              <a:t>Моделирование  -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это одно из средств познания действительности, исследование каких-либо явлений, процессов посредством построения и изучения моделе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a0aff"/>
                </a:solidFill>
                <a:latin typeface="Comic Sans MS"/>
              </a:rPr>
              <a:t>Модель -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 любой образ (мысленный или условный; изображения, описания, схема, чертеж, график, план) какого-либо процесса или явления (оригинала данной модели), используемый в качестве заместител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Виды моделиров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дметн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дметно – схематическ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рафическ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одель должн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2" name=""/>
          <p:cNvSpPr txBox="1"/>
          <p:nvPr/>
        </p:nvSpPr>
        <p:spPr>
          <a:xfrm>
            <a:off x="685800" y="1828440"/>
            <a:ext cx="76960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етко отображать основные свойства и отношения, которые являются объектом познани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ыть простой для восприятия и доступной для создания действий с ней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Ярко и отчетливо передавать с ее помощью те свойства и отношения, которые должны быть освоены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легчать позна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Закономерности формирования моделирования у дошкольник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4" name=""/>
          <p:cNvSpPr txBox="1"/>
          <p:nvPr/>
        </p:nvSpPr>
        <p:spPr>
          <a:xfrm>
            <a:off x="285480" y="135720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делирование выполняется на знакомом детям материале, с опорой на знания, полученные на занятиях или в обыденной жизн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Целесообразно начинать с моделирования единичных конкретных ситуаций, а позднее с построения моделей, имеющих обобщенный характер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ледует начинать с иконических  моделей, т.е. сохраняющих известное сходство  с моделируемым объектом, постоянно переходя к условно- символическим изображениям отношений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"/>
          <p:cNvSpPr txBox="1"/>
          <p:nvPr/>
        </p:nvSpPr>
        <p:spPr>
          <a:xfrm>
            <a:off x="685800" y="713880"/>
            <a:ext cx="7696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чинать следует с моделирования пространственных отношений, а затем переходить к моделированию временных, логических и т. д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учение моделированию осуществляется легче, если начинается с применения готовых моделей, а затем их построени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цесс обучения моделированию заканчивается интериоризацией  действий, т.е. переводом планирования во внутренний пла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2:59:41Z</dcterms:created>
  <dc:creator>Оля</dc:creator>
  <dc:description/>
  <dc:language>en-US</dc:language>
  <cp:lastModifiedBy>Doshkola</cp:lastModifiedBy>
  <dcterms:modified xsi:type="dcterms:W3CDTF">2017-11-28T07:59:00Z</dcterms:modified>
  <cp:revision>32</cp:revision>
  <dc:subject/>
  <dc:title>Моделирование в детском саду</dc:title>
</cp:coreProperties>
</file>