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9A92-E736-40A2-82A6-CA57ECF4A7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6474-46E8-426E-9B9F-94A5D40D75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75B-946C-453D-B98D-8AEC0BF4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B0D-8D4A-4E58-85FB-8A29E2FB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954-5A79-4C7B-B1DA-79D1D064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A1D-2212-4387-8683-30CF43C7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98A-F624-41B5-BF5A-8A069707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37B-FD4E-484D-91E7-82E0F0E3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CB03-D289-4972-8D41-1A7C5D59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E9BD-B4C6-4B1F-AD8F-0C2B9C8F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951D-C342-44F1-B0FE-D685079C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7E36-BFFF-401F-89ED-970E5872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9697-8BAF-40CC-92DA-02006496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CF8F-F975-4404-B5A5-3DBD4A88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3105-2999-4087-B434-FF659AF233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videos?s=pop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hyperlink" Target="http://www.youtube.com/videos?c=10" TargetMode="External"/><Relationship Id="rId11" Type="http://schemas.openxmlformats.org/officeDocument/2006/relationships/hyperlink" Target="http://www.youtube.com/videos?c=24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www.youtube.com/news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www.youtube.com/videos?c=1" TargetMode="External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hyperlink" Target="http://www.youtube.com/sports" TargetMode="External"/><Relationship Id="rId19" Type="http://schemas.openxmlformats.org/officeDocument/2006/relationships/hyperlink" Target="http://www.youtube.com/videos?c=26" TargetMode="External"/><Relationship Id="rId20" Type="http://schemas.openxmlformats.org/officeDocument/2006/relationships/image" Target="../media/image12.png"/><Relationship Id="rId21" Type="http://schemas.openxmlformats.org/officeDocument/2006/relationships/hyperlink" Target="http://www.youtube.com/videos?c=28" TargetMode="External"/><Relationship Id="rId22" Type="http://schemas.openxmlformats.org/officeDocument/2006/relationships/image" Target="../media/image13.png"/><Relationship Id="rId23" Type="http://schemas.openxmlformats.org/officeDocument/2006/relationships/hyperlink" Target="http://www.youtube.com/videos?c=2" TargetMode="External"/><Relationship Id="rId24" Type="http://schemas.openxmlformats.org/officeDocument/2006/relationships/image" Target="../media/image14.png"/><Relationship Id="rId25" Type="http://schemas.openxmlformats.org/officeDocument/2006/relationships/hyperlink" Target="http://www.youtube.com/videos?s=mf" TargetMode="Externa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savevid.com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youtube.com/watch?v=jOejYwjx4b4&amp;feature=related" TargetMode="External"/><Relationship Id="rId3" Type="http://schemas.openxmlformats.org/officeDocument/2006/relationships/hyperlink" Target="http://www.youtube.com/watch?v=l88D1Si0BQI&amp;feature=related" TargetMode="External"/><Relationship Id="rId4" Type="http://schemas.openxmlformats.org/officeDocument/2006/relationships/hyperlink" Target="http://www.youtube.com/watch?v=KTe0ubUE65Y&amp;feature=related" TargetMode="External"/><Relationship Id="rId5" Type="http://schemas.openxmlformats.org/officeDocument/2006/relationships/hyperlink" Target="http://www.youtube.com/watch?v=-7Mvnh6_TiY&amp;feature=related" TargetMode="External"/><Relationship Id="rId6" Type="http://schemas.openxmlformats.org/officeDocument/2006/relationships/hyperlink" Target="http://www.youtube.com/watch?v=ZP9Rzszq55A&amp;feature=related" TargetMode="External"/><Relationship Id="rId7" Type="http://schemas.openxmlformats.org/officeDocument/2006/relationships/hyperlink" Target="http://www.youtube.com/watch?v=SJhf7xUE4to&amp;feature=related" TargetMode="External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763640" y="558972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итюгина Татьяна Геннадьевна, учитель английского языка МБОУ - Кокинская СОШ Бря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71640" y="177336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stores.blitzhobbysports.com/images/store_version1/youtube_logo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ru.wikipedia.org/wiki/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seonews.ru/events/detail/43237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signature.jpg"/>
          <p:cNvPicPr/>
          <p:nvPr/>
        </p:nvPicPr>
        <p:blipFill>
          <a:blip r:embed="rId2"/>
          <a:stretch/>
        </p:blipFill>
        <p:spPr>
          <a:xfrm>
            <a:off x="2328840" y="2766960"/>
            <a:ext cx="3979800" cy="2951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1403280" y="573264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yanamityugina@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55640" y="1557360"/>
            <a:ext cx="7920000" cy="3569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YouTube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( ю-тьюб) —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сервис, предоставляющий услуги хостинга видео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ользователи могут добавлять, просматривать и комментировать те или иные видеоза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Благодаря простоте и удобству использования, YouTube стал популярнейшим видеохостингом и третьим сайтом в мире по количеству посет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жедневное количество просмотров видео на сайте составляет более 2 миллиар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На сайте представлены как профессионально снятые фильмы и клипы, так и любительские видеозаписи, включая видеоб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2" descr=""/>
          <p:cNvPicPr/>
          <p:nvPr/>
        </p:nvPicPr>
        <p:blipFill>
          <a:blip r:embed="rId1"/>
          <a:stretch/>
        </p:blipFill>
        <p:spPr>
          <a:xfrm>
            <a:off x="1146240" y="5248440"/>
            <a:ext cx="655956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5" descr=""/>
          <p:cNvPicPr/>
          <p:nvPr/>
        </p:nvPicPr>
        <p:blipFill>
          <a:blip r:embed="rId1"/>
          <a:stretch/>
        </p:blipFill>
        <p:spPr>
          <a:xfrm>
            <a:off x="1116000" y="407880"/>
            <a:ext cx="7149960" cy="2414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611280" y="3068640"/>
            <a:ext cx="8208720" cy="30200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улярность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стет с каждым д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скве число его посетителей уже сопоставимо с телеаудитор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 мнение, что русификация видеопортала не сильно увеличит его аудиторию, так как искать по русским словам уже можно года пол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ими пользователями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.com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своен, в том числе и поли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0"/>
          <p:cNvSpPr/>
          <p:nvPr/>
        </p:nvSpPr>
        <p:spPr>
          <a:xfrm>
            <a:off x="755640" y="189000"/>
            <a:ext cx="705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Самые популярны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8" descr="Значок видео"/>
          <p:cNvPicPr/>
          <p:nvPr/>
        </p:nvPicPr>
        <p:blipFill>
          <a:blip r:embed="rId2"/>
          <a:stretch/>
        </p:blipFill>
        <p:spPr>
          <a:xfrm>
            <a:off x="669960" y="1468440"/>
            <a:ext cx="1469880" cy="1109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http://s.ytimg.com/yt/img/pixel-vfl3z5WfW.gif"/>
          <p:cNvPicPr/>
          <p:nvPr/>
        </p:nvPicPr>
        <p:blipFill>
          <a:blip r:embed="rId3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http://s.ytimg.com/yt/img/pixel-vfl3z5WfW.gif"/>
          <p:cNvPicPr/>
          <p:nvPr/>
        </p:nvPicPr>
        <p:blipFill>
          <a:blip r:embed="rId4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http://s.ytimg.com/yt/img/pixel-vfl3z5WfW.gif"/>
          <p:cNvPicPr/>
          <p:nvPr/>
        </p:nvPicPr>
        <p:blipFill>
          <a:blip r:embed="rId5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Значок видео"/>
          <p:cNvPicPr/>
          <p:nvPr/>
        </p:nvPicPr>
        <p:blipFill>
          <a:blip r:embed="rId6"/>
          <a:stretch/>
        </p:blipFill>
        <p:spPr>
          <a:xfrm>
            <a:off x="3548160" y="1468440"/>
            <a:ext cx="1468440" cy="1109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3" descr="http://s.ytimg.com/yt/img/pixel-vfl3z5WfW.gif"/>
          <p:cNvPicPr/>
          <p:nvPr/>
        </p:nvPicPr>
        <p:blipFill>
          <a:blip r:embed="rId7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4" descr="http://s.ytimg.com/yt/img/pixel-vfl3z5WfW.gif"/>
          <p:cNvPicPr/>
          <p:nvPr/>
        </p:nvPicPr>
        <p:blipFill>
          <a:blip r:embed="rId8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5" descr="http://s.ytimg.com/yt/img/pixel-vfl3z5WfW.gif"/>
          <p:cNvPicPr/>
          <p:nvPr/>
        </p:nvPicPr>
        <p:blipFill>
          <a:blip r:embed="rId9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1"/>
          <p:cNvSpPr/>
          <p:nvPr/>
        </p:nvSpPr>
        <p:spPr>
          <a:xfrm>
            <a:off x="3564000" y="9828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Музы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539640" y="9079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1"/>
              </a:rPr>
              <a:t>Развлеч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6" descr="Значок видео"/>
          <p:cNvPicPr/>
          <p:nvPr/>
        </p:nvPicPr>
        <p:blipFill>
          <a:blip r:embed="rId12"/>
          <a:stretch/>
        </p:blipFill>
        <p:spPr>
          <a:xfrm>
            <a:off x="6211800" y="1542960"/>
            <a:ext cx="1401840" cy="1054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9"/>
          <p:cNvSpPr/>
          <p:nvPr/>
        </p:nvSpPr>
        <p:spPr>
          <a:xfrm>
            <a:off x="5796000" y="10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3"/>
              </a:rPr>
              <a:t>Новости и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0" descr="Значок видео"/>
          <p:cNvPicPr/>
          <p:nvPr/>
        </p:nvPicPr>
        <p:blipFill>
          <a:blip r:embed="rId14"/>
          <a:stretch/>
        </p:blipFill>
        <p:spPr>
          <a:xfrm>
            <a:off x="738360" y="3267000"/>
            <a:ext cx="1365120" cy="1036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1"/>
          <p:cNvSpPr/>
          <p:nvPr/>
        </p:nvSpPr>
        <p:spPr>
          <a:xfrm>
            <a:off x="250920" y="28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5"/>
              </a:rPr>
              <a:t>Фильмы и анимац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4" descr="Значок видео"/>
          <p:cNvPicPr/>
          <p:nvPr/>
        </p:nvPicPr>
        <p:blipFill>
          <a:blip r:embed="rId16"/>
          <a:stretch/>
        </p:blipFill>
        <p:spPr>
          <a:xfrm>
            <a:off x="3548160" y="3267000"/>
            <a:ext cx="1468440" cy="1116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8" descr="Значок видео"/>
          <p:cNvPicPr/>
          <p:nvPr/>
        </p:nvPicPr>
        <p:blipFill>
          <a:blip r:embed="rId17"/>
          <a:stretch/>
        </p:blipFill>
        <p:spPr>
          <a:xfrm>
            <a:off x="6211800" y="3340080"/>
            <a:ext cx="1463760" cy="1103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4"/>
          <p:cNvSpPr/>
          <p:nvPr/>
        </p:nvSpPr>
        <p:spPr>
          <a:xfrm>
            <a:off x="3348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8"/>
              </a:rPr>
              <a:t>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579600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9"/>
              </a:rPr>
              <a:t>Обучение и сти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2" descr="Значок видео"/>
          <p:cNvPicPr/>
          <p:nvPr/>
        </p:nvPicPr>
        <p:blipFill>
          <a:blip r:embed="rId20"/>
          <a:stretch/>
        </p:blipFill>
        <p:spPr>
          <a:xfrm>
            <a:off x="738360" y="5211720"/>
            <a:ext cx="1461960" cy="1103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7"/>
          <p:cNvSpPr/>
          <p:nvPr/>
        </p:nvSpPr>
        <p:spPr>
          <a:xfrm>
            <a:off x="539640" y="47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1"/>
              </a:rPr>
              <a:t>Наука и тех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6" descr="Значок видео"/>
          <p:cNvPicPr/>
          <p:nvPr/>
        </p:nvPicPr>
        <p:blipFill>
          <a:blip r:embed="rId22"/>
          <a:stretch/>
        </p:blipFill>
        <p:spPr>
          <a:xfrm>
            <a:off x="3492360" y="5138640"/>
            <a:ext cx="1567080" cy="1182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39"/>
          <p:cNvSpPr/>
          <p:nvPr/>
        </p:nvSpPr>
        <p:spPr>
          <a:xfrm>
            <a:off x="3203640" y="4724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3"/>
              </a:rPr>
              <a:t>Авто и тран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4" descr="Значок видео"/>
          <p:cNvPicPr/>
          <p:nvPr/>
        </p:nvPicPr>
        <p:blipFill>
          <a:blip r:embed="rId24"/>
          <a:stretch/>
        </p:blipFill>
        <p:spPr>
          <a:xfrm>
            <a:off x="6211800" y="5072040"/>
            <a:ext cx="1663920" cy="1249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1"/>
          <p:cNvSpPr/>
          <p:nvPr/>
        </p:nvSpPr>
        <p:spPr>
          <a:xfrm>
            <a:off x="5867280" y="4581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5"/>
              </a:rPr>
              <a:t>Топ избранног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534160" cy="1255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ойте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оявившемся окн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ИСК»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ерите  нужную тему (например «Юбилей королевы Елизаветы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рава появятся несколько вариантов видео фрагментов на заданную т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ерите нужный по качеству, по времени, по другим вашим параметр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мотрите фрагмен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е ссылку на него для дальнейшего скач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2"/>
          <p:cNvSpPr/>
          <p:nvPr/>
        </p:nvSpPr>
        <p:spPr>
          <a:xfrm>
            <a:off x="1187280" y="1557360"/>
            <a:ext cx="396108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"/>
          <p:cNvSpPr/>
          <p:nvPr/>
        </p:nvSpPr>
        <p:spPr>
          <a:xfrm>
            <a:off x="108000" y="549360"/>
            <a:ext cx="395928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ссылку на нужный фраг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ть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savevid.com/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вится ок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тавить ссылку на ви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жать «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ownload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рать формат виде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LV,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P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фрагмен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ужную пап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4522680" y="3840120"/>
            <a:ext cx="3956040" cy="2494080"/>
          </a:xfrm>
          <a:prstGeom prst="rect">
            <a:avLst/>
          </a:prstGeom>
          <a:ln w="0">
            <a:noFill/>
          </a:ln>
        </p:spPr>
      </p:pic>
      <p:cxnSp>
        <p:nvCxnSpPr>
          <p:cNvPr id="86" name="Прямая со стрелкой 7"/>
          <p:cNvCxnSpPr/>
          <p:nvPr/>
        </p:nvCxnSpPr>
        <p:spPr>
          <a:xfrm>
            <a:off x="4499640" y="3644640"/>
            <a:ext cx="719640" cy="136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7" name="Прямая со стрелкой 12"/>
          <p:cNvCxnSpPr/>
          <p:nvPr/>
        </p:nvCxnSpPr>
        <p:spPr>
          <a:xfrm>
            <a:off x="3779640" y="4076280"/>
            <a:ext cx="3169080" cy="86580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Овал 2"/>
          <p:cNvSpPr/>
          <p:nvPr/>
        </p:nvSpPr>
        <p:spPr>
          <a:xfrm>
            <a:off x="5219640" y="2924280"/>
            <a:ext cx="1224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"/>
          <p:cNvSpPr/>
          <p:nvPr/>
        </p:nvSpPr>
        <p:spPr>
          <a:xfrm>
            <a:off x="1403280" y="2924280"/>
            <a:ext cx="3456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"/>
          <p:cNvSpPr/>
          <p:nvPr/>
        </p:nvSpPr>
        <p:spPr>
          <a:xfrm>
            <a:off x="3924360" y="3789360"/>
            <a:ext cx="576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2050920" y="4076640"/>
            <a:ext cx="576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11280" y="1483920"/>
            <a:ext cx="8229600" cy="2521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youtube.com/watch?v=jOejYwjx4b4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youtube.com/watch?v=l88D1Si0BQI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youtube.com/watch?v=KTe0ubUE65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youtube.com/watch?v=-7Mvnh6_Ti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youtube.com/watch?v=ZP9Rzszq55A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SJhf7xUE4to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youtube_logo.jpg"/>
          <p:cNvPicPr/>
          <p:nvPr/>
        </p:nvPicPr>
        <p:blipFill>
          <a:blip r:embed="rId8"/>
          <a:stretch/>
        </p:blipFill>
        <p:spPr>
          <a:xfrm>
            <a:off x="1835280" y="3859200"/>
            <a:ext cx="5688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4:47:51Z</dcterms:created>
  <dc:creator>Tatyana</dc:creator>
  <dc:description/>
  <dc:language>en-US</dc:language>
  <cp:lastModifiedBy>Tanya</cp:lastModifiedBy>
  <dcterms:modified xsi:type="dcterms:W3CDTF">2013-10-29T12:08:15Z</dcterms:modified>
  <cp:revision>15</cp:revision>
  <dc:subject/>
  <dc:title>Слайд 1</dc:title>
</cp:coreProperties>
</file>