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3A8A-6CBE-447B-8E58-0928CAD4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132C-DA72-4C71-95EE-EB0D3F2F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3494-BA5B-434E-986E-B5071396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AA5B-FEF5-44AE-8663-FF6EF504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486A-F3F9-4BC5-A82F-00538972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45BB-9654-4E28-8AC7-F755E8E0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D114-3B59-4E79-9304-6ECD028A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2E4C-1011-47B6-B17B-D2512F7C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85DA-9701-4E13-AE3C-922B4F33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FE31-452C-4DBE-94C1-7C24DB9F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67FF-A7B1-430F-BC2A-47487DB8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F4A-6714-4D81-A26A-B0B42166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A9E2-4148-41A5-8B35-F310FED1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6B2B-EAE7-4223-8ED4-208CB257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B405-0A2F-4738-8EFA-41081813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6DDA-D268-40D8-9FBB-3FBC7EBB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7486-FDFA-40D2-9A50-F7F91E08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E833-7462-4803-A352-B4283174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D509-9DE4-4F4A-9506-9DB55E25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060C-0B49-449F-99B4-C77C399F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AD8-39DD-48A1-B279-E1A97F62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319-22E6-41D4-AF36-52E8BADE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FB5-92E3-4D44-AA8A-A52F933B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E12-6578-4AE2-8A36-8E3F8456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EB8B-EF8B-4809-B4C7-BD739CF71FE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0EA7-4B8C-46DC-927C-BDA0763A625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48720" cy="63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правление качеством образования в образовательной организации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 основе диагностико – технологического подход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ва С. С.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. директора по УВР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редняя общеобразовательная школа № 1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Героя Советского Союза Н. И. Чувина» Брянского района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E699-19E3-4168-8954-26ADCB81E0A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9" descr="Изображение 007"/>
          <p:cNvPicPr/>
          <p:nvPr/>
        </p:nvPicPr>
        <p:blipFill>
          <a:blip r:embed="rId1"/>
          <a:stretch/>
        </p:blipFill>
        <p:spPr>
          <a:xfrm>
            <a:off x="1889280" y="2852640"/>
            <a:ext cx="534024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, история, география, т. к. в 4 классе – ВПР по окружающему миру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(по русскому языку, математике, истории, биологии)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  + экзамен (по литературе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 (защита проекта  - февральская сессия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6D81-E4C0-4BA9-9B2B-10C95B351B9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8" descr="https://www.youcubed.org/wp-content/uploads/2017/03/common_core_math.jpg"/>
          <p:cNvPicPr/>
          <p:nvPr/>
        </p:nvPicPr>
        <p:blipFill>
          <a:blip r:embed="rId1"/>
          <a:stretch/>
        </p:blipFill>
        <p:spPr>
          <a:xfrm>
            <a:off x="108000" y="115920"/>
            <a:ext cx="3416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E004-5D0B-4B85-B530-2C5A262B964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Таблица 5" descr=""/>
          <p:cNvPicPr/>
          <p:nvPr/>
        </p:nvPicPr>
        <p:blipFill>
          <a:blip r:embed="rId1"/>
          <a:stretch/>
        </p:blipFill>
        <p:spPr>
          <a:xfrm>
            <a:off x="536400" y="2157480"/>
            <a:ext cx="7778880" cy="3725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обучающегося  4 «А» класса за Ι четверть по предметным результа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E3D7-8053-4337-8BAB-A6B88DAF737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учащегося  7  класса за Ι четверть по предметным результатам (Лист 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Таблица 6" descr=""/>
          <p:cNvPicPr/>
          <p:nvPr/>
        </p:nvPicPr>
        <p:blipFill>
          <a:blip r:embed="rId1"/>
          <a:stretch/>
        </p:blipFill>
        <p:spPr>
          <a:xfrm>
            <a:off x="249120" y="2030400"/>
            <a:ext cx="85708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1 класс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зовые работы / пробные экзамены (по материалам БЦОКО) – внутренняя /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37C8-A0A6-408C-9893-67145BA014D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6" descr="https://duelit.ru/wp-content/uploads/2014/06/shkola.jpg"/>
          <p:cNvPicPr/>
          <p:nvPr/>
        </p:nvPicPr>
        <p:blipFill>
          <a:blip r:embed="rId1"/>
          <a:stretch/>
        </p:blipFill>
        <p:spPr>
          <a:xfrm>
            <a:off x="179280" y="200160"/>
            <a:ext cx="246852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истема управления качеством образования на разных уровн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2E5E-C58D-41F6-9DF5-C546EB2FFC0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1446120"/>
          <a:ext cx="8858520" cy="5429520"/>
        </p:xfrm>
        <a:graphic>
          <a:graphicData uri="http://schemas.openxmlformats.org/drawingml/2006/table">
            <a:tbl>
              <a:tblPr/>
              <a:tblGrid>
                <a:gridCol w="1771920"/>
                <a:gridCol w="1771560"/>
                <a:gridCol w="1771560"/>
                <a:gridCol w="1771560"/>
                <a:gridCol w="1771920"/>
              </a:tblGrid>
              <a:tr h="381240"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й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8280"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для повышения качества образования для обучающихся и педагог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пределение методик, форм, критериев, показателей и процедур оценки результативности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еспечение эффективного социального партне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здание эффективной информационной систем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истематическое изучение образовательного спроса обучающихся, родителей, общественности по качеству обра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условий развития личности обучающегося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оведение оценки результативности  по установленной циклограмме и технологии мониторин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работка результатов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формление ЛИСТОВ ДОСТИЖЕНИЙ по предметным результатам. 5. Педагогическая рефлексия и взаимооценка колле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взаимодействия учителей-предметников, обучающихся, родителей по проведению мониторинга   классного коллекти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работка данных мониторинга уровня обучаемости обучающихся клас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формление ЛИСТОВ ДОСТИЖЕНИЙ по метапредметным, личностным результата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ндивидуальная работа с родителями по выполнению различных рекомендаций учителей-предметников и 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ремление к самопознанию, самовоспитанию, саморазвитию, самореализации, самопрезент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владение ключевыми компетентностями и культурой умственного тру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копление достижений ( в том числе и для формирования портфолио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в семье, обеспечивающих физическое, нравственное и интеллектуальное развитие личности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еспечение систематического контроля за результатами обучения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сполнение рекомендаций учителей, классного руководител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частие в соуправлении школо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результаты УВ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57BE-65BC-4055-97FB-A2C0DE7BE4F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5640" y="1052640"/>
          <a:ext cx="7704000" cy="5697360"/>
        </p:xfrm>
        <a:graphic>
          <a:graphicData uri="http://schemas.openxmlformats.org/drawingml/2006/table">
            <a:tbl>
              <a:tblPr/>
              <a:tblGrid>
                <a:gridCol w="2573280"/>
                <a:gridCol w="1709640"/>
                <a:gridCol w="1711440"/>
                <a:gridCol w="1709640"/>
              </a:tblGrid>
              <a:tr h="88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/2016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/2017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/2018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ян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26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муниц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регион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BA2B-E7C3-443A-A871-FE92E65BDFB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68360" y="1341360"/>
          <a:ext cx="8280360" cy="5332320"/>
        </p:xfrm>
        <a:graphic>
          <a:graphicData uri="http://schemas.openxmlformats.org/drawingml/2006/table">
            <a:tbl>
              <a:tblPr/>
              <a:tblGrid>
                <a:gridCol w="1289160"/>
                <a:gridCol w="712800"/>
                <a:gridCol w="838080"/>
                <a:gridCol w="725400"/>
                <a:gridCol w="785880"/>
                <a:gridCol w="665280"/>
                <a:gridCol w="1087200"/>
                <a:gridCol w="1087560"/>
                <a:gridCol w="1089000"/>
              </a:tblGrid>
              <a:tr h="730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/ отме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35,7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065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7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9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DC67-7EBF-4FD7-BEF2-16C9A097449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–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4000" y="1773360"/>
          <a:ext cx="8496000" cy="2952720"/>
        </p:xfrm>
        <a:graphic>
          <a:graphicData uri="http://schemas.openxmlformats.org/drawingml/2006/table">
            <a:tbl>
              <a:tblPr/>
              <a:tblGrid>
                <a:gridCol w="1222200"/>
                <a:gridCol w="676440"/>
                <a:gridCol w="1071360"/>
                <a:gridCol w="1212840"/>
                <a:gridCol w="496800"/>
                <a:gridCol w="505080"/>
                <a:gridCol w="1150920"/>
                <a:gridCol w="993600"/>
                <a:gridCol w="1166760"/>
              </a:tblGrid>
              <a:tr h="665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3823-F8C8-4102-BD85-7448643BD11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сем  коллегам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елаю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дагогических успехов и удачи!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3A4D-C71E-41AA-81F0-B9CC77AA7D8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56000" y="1988640"/>
            <a:ext cx="3810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3764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6589800" y="272088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т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581360" y="10526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1187280" y="4511520"/>
            <a:ext cx="303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 педагогического проце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5003640" y="4048200"/>
            <a:ext cx="389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й участник общ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учающимис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родителями, учител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361800" y="272736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 деятельности обучаю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395280" y="19018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1760400" y="91764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4" descr=""/>
          <p:cNvPicPr/>
          <p:nvPr/>
        </p:nvPicPr>
        <p:blipFill>
          <a:blip r:embed="rId1"/>
          <a:stretch/>
        </p:blipFill>
        <p:spPr>
          <a:xfrm>
            <a:off x="0" y="25895160"/>
            <a:ext cx="5856120" cy="328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Users\User\Desktop\Бобкова - Учитель года\DSC02799.JPG"/>
          <p:cNvPicPr/>
          <p:nvPr/>
        </p:nvPicPr>
        <p:blipFill>
          <a:blip r:embed="rId2"/>
          <a:stretch/>
        </p:blipFill>
        <p:spPr>
          <a:xfrm>
            <a:off x="2905200" y="1979640"/>
            <a:ext cx="36846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EC70-1691-4832-9591-0BC368B2CCC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2" descr="https://bigslide.ru/images/2/1208/831/img2.jpg"/>
          <p:cNvPicPr/>
          <p:nvPr/>
        </p:nvPicPr>
        <p:blipFill>
          <a:blip r:embed="rId1"/>
          <a:stretch/>
        </p:blipFill>
        <p:spPr>
          <a:xfrm>
            <a:off x="395280" y="209520"/>
            <a:ext cx="850104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ен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предварительный контроль,   стартовая диагностика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тематическая оцен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школьный мониторинг индивидуальных образовательных достижени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обучающих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оли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C15F-45FB-412F-B847-839E258350A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0" descr="https://c.pxhere.com/photos/95/40/still_life_school_retro_ink-1070694.jpg!d"/>
          <p:cNvPicPr/>
          <p:nvPr/>
        </p:nvPicPr>
        <p:blipFill>
          <a:blip r:embed="rId1"/>
          <a:stretch/>
        </p:blipFill>
        <p:spPr>
          <a:xfrm>
            <a:off x="5724360" y="4797360"/>
            <a:ext cx="3167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я оценка качества образовани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овые исследования муниципального, регионального и федерального уровн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CD94-924A-4CC0-9E20-852972B12BC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ш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Единая система качества образ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 (Национальные исследования качества образования по учебному предмету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(Всероссийские проверочные работы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исследования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профессиональных компетенций учите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0F2E-90C5-47C8-8106-5160027AD58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962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нализ работы по ФГОС НОО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ФГОС ООО) в ___ классе за 20__- 20__ учебный год </a:t>
            </a:r>
            <a:br>
              <a:rPr sz="28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О учителя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48664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езультаты вводного контроля -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езультаты внутришкольного мониторинга индивидуальных образовательных достижений – внутренняя оценка (в соответствии с планом ВШК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езультаты ВПР –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езультаты НИКО -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езультаты годовой промежуточной аттестации обучающихся по каждому учебному предмету –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результаты государственной итоговой аттестации - внешняя оценк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3C77-33CB-42FC-8D9B-4729E310270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https://okru.ru/files/images/20150201/1423070417_u3.jpg"/>
          <p:cNvPicPr/>
          <p:nvPr/>
        </p:nvPicPr>
        <p:blipFill>
          <a:blip r:embed="rId1"/>
          <a:stretch/>
        </p:blipFill>
        <p:spPr>
          <a:xfrm>
            <a:off x="108000" y="260280"/>
            <a:ext cx="1942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, 3 классы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(по каждому учебному предмету + итоговая комплексная работа на межпредметной основе (русский язык, литературное чтение, математика, окружающий мир)) - внутренняя оцен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редметных + метапредметных + личностных результа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86BE-0081-487E-BB55-55221371515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щита проектов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FE9B-ADBA-4BBD-B3E6-0F79D9C250D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8:11:03Z</dcterms:created>
  <dc:creator>проектор</dc:creator>
  <dc:description/>
  <dc:language>en-US</dc:language>
  <cp:lastModifiedBy>Пользователь Windows</cp:lastModifiedBy>
  <dcterms:modified xsi:type="dcterms:W3CDTF">2018-11-14T21:35:24Z</dcterms:modified>
  <cp:revision>57</cp:revision>
  <dc:subject/>
  <dc:title>Тема: «Ф. Абрамов «О чём плачут лошади»</dc:title>
</cp:coreProperties>
</file>