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 type="dt" idx="5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5"/>
          <p:cNvSpPr>
            <a:spLocks noGrp="1"/>
          </p:cNvSpPr>
          <p:nvPr>
            <p:ph type="ftr" idx="5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PlaceHolder 6"/>
          <p:cNvSpPr>
            <a:spLocks noGrp="1"/>
          </p:cNvSpPr>
          <p:nvPr>
            <p:ph type="sldNum" idx="5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D2FF-DF94-4373-9F51-D87CFF19CD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F5A0-3E76-4495-A0A6-0C62D478CA06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DBF1-C264-43F9-B960-C074E1158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674E-5BCF-4633-AD6D-FD04E5DD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4AEE76-F4A4-428F-87D9-BF13C973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63F0F-B412-4311-B07C-F9E8F2C2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007BB-C611-46E3-83BB-D5A9D882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11381-4221-4AE2-8AB4-FEA572D5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7AFD9-EC60-40DB-AB4A-69793409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49DFD-6290-42E0-AF2C-F49D413A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128D8-D4A3-4693-9E43-91899C0C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8EAC8-BEDC-41E1-87EF-E767C4B9E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EA225-9115-4F67-B408-FC51AD0AD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E4836A-A4DE-4494-8D80-ED3AEEAE5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C2E1-9E1A-4989-AA06-FF3FA3FA7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B5B729-A56A-4AFC-B3F1-AEF3B8B3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2B26B-A631-4DA0-BE2F-70E58867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5295DA-FC9C-405C-B92B-2A4ED130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8D3221-BCA7-473F-A550-187B8F0C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492FD0-B891-41D5-897C-8847AA41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6500A9-3541-4939-872F-AE4A212B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9FC6A-0C1C-4767-A242-99537CCA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D1B77B-9CCC-462E-9082-534E43C1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A135F8-ED5D-4387-9350-D05C4313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FE419-3CA4-4211-875D-5E01DC5FE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3086-974B-43D5-BB76-359D7C069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CD6666-AB04-4094-B808-45900AE63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87CD6-4967-4C13-8822-7D6D59D87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AEE85-FBB6-4E20-AFDA-504D034E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0E23B-1213-4DC8-BC0C-7135ABEE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4DDA4-C3C6-4FBE-BCDB-C4A3DED1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C3320-7D48-487E-BFE7-3D58A627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B12CE-EBF6-4BA2-AEB1-F7EF29BB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DB8C83-A67B-429E-9E97-86C171B8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ACF69-CAA6-4FB9-A56F-B207ECDD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9C1384-4378-4B26-9E81-BCC4FA9D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B942-A851-4CFC-B43A-185D48B8F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92A24-1DAF-4156-843F-E154D619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71EDF-72EB-4BD5-BC86-1B8463C82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6FE2B-FE80-4C9D-B732-A3A8F4B8A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B55ED3-A615-4A72-B04C-19BAAD8D2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1468CA-8099-4FD0-93C2-B7F9B739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DC0760-5808-4D0A-A6EE-1C1C9A25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A7F14A-407E-4220-9A4F-F633BE31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2AC1EE-3936-4F2D-85E2-D4D05DDD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3E8241-806A-4300-8F68-A4CD6C7D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51EFF-F49E-490E-96E8-C47E8DF7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F48B-3181-45A5-841E-C45C3AF7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2E9269-653E-4ABC-92DE-C638FF0D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7BA969-BBCA-452B-8F9D-EB2ECE17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2ACE1B-27DC-4D8A-B813-8BEBE928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A931D8-D265-41C5-819D-CD4B57D69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5B0779-F98C-4DE7-AEE0-12533FF4C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AAE9FB-48F5-4912-95F9-B58A8C4E0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F9154D-CCE6-4B5B-A25B-7CFED220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2C40FC-D379-488D-8B58-85A6B705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373819-72E9-4275-AAF1-CCEE7C3C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3D1CF0-BD75-4A68-9B53-414D1D52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B249-F2DD-44E7-A1A1-57A0A4A5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6D3892-A416-48C5-9ED5-AEFAE8DA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EB22B9-0BC2-4FBB-A5B9-FBF12AA9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F488C4-85AF-4D96-86EA-3CC42A5E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056652-28A7-4542-82D3-31FABC15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C04137-2C3C-42C1-8C2B-4F3AF9AD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D2DDC5-FE24-4125-8F96-92126982A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6743D9-8D17-4508-8197-A45B17C6D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355A46-9C95-4E4A-A7B2-022413602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AF48B8-8EE2-4E52-927D-F8F13B1F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C1BE6F-D58E-4257-AF51-0356B184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A05B-9F13-4D79-A723-21A1F7A9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B79086-9941-4340-A50D-ECF40013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AF33E6-E750-4CB4-8191-97316181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200A36-395B-4E3B-A65C-01AB6F1B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E91E94-4D06-4CC3-B6F3-52578D56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2A9077-F39B-45A0-AF92-511FD0BD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212212-76EA-46AC-B0D5-E6EF19E2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FADB07-ECCE-47F8-8739-760BDB4B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A2A44C-ACAB-4B96-B9F6-CCE8A841A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3E4D65-F77E-4446-AF2D-03A8833B6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32E713-6BEA-4ADE-ABCC-F0D92ED2E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2CAD-BB12-4FB8-ABBB-AA90F0B2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B081FF-88DB-4F4D-9BC0-115AB9DC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C36586-FF87-4FCE-A4B5-1AFACC3F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8FA5F0-076E-4F6D-90DA-AD466BA6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C068CA-309D-4CC9-A7F0-14642CA4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72D5C9-96EA-458A-A6DC-EA389DD7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C81B37-EFB6-4C83-9668-EDEBFA08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5713A6-2A0D-4337-B0AD-A78CBC56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6C79A8-BE13-4F8F-AAAB-064FE60F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B43F45-7F98-4636-8680-7EB21343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871574-F048-4940-9AB0-E48D56C38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E28D-B635-4B7D-BA09-1F6760D4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DDB883-43D0-4BB3-BA1C-3B970E8BE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48B430-0E50-4BA5-94B8-25A828718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BA43AD-C856-47CD-B043-B9AE8EF9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A2E0CA-A690-4AF9-8D17-50F1FF67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EA1D97-B939-4F4B-A2C1-1A0688C7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D57C3F-1097-4F1E-B198-1CFD2590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836E7D-425A-4F28-93A4-09BAD0FB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02B222-CD7B-4DAB-B003-AF254DB8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504572-5D0C-4222-9167-DD7E4D68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4F8597-E502-4393-BA04-B0A610EC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6641-D040-4783-B7FF-D0E60DCE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EA707F-9C25-4EB8-BE5C-D1CFCF6A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5F6F73-B5C2-4C3D-ACE1-533877E4B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EF74DF-5B94-4F89-9C4C-60838451D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558B9D-1DE5-4741-ADAC-7C2191944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667A4D-CC1B-4DE7-87C1-4537E85B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DB25F8-A945-4359-80BB-C2CCF2E9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CEA63C-7444-451F-A926-403CB3A8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6107FA-C658-44E4-A515-E1118174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ED1A15-D56B-4360-BBC7-51764CEC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B320FB-C874-42EE-A91F-A0203EBF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EBD2-0FCD-473D-A5AF-F2086424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12E3-716C-4CEA-BE4A-AF8E47FD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DF46CE-CB46-48CF-BC23-2C77F833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028492-C2CB-4778-99E3-7D088400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E2E430-573E-4FAD-9BBE-00E84142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F8EAD3-AA89-4640-8BE8-06F30E492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1EF39B-1037-4663-9E82-B9DE0C817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B266FB-22EA-403D-9656-C08FF0C68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FAB756-4FEE-4C91-97D3-68DC2411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D62B1B-5D38-4942-B9B8-ECD089B1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206964-92B5-4189-A6E2-A2548E72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33A503-107E-4E9E-AB63-1B66CDDF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C20D-D17C-4DE4-97E2-7883E491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624596-EB5A-4603-87E8-C354433A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7C46A7-4709-4838-884F-42D20A94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357DBD-81BD-47BE-95C2-3D43E941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596835-B016-4B62-9738-9F08DBF0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031423-6B71-4FE0-81D3-D2AB4496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496FEA-F0A7-4E02-9F97-9FEB25C37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44B1A1-2FCE-4E78-9111-5293A86C4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384E-4415-4FB5-A12C-05A6655A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B322-9A23-4486-9266-EFAFECC2B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A039-2047-4F9A-B79E-32A8B901C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85E09-D95C-4605-9281-3FA3B0E2C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6DE86-5D9C-4AF1-ACEC-FD392534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6B7E1-6A32-4E2A-A6C7-35C91427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C6ED7-D431-40C2-B25E-2033A669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2A720-A06C-4CCB-B26D-47DBA5B8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6B81-940E-423A-9DEB-30E53A07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869B8-DB39-4E69-8D26-11CC8B9E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0A2A7-03B5-4D86-BF03-D020FD9D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2A0E8-1E35-412A-91D6-F2FA0355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A0692-BD11-49FF-B9F1-92269631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04967-A779-41CA-8D4E-E6103BC3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5FC71-0A10-4051-83B8-D269F11C6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CFB2A-312E-4B10-A101-5388519E7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72477-EAF4-4FF9-A83B-39FE841F2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AD7B7-4E6F-4B3B-8C89-59548DF7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5BF53-7AEC-4110-A19D-2AB8C026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4B0F-3C87-468B-91ED-857A170F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5E63D-CF2F-43E3-8B6E-941BBB59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5037D-DC94-4050-AF96-408C9CE0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0B5C7-3D3C-40B2-A291-DDFDE1AB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809B4-68F8-4588-B13A-48E0A5D8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BE62B-9836-4DA3-8032-67555199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6369E-6DD4-4FE7-B8BF-1C1AD747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0DC6C-5106-46BA-8539-84258773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8F686-EF86-4C68-B176-0770E0E36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180AA-C58A-4BB5-A8C8-6CF2307D3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4CC82-94D0-46B7-9C25-D62A8E426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DFDA-C0DF-4338-A4EA-EB948E39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E1C80-92C7-4862-91B1-FB68B96B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B7988-FC87-439A-B3AE-381D5A86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2954C-5135-41BD-943B-F01FFF93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90F77-0B88-444A-B9E7-BCD327D9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50511-1444-44F4-917F-9E2DE4A5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93FF4-497D-43F8-85ED-7704FA9B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D1435-11CC-47C1-9032-BB6405FA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D8320-1181-4204-BAB9-89DBE451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4273A-971E-4C09-A3CC-C667237D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49D28-C22D-401B-99CD-D69F403EA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2B07-27D8-49C5-9175-572AF658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F362A-4623-4154-89BD-52E3C757D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12028-5E33-4443-BF1C-71791C618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4F621-F3FC-4ECB-B4BE-8801793E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2CD09-0811-4243-B27D-54669E2E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29B7D-B624-4839-AD68-A74CF26A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7653A-8150-43B8-8919-07081370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884AE-6FAD-4C3F-B99C-ABC38DB3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7DA44-686F-4CF5-82AB-DCD6485B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4ADC0-CCC5-41B5-8408-15D9C7CD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55A60-0A6E-4CCE-8DB6-72D4A08F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2430-6FBB-4171-AC70-615DA952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5E6FF-4B70-4482-98ED-978402F0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BB2A8-327A-48CC-93EC-748E6A664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77720-FDB4-41EC-8EAC-04110FEF3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C971B-45F4-4403-9636-70C649697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61B9A-F8E6-42BD-9963-44B47ACB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02F24-2AF3-4339-82CA-36032014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189FC-BDFE-49EB-B8A8-5691BCA9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A3A6B-82B6-419E-A714-109690C3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49902-DBEF-4E66-A347-D379990D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3D3FC-CB7A-422A-9E57-2D798880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1275-4A2B-433F-8B6D-4F923C61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5759E-E71C-461C-8053-DD02C7A8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1364C-101D-42E2-8B9C-D9B94582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CE319-C878-4E74-BF42-7F29614A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2EADD-D7C3-4F87-90EA-9CD549EED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9F578-1CC3-4A3E-8CE7-7B01BF553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6A1AD-A064-4B46-AFB1-976C5904D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7A058-2159-4B15-BA6E-363403B6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C5317-BD56-45BC-AF64-E0A82679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ECF86-6985-4C8A-BD29-49DCE0ED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59CDC-18AD-4F07-8B9C-054D3996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1E7D-52C5-4551-BB14-E2727B17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EE169-214A-49E2-9395-92907376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58C78-2E91-4BA8-821A-F6702749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54D0D-CBCB-4A80-ACA7-54D88B33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C0472-A8A6-4C14-B74C-166C8AF7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393C1-C778-4EFE-8F7E-96CE07BC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AC942-BD55-407A-8877-FC13560F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1FCB7-168D-4D92-85EA-435EF06C6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632BE-A3E0-4F6A-949F-DC11AF8C7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BAEA2-36AA-4AB1-AD9F-B2478BBD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4A906-387B-41BC-B7DA-722BDF01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6339-D1E5-4936-B8C0-D033EC7DEC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6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6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7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7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7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7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7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77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8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79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9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93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794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79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96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797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98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99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0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1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2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3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4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0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B3CD-67F8-4C73-AC47-39360CB802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5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5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6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6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6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6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6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86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6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6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87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80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881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88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83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884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5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6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7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8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9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90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91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9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4803-05BE-4669-8EC3-1FAE4B55EE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3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3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4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4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4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95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5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5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96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6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67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968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96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70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971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2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3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4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5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6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7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8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97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E148-D9E0-4E0D-BD17-01EBCD9C75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2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3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3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3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3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4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4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5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05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5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54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055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05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57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058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59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0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1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2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3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4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5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06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4C69-BC6F-4BCE-B7F5-3699F932FD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1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1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2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2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2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12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2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3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13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3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41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142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14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44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145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6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7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8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9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0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1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2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15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 type="dt" idx="4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 type="ftr" idx="4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 type="sldNum" idx="4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D420-DF7A-4AFD-9A50-F4F92542DE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9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9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0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20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21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21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1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1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22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2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2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22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23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3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23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3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4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6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7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9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24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1126-F31B-40AA-8ED0-C850997692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8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28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9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29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29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30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0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30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31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1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15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316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31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18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319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0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1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2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3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4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5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6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2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B5DD-2E03-439C-A52D-F85AD49C27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7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37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8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38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38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8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8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38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9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39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39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40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02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403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40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05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406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07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08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09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0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1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2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3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41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77C2-7C04-4317-BBC6-070E36815D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5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6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6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47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47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47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7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47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48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48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89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490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49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92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493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4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5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6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7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8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9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00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50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8838-955C-4BE3-97B2-EA89E85294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0760" y="4661280"/>
              <a:ext cx="998640" cy="4633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6640" y="4640040"/>
              <a:ext cx="995400" cy="4586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4760" y="4626000"/>
              <a:ext cx="660240" cy="4190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D4AD-F496-4DF6-BA27-82AE8C603D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B3F0-E798-4950-8B6F-8776FC4DAC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4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5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5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5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5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6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6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6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1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272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27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74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275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6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7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8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9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0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1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8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E5A9-ABD7-4819-B552-B6818EBD51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2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3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3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4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4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4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4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5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5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36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6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36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3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4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6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7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9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7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4D38-1CEA-4E76-91B3-D84DF80F65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1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2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2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2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3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3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3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44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4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5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446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4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48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49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0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1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2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3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4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5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6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5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C774-60EF-4FD0-ADAE-6D720095FE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1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1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1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1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2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2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52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3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32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533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53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35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536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7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8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9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0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1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2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3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4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2FA9-0533-4427-AB4C-F195DE2CD4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9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9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0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0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0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0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61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1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19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620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62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22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623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4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5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6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7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8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9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0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3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F612-3057-4485-B092-43DA32B58C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7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8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8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8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9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9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9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70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0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06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707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70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09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710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1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2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3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4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5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6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7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71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68D2-8985-4DF1-B09C-F328E0A73D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371600" y="1928520"/>
            <a:ext cx="6400800" cy="1855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99ccff"/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Моделирование как инструмент познавательно-речевой активности дете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алабанова Милена Валерьевна, старший воспитатель МБДОУ д/с «Золотой петушок» Брянского райо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Этапы работы с модель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здание моделе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цесс запомина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спользование моделей для организации собственной деятельности (ребёнок должен действовать самостоятельно с моделью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 txBox="1"/>
          <p:nvPr/>
        </p:nvSpPr>
        <p:spPr>
          <a:xfrm>
            <a:off x="428760" y="571680"/>
            <a:ext cx="79531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3200" spc="-1" strike="noStrike">
                <a:solidFill>
                  <a:srgbClr val="000073"/>
                </a:solidFill>
                <a:latin typeface="Comic Sans MS"/>
              </a:rPr>
              <a:t>«Учите ребенка каким-нибудь неизвестным  ему пяти словам – он будет долго и напрасно мучиться, но свяжите двадцать таких слов с картинками, и он усвоит их на лету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3"/>
                </a:solidFill>
                <a:latin typeface="Comic Sans MS"/>
              </a:rPr>
              <a:t>К.Д. Ушинск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9" name="Picture 5" descr="0012-012-Spasibo-za-vniman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826560" y="151920"/>
            <a:ext cx="67294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риемы, используемые  при формировании познавательно – речевого развития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e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e5"/>
                </a:solidFill>
                <a:latin typeface="Comic Sans MS"/>
              </a:rPr>
              <a:t>Наглядные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наблюдения, рассматривание картин, демонстрации фильмов, слайдов, презентац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e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e5"/>
                </a:solidFill>
                <a:latin typeface="Comic Sans MS"/>
              </a:rPr>
              <a:t>Практически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упражнения, игры, эксперименты и опыты, моделирование, проектная деятельность, исследовательско-поисковая  деятельнос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e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e5"/>
                </a:solidFill>
                <a:latin typeface="Comic Sans MS"/>
              </a:rPr>
              <a:t>Словесны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рассказ, чтение, вопросы, беседы, использование художественного слов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Основные задачи познавательно-речевой деятельност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394920" y="1484280"/>
            <a:ext cx="8209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богащать  познавательную сферу детей информацией через занятия, наблюдения, экспериментальную деятельность, речь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богащать эмоционально-чувственный опыт в процессе непосредственного общения с предметами, явлениями, людьм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мочь упорядочить сведения об окружающем мире, формировать представления его целостност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ормировать бережное отношение к окружающему миру, закреплять положительные эмоции, умение их проявлять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здать условия, способствующие выявлению и поддержанию интересов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ддерживать условия для развития познавательно-речевых процессов дошкольников во всех видах 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Для правильной организации организации познавательно-речевого развития выделяются следующие аспекты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чь педагог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ирование представлений об окружающем мир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витие любознательн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нсорное воспит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г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/>
          </p:nvPr>
        </p:nvSpPr>
        <p:spPr>
          <a:xfrm>
            <a:off x="468360" y="213840"/>
            <a:ext cx="791352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a0aff"/>
                </a:solidFill>
                <a:latin typeface="Comic Sans MS"/>
              </a:rPr>
              <a:t>Моделирование  -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это одно из средств познания действительности, исследование каких-либо явлений, процессов посредством построения и изучения моделе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a0aff"/>
                </a:solidFill>
                <a:latin typeface="Comic Sans MS"/>
              </a:rPr>
              <a:t>Модель -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 любой образ (мысленный или условный; изображения, описания, схема, чертеж, график, план) какого-либо процесса или явления (оригинала данной модели), используемый в качестве заместител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Виды моделиров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дметн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дметно – схематическ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рафическ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одель должн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2" name=""/>
          <p:cNvSpPr txBox="1"/>
          <p:nvPr/>
        </p:nvSpPr>
        <p:spPr>
          <a:xfrm>
            <a:off x="685800" y="1828440"/>
            <a:ext cx="76960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етко отображать основные свойства и отношения, которые являются объектом познани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ыть простой для восприятия и доступной для создания действий с ней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Ярко и отчетливо передавать с ее помощью те свойства и отношения, которые должны быть освоены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легчать позна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Закономерности формирования моделирования у дошкольник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4" name=""/>
          <p:cNvSpPr txBox="1"/>
          <p:nvPr/>
        </p:nvSpPr>
        <p:spPr>
          <a:xfrm>
            <a:off x="285480" y="135720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оделирование выполняется на знакомом детям материале, с опорой на знания, полученные на занятиях или в обыденной жизн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Целесообразно начинать с моделирования единичных конкретных ситуаций, а позднее с построения моделей, имеющих обобщенный характер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ледует начинать с иконических  моделей, т.е. сохраняющих известное сходство  с моделируемым объектом, постоянно переходя к условно- символическим изображениям отношений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"/>
          <p:cNvSpPr txBox="1"/>
          <p:nvPr/>
        </p:nvSpPr>
        <p:spPr>
          <a:xfrm>
            <a:off x="685800" y="713880"/>
            <a:ext cx="7696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чинать следует с моделирования пространственных отношений, а затем переходить к моделированию временных, логических и т. д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учение моделированию осуществляется легче, если начинается с применения готовых моделей, а затем их построени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цесс обучения моделированию заканчивается интериоризацией  действий, т.е. переводом планирования во внутренний пла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2:59:41Z</dcterms:created>
  <dc:creator>Оля</dc:creator>
  <dc:description/>
  <dc:language>en-US</dc:language>
  <cp:lastModifiedBy>Doshkola</cp:lastModifiedBy>
  <dcterms:modified xsi:type="dcterms:W3CDTF">2017-11-28T07:59:00Z</dcterms:modified>
  <cp:revision>32</cp:revision>
  <dc:subject/>
  <dc:title>Моделирование в детском саду</dc:title>
</cp:coreProperties>
</file>