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 type="dt" idx="5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5"/>
          <p:cNvSpPr>
            <a:spLocks noGrp="1"/>
          </p:cNvSpPr>
          <p:nvPr>
            <p:ph type="ftr" idx="5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PlaceHolder 6"/>
          <p:cNvSpPr>
            <a:spLocks noGrp="1"/>
          </p:cNvSpPr>
          <p:nvPr>
            <p:ph type="sldNum" idx="5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A8C73-5E1D-4BE3-A760-2300A55A78B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2B276-D161-44E2-ADAB-0A65F37BA953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A9BD-EA56-495E-8968-967C71D2F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05C8-E363-48F0-A97D-0574BB7F9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8885CB-EA31-4151-8F8D-DEEF0B65B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0F54D3-845E-43E9-BFE4-0C54998ED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F53F31-23FB-4F4B-B8FE-A430CEAC5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CD661E-469D-4BA3-8388-FF818A2A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11462F-73EA-4435-8ED4-B007F0E1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82BB07-FB69-4574-9DAF-778AB446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553400-260C-4B74-9FAD-E59B71394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CA5E27-70E8-48CD-9AC2-D7CA1993A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B451CC-E101-4185-89FF-ABA71514D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C84A84-BD8E-4ED7-B0EC-0682604C3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DC0A-F1DE-4B5D-9B4D-FE5B41A15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5DB9CD-F9C9-42BF-ACE3-614EAF736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EA09DD-5236-4DAA-A175-590486233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8623EB-C2DC-40CE-A30B-528291050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EB1787-EF6F-417A-AECD-F4DF27972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87CD4C-9DFC-4EAB-A90E-D2C469628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BED650-ACED-4577-B713-94C99BB7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1C45DA-388F-4049-9057-248E77A68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5A6B9C-664C-439B-BBEA-D48B144D0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480CAE-2B1A-43B1-BDFF-0F475F84C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A45819-962F-40A7-8122-57EB1B645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F14D-4D66-4D6A-B7F2-83DB4C957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E35AEF-AB4D-4403-82EF-F327F2E0E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E69EE3-42F5-454B-8D46-49FE6958D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4C93E6-D138-4AE7-84E1-337133415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A8258A-7AE2-4BB3-A206-A3C8EB2C6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588050-B426-4615-AB0E-730BDA4FB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EE2AC0-1722-4F51-A2CE-A850BE6C5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A46F26-0DF2-407B-ACF1-2A9FF3E4D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1A5BD6-2B73-45FC-ABA4-542D664AD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242210-4A93-4687-81FE-6E3EF759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4CA198-B7AF-4090-BE9C-8A564F96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07C00-BCCA-4B50-A0C7-71D0FBE35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2D71A8-5166-4A20-AA09-D6CD2D782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19CD72-CE1D-4AAD-A214-64CA4F95A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C3AE78-314D-4195-975A-0E3A93760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D102A5-2854-40F4-97FD-888AF004B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06982A-14BA-4B3E-BF1E-D930931EE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764B7A-23F7-41C7-8890-3E78ACE71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335A03-A7A9-485C-99B0-3E8BB0DB6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714238-0B66-4592-9B71-72C5B7ACF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8680D2-0498-4C95-B7C8-AB8E94063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FF4B34-B32B-46F1-ACEC-E67B1BF6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B193B-CAF0-4271-9E5C-0F003F08B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2864AB-C452-47FF-AA96-C8C3BE934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B2A88A-DFC5-40B1-9015-F19380691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5A5C65-5515-4F94-B2BA-6C5E6E48F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37A271-5A3D-41F8-A3C8-985005E30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29841B-E7A4-4941-895B-544BD05BB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AE4D87-AD5B-4E7D-B063-0CAD48828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C34E81-0674-423B-9F93-E4B186C05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C888CE-2150-4E01-9AE2-48F85AB97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8EE5E4-530E-4130-A327-1A60C4488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CA89B1-E7F4-4A17-9846-E5A7C46CA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B078E-6633-452B-83CA-B87A9D4E6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DFD81C-D545-440F-8E7F-178F88F78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362ACF-8727-4D77-A97D-8D56B4656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2F20D1-0622-4D77-BDEA-76D70FC0A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01707C-E279-432E-BDB8-33C6C8300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548BB1-682E-4448-89A0-5FDC064CC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EFA729-F819-4F47-BA24-4CE25429F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F2FAEC-9C3C-4AB5-921D-A2A91D897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E8B71A-182E-41A6-B820-42AC200BF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C50374-754E-460A-8307-F33AA977B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B44669-6786-4207-922F-E770B7271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C0891-A940-43CA-B656-2CECF972C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B26AAD-2EA4-42AA-A27A-4E1ABC72F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039A8F-EAFD-4138-B7E5-007915DB0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8209C9-1753-4D22-8F4B-E8CAD1A75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7512B3-0ACC-4189-8B52-C5F97F21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99F2E4-EBDF-461B-885E-E01D05C52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1A8E71-1B18-44B7-AF7F-EF89024C9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A28562-B8AC-4F1E-9F13-6756F87E4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155A99-DEF0-4B77-BC74-FF9C10E41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B5F2C7-9113-4421-B33E-DCAF49CD9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98517B-54AF-4B21-98FB-BCC36AE4A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5453D-921E-474C-8E84-0E803F7DD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69875E-72A1-4C20-9C0F-EB9A3F7EC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F3EC09-F6ED-4F43-B05B-A8F6588AB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7177ED-55DC-4EB8-8103-CA7715748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896EC9-B328-43D3-8392-8EF7A5139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892D3B-3CDB-47CD-8F3A-BF2D19779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BD0732-B7B0-4745-88F7-9ED5303B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FC04B6-60B3-4DB4-899D-88F721DC4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0802CB-85C5-4A5C-BD6A-1618AA769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CA162C-3527-4DE7-AC83-2A320EB07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B8477A-38EB-4CD7-91A0-6CFA62ADE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48D12-BC96-4EA6-8F77-DE5E1341E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53AF52-F4FF-4A36-99DB-4A1096621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C595FA-BEED-452A-A0CF-C3FE15932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CEBB04-5EE6-4809-9D7E-0022F73F0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51B34A-62A5-434F-9279-A4CE8BD90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BAE10E-A151-47C0-A2C9-9661C6C79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881A53-C278-4D9E-8E2C-647B46029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9BE086-FA60-423F-8B01-456B600A7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B09EB1-0DB0-4E91-B263-40B6C261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441945-BA22-4379-87F1-20DC76D5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A48AF2-C44D-4CE5-A184-16E342E4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CC101-62DF-4A41-BF0C-6E2264F61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CAF552-34D3-4725-BA55-45A69520B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B10CFE-FA93-4E69-981D-FEF5796EF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53E650-CC7A-40FA-8B1A-75A6C9F12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357A52-DB79-491C-AFA0-81607BBD1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EB997C-7CAC-4439-883F-510A6D33D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229F17-A057-44B6-89A3-38D8CD9D5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D42509-EBE9-49F8-A026-9DFABCFBD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2F5151-45A7-43FD-BD33-DFA480A44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6C4319-D22F-49A3-961B-9275EB9F8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22C13C-13C6-4117-8F49-48A988F1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6FF0-1933-408A-A20C-41D307201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666AC-15C5-450B-89F5-F0BA81C1E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A67DBE-F282-4BFD-B08A-7D9CF107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D8879E-E853-4020-A277-36C43518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D928AC-E5E2-4B1A-9C66-89CEBDADD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48BA80-435E-41E0-BAE7-0D1D4A7EB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179506-0875-455F-8509-F0C112237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5A4CAB-1427-4AF3-A0ED-EC94D5E3D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7D6AC0-AA81-49C3-8282-762EAF966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F1D45B-DF45-4393-AFB3-624561A4B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EC17AE-E26F-49AF-BFE2-0943E3CC1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910FF7-DDF3-4FA8-8672-070105B6A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7860B-8E1D-48C6-9C6F-29C9A4058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E4D752-4625-4472-814B-9EDF97CB5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0EA49C-13CF-482E-9D66-44C051C2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BF4014-E022-445F-9EF5-1FB2B95A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B4CFA8-182A-4ABF-A8EA-BCF0AE659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C13782-C666-40CB-B510-E2AD31E4A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859566-1A42-47CB-8415-70C664F92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329824-D7FD-4DE1-A0A7-73AC143B8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3FB8A-BEC0-40BB-9246-78321291A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CD466-89C3-47D1-9D0C-E2E24D955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EFC4F-B29A-4497-9D15-49B3133AD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3DC5D-A418-4987-8D3D-C0702F759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8DAA2-1E5C-41F4-85FD-E7613F753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57A3E-398C-4471-BE6E-25BE20731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A1263-630A-48A3-9E5F-FB964015D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AED81-3B52-456F-9DD9-C2BFC70A2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2D37-8415-4D9E-BCE1-946B59DA4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8859D-BC33-49F3-93ED-61B00C8C4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A68D5-2E46-4934-952B-468C7954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E7D09-1F32-4ECB-9A9C-CC30B0A11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D3892-D1D9-4406-806E-C8B6D0A41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8962E-CDC7-4CBF-91BA-DBAF01979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80E11-EEA0-4C20-8272-051E6A478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91EA2-04AA-40E3-A35B-6B76DF517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0136A-52AC-4B82-98F5-538DA0CD9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CFF53-4870-490E-A5AF-33F3DFDFF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88F3B-53FC-4DEB-930E-7BB72E641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5D5F-849B-425D-852E-E99590C7A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E7DD6-D766-4511-B6C3-F94CE7F24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8837E-8CED-4EEE-BC1C-673351819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51829-8896-443D-8CF1-F466D2FF3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69CDD-0A87-4C06-841C-0EB8E6B9A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DBC7A-2A60-47AD-A455-BC09DEC9A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36FDC-1E4B-4B44-954D-59E9A8DB0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50348-0C87-467D-ABB5-130986172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9C455-04D5-4E4D-9480-C9D2A21F8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6FD03-D3AE-4665-962F-9884E56A7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04A937-7272-46AA-BE1C-F8C7DD861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F99E-38D2-4221-8A90-8B014D5A5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25562-0C06-485E-825E-8CF11AC2B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68590E-64D8-48DF-90B1-3A5349298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DC65D-A6DB-454A-84C5-087FD2D32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0F0BC-0A93-4B79-BC99-FC47C4F4E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A84194-192C-4582-8C6D-C24F42865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D2B1B-FB5F-41FD-8692-6823970B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1AB011-AAB8-4F0B-BA06-AA5DD9AAD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5F988B-8D2D-45C5-9B3D-2FA4AFE94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8358D0-E433-4059-964E-0E48DD9B2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8E2C1-4438-41BB-9AB6-F3F5A56C2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9A4A-8B72-408E-B0C2-B5FB0534C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FB6C1-DA51-495B-83B8-64F99427D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591C5C-6EBA-4530-BF47-15F30CFA4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CE5D27-F9B7-4FB1-9684-75E0649CA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ECC7F8-252B-4395-9033-90732B21A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F5E64D-89BF-4938-BF30-139D1FD67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0D5958-F917-430E-864A-3A6B23856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DF8A08-A881-4C17-B856-CF4E9FF62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8303AF-1E38-43EF-9F27-7BEC5284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50D9AD-972B-4DC5-B36C-C08C50EE9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449D61-A9BB-42C4-B2DC-DD686159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1001-F98A-4956-A2CE-D078648E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829C30-1893-4120-96A5-D9E3C1E14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638BA-5CEA-457E-826D-B03E8774F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3EA241-42D9-48EA-B563-E852AE95F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E6524F-C943-42FB-A5C9-DFB5487DB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CB34A6-F347-4725-9F18-E20DBF8A2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9D48B7-6946-4B76-ABF8-70BE9C419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047054-39B2-4D2A-9F92-A9A450DC1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A2B9FE-7FB7-4CE7-87F8-D33D74CB9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894165-DFC4-4216-8FB3-B7BCA0C02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09F609-B07B-48C6-952C-57EFA4AF6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C585-D12E-482F-AB2E-87CAC317C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15B1D0-FE0F-406B-9F04-D275BEA6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DA5A11-2B80-48ED-999B-FE3833E7C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AAE44D-1A58-4008-9282-38189A024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FCE33A-C8AA-46DC-8060-6D4228287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C0F47F-D45C-44C8-9E3A-C516B370A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B97E55-5B75-4CB2-8BAC-AFE03C4F6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BDAF25-2AA5-493D-8C79-06AE764A3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DF1A7B-DDD0-41B0-AB9C-5C102F2AC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274859-069D-46EC-8CF3-1BB12B7A9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01A72D-E66F-4A2A-91A4-C460967FD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55EC-2F18-4888-ABC3-614232F56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57E1D0-4066-4961-8D52-F3FD14819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F830E4-025D-49D0-BD29-807DB6E9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0EC1F6-0CE6-4DE9-83A2-52ACFEC8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D3D2B3-334C-4B9D-8DC5-B5BB8635B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6F2976-1FD0-4806-A75F-B614C4C7E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26F8FB-CF88-40AC-936B-7303AECF2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B41823-277E-4B68-BD51-109DCAE4C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CAE7E8-2C80-40E0-A044-3C3DFECD0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8AA822-CC78-42A1-8424-62E714C6E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24BC29-8E4D-4796-8650-0660D93FE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B9027-4301-42CC-9BC6-D4D17FF1977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1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63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764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5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6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7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8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9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0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1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2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773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774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775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76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77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778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79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80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781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782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3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4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5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6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7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8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9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790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91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2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93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794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795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796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797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98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99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00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01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02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03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04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805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 type="dt" idx="2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 type="ftr" idx="2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 type="sldNum" idx="3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93C7A-3DD3-4B89-9356-2029E61F382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8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9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5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851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2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3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4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5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6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7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8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9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86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861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862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63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64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86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66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6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86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86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0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3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5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6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87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878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9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80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881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882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883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884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85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86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87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88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89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90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91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892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 type="dt" idx="3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 type="ftr" idx="3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 type="sldNum" idx="3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11882-BA9E-4E50-8934-DD248509A24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5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6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37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38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9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0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1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2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3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4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5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6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47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948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949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50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51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952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3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4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955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956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57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58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59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60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61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62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63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964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965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6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67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968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969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970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971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2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3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4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5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6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7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8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979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 type="dt" idx="3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 type="ftr" idx="3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4" name="PlaceHolder 5"/>
          <p:cNvSpPr>
            <a:spLocks noGrp="1"/>
          </p:cNvSpPr>
          <p:nvPr>
            <p:ph type="sldNum" idx="3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41E0D-4C5C-4818-B560-59A8C8F2EB0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2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02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3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3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3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3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3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03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04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4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4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4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4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4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4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4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5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05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05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54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1055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105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057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1058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59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60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61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62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63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64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65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06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dt" idx="3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 type="ftr" idx="3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 type="sldNum" idx="3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F3B19-D342-4B27-80CC-BCFD65F0F65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1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11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12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12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12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2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2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12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2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2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12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3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13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13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41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1142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114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144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1145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46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47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48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49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50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51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52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15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 type="dt" idx="4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 type="ftr" idx="4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 type="sldNum" idx="4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59863-175C-4621-900B-78190347A91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9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19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20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20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21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1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1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21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21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21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1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1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2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2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2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2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2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22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2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22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122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123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23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123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33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34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3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36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37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3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39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24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 type="dt" idx="4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 type="ftr" idx="4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5" name="PlaceHolder 5"/>
          <p:cNvSpPr>
            <a:spLocks noGrp="1"/>
          </p:cNvSpPr>
          <p:nvPr>
            <p:ph type="sldNum" idx="4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B0A5F-D89A-48B8-A6B8-94E068F30CA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8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28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29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29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29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9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9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30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0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0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30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30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0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0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0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0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0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1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1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31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31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15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1316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131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318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1319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20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21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22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23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24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25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26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32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4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4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4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7E01F-1B8F-40DA-84F4-41442BC8AAB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7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37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38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38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38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8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8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38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39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39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9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9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9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9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9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9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9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39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40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0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02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1403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140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405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1406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07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08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09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10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11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12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13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41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 type="dt" idx="4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 type="ftr" idx="5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9" name="PlaceHolder 5"/>
          <p:cNvSpPr>
            <a:spLocks noGrp="1"/>
          </p:cNvSpPr>
          <p:nvPr>
            <p:ph type="sldNum" idx="5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C08BE-0D13-4E71-B57E-B177414FAD0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5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46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46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47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47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7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7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47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7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7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47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47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7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8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8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8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8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8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8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48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48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89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1490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149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492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1493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94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95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96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97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98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99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00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50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 type="dt" idx="5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5" name="PlaceHolder 4"/>
          <p:cNvSpPr>
            <a:spLocks noGrp="1"/>
          </p:cNvSpPr>
          <p:nvPr>
            <p:ph type="ftr" idx="5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6" name="PlaceHolder 5"/>
          <p:cNvSpPr>
            <a:spLocks noGrp="1"/>
          </p:cNvSpPr>
          <p:nvPr>
            <p:ph type="sldNum" idx="5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D2760-8103-4EA7-8B0E-1F5A06FAA7A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0760" y="4661280"/>
              <a:ext cx="998640" cy="4633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3320"/>
                <a:gd name="textAreaBottom" fmla="*/ 463680 h 4633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6640" y="4640040"/>
              <a:ext cx="995400" cy="4586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4760" y="4626000"/>
              <a:ext cx="660240" cy="4190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120"/>
                  <a:gd name="textAreaBottom" fmla="*/ 96480 h 9612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1760"/>
                  <a:gd name="textAreaBottom" fmla="*/ 492120 h 49176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280"/>
                  <a:gd name="textAreaBottom" fmla="*/ 278640 h 2782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520"/>
                  <a:gd name="textAreaBottom" fmla="*/ 164880 h 16452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cc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1A6B4-D995-4E47-89AD-CFE77AB2D76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A4C6F-9928-4F19-B268-55A1A289FF9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4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5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5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5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5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5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6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26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6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71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272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27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74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275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6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7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8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9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0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1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2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28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205E7-32BB-46C0-9B4B-26F5833705F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2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2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3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3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34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34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4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4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5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5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5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36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6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36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3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4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6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7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9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37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D9D0F-2110-4AD1-BE15-C0138AFFB67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1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41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2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2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2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2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2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43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3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43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44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44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45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446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4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48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49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0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1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2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3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4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5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6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45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54D48-1E69-4959-AF7E-68116E5E450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0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1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51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51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51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2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52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52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53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32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533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53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35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536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7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8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9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0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1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2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3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4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606A2-7183-428C-AA44-CC86358D568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8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9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9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0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60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0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0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61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61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19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620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62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22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623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4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5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6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7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8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9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30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63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029A0-5DA0-467F-A94A-9DB1E73AA6C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4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5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76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677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8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9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0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1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2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3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4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5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86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87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88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89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0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691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2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3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94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95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6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7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8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9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0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1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2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703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04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5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06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707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708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709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710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1" name="Freeform 45"/>
                <p:cNvSpPr/>
                <p:nvPr/>
              </p:nvSpPr>
              <p:spPr>
                <a:xfrm rot="18427200">
                  <a:off x="8029440" y="51624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2" name="Freeform 46"/>
                <p:cNvSpPr/>
                <p:nvPr/>
              </p:nvSpPr>
              <p:spPr>
                <a:xfrm rot="18427200">
                  <a:off x="7726320" y="27864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3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4" name="Freeform 48"/>
                <p:cNvSpPr/>
                <p:nvPr/>
              </p:nvSpPr>
              <p:spPr>
                <a:xfrm rot="18427200">
                  <a:off x="8426160" y="141948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5" name="Freeform 49"/>
                <p:cNvSpPr/>
                <p:nvPr/>
              </p:nvSpPr>
              <p:spPr>
                <a:xfrm rot="18427200">
                  <a:off x="8338320" y="127404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6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7" name="Freeform 51"/>
                <p:cNvSpPr/>
                <p:nvPr/>
              </p:nvSpPr>
              <p:spPr>
                <a:xfrm rot="18427200">
                  <a:off x="7869960" y="20880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718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FFABE-75A4-46A4-A2C3-6B7D25A01F2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0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1371600" y="1928520"/>
            <a:ext cx="6400800" cy="18558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99ccff"/>
            </a:outerShdw>
          </a:effectLst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Моделирование как инструмент познавательно-речевой активности детей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Балабанова Милена Валерьевна, старший воспитатель МБДОУ д/с «Золотой петушок» Брянского район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Этапы работы с моделью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оздание моделе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оцесс запоминан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спользование моделей для организации собственной деятельности (ребёнок должен действовать самостоятельно с моделью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"/>
          <p:cNvSpPr txBox="1"/>
          <p:nvPr/>
        </p:nvSpPr>
        <p:spPr>
          <a:xfrm>
            <a:off x="428760" y="571680"/>
            <a:ext cx="795312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3200" spc="-1" strike="noStrike">
                <a:solidFill>
                  <a:srgbClr val="000073"/>
                </a:solidFill>
                <a:latin typeface="Comic Sans MS"/>
              </a:rPr>
              <a:t>«Учите ребенка каким-нибудь неизвестным  ему пяти словам – он будет долго и напрасно мучиться, но свяжите двадцать таких слов с картинками, и он усвоит их на лету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3"/>
                </a:solidFill>
                <a:latin typeface="Comic Sans MS"/>
              </a:rPr>
              <a:t>К.Д. Ушинск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9" name="Picture 5" descr="0012-012-Spasibo-za-vnimani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826560" y="151920"/>
            <a:ext cx="67294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Приемы, используемые  при формировании познавательно – речевого развития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3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e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e5"/>
                </a:solidFill>
                <a:latin typeface="Comic Sans MS"/>
              </a:rPr>
              <a:t>Наглядные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–наблюдения, рассматривание картин, демонстрации фильмов, слайдов, презентаци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e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e5"/>
                </a:solidFill>
                <a:latin typeface="Comic Sans MS"/>
              </a:rPr>
              <a:t>Практические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–упражнения, игры, эксперименты и опыты, моделирование, проектная деятельность, исследовательско-поисковая  деятельност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e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e5"/>
                </a:solidFill>
                <a:latin typeface="Comic Sans MS"/>
              </a:rPr>
              <a:t>Словесные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–рассказ, чтение, вопросы, беседы, использование художественного слов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Основные задачи познавательно-речевой деятельност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5" name=""/>
          <p:cNvSpPr txBox="1"/>
          <p:nvPr/>
        </p:nvSpPr>
        <p:spPr>
          <a:xfrm>
            <a:off x="394920" y="1484280"/>
            <a:ext cx="8209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богащать  познавательную сферу детей информацией через занятия, наблюдения, экспериментальную деятельность, речь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богащать эмоционально-чувственный опыт в процессе непосредственного общения с предметами, явлениями, людьми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мочь упорядочить сведения об окружающем мире, формировать представления его целостности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Формировать бережное отношение к окружающему миру, закреплять положительные эмоции, умение их проявлять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оздать условия, способствующие выявлению и поддержанию интересов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ддерживать условия для развития познавательно-речевых процессов дошкольников во всех видах деятельност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Для правильной организации организации познавательно-речевого развития выделяются следующие аспекты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7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ечь педагог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Формирование представлений об окружающем мир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азвитие любознательност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енсорное воспита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гр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/>
          </p:nvPr>
        </p:nvSpPr>
        <p:spPr>
          <a:xfrm>
            <a:off x="468360" y="213840"/>
            <a:ext cx="791352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a0aff"/>
                </a:solidFill>
                <a:latin typeface="Comic Sans MS"/>
              </a:rPr>
              <a:t>Моделирование  -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это одно из средств познания действительности, исследование каких-либо явлений, процессов посредством построения и изучения моделе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a0aff"/>
                </a:solidFill>
                <a:latin typeface="Comic Sans MS"/>
              </a:rPr>
              <a:t>Модель -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это любой образ (мысленный или условный; изображения, описания, схема, чертеж, график, план) какого-либо процесса или явления (оригинала данной модели), используемый в качестве заместителя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Виды моделирова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едметно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едметно – схематическо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Графическо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Модель должна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2" name=""/>
          <p:cNvSpPr txBox="1"/>
          <p:nvPr/>
        </p:nvSpPr>
        <p:spPr>
          <a:xfrm>
            <a:off x="685800" y="1828440"/>
            <a:ext cx="769608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Четко отображать основные свойства и отношения, которые являются объектом познания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ыть простой для восприятия и доступной для создания действий с ней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Ярко и отчетливо передавать с ее помощью те свойства и отношения, которые должны быть освоены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блегчать познан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Закономерности формирования моделирования у дошкольников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4" name=""/>
          <p:cNvSpPr txBox="1"/>
          <p:nvPr/>
        </p:nvSpPr>
        <p:spPr>
          <a:xfrm>
            <a:off x="285480" y="1357200"/>
            <a:ext cx="86439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оделирование выполняется на знакомом детям материале, с опорой на знания, полученные на занятиях или в обыденной жизни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Целесообразно начинать с моделирования единичных конкретных ситуаций, а позднее с построения моделей, имеющих обобщенный характер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ледует начинать с иконических  моделей, т.е. сохраняющих известное сходство  с моделируемым объектом, постоянно переходя к условно- символическим изображениям отношений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"/>
          <p:cNvSpPr txBox="1"/>
          <p:nvPr/>
        </p:nvSpPr>
        <p:spPr>
          <a:xfrm>
            <a:off x="685800" y="713880"/>
            <a:ext cx="76960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чинать следует с моделирования пространственных отношений, а затем переходить к моделированию временных, логических и т. д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бучение моделированию осуществляется легче, если начинается с применения готовых моделей, а затем их построения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оцесс обучения моделированию заканчивается интериоризацией  действий, т.е. переводом планирования во внутренний пла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2:59:41Z</dcterms:created>
  <dc:creator>Оля</dc:creator>
  <dc:description/>
  <dc:language>en-US</dc:language>
  <cp:lastModifiedBy>Doshkola</cp:lastModifiedBy>
  <dcterms:modified xsi:type="dcterms:W3CDTF">2017-11-28T07:59:00Z</dcterms:modified>
  <cp:revision>32</cp:revision>
  <dc:subject/>
  <dc:title>Моделирование в детском саду</dc:title>
</cp:coreProperties>
</file>