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392E-980D-413A-9BB4-721CAB2D10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303C-B87F-4AF3-A4A8-C00EF2F620CF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CE0-D04C-4770-9FB6-D44E3A58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DDB-1E58-4CA1-B0C5-79F1E55C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855B6-3A66-4965-8E09-2EACB22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B7E46-4471-432D-8F2E-F12AAB7B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C5A1D-FE59-4538-BC8F-976468C4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232A2-4233-455E-83FF-F0F40D74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4A01A-2154-4323-A0B8-141BF884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CE463-5785-46E7-8B4D-E2B7A87E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54758-D9A6-4CFD-89C4-BA12D80B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73346-C109-47E4-85F4-99F019F0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1D9D6-829B-441B-913D-BC23304E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9936C-C19D-4B05-9C4D-3C4A4918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8DA-D90F-44E1-B114-E8390A1F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0B26F-2441-4BB3-B267-56E57512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039DF-981A-4437-9E19-960572DE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C98AB-B913-4ADD-AA07-899B9797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8CF11-589A-4184-A6E8-D3C91CE9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8B715-9E37-4BBB-8CD8-C48BABDE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8C786-EF37-41A8-802C-3C97CA6E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59930-211F-4F2D-968D-6A462C38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64CEC-8310-46A7-944F-BACBA736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B44A6-2DC5-42B7-9F67-F5A40750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D34BC-616F-490A-993D-2B894B2C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79D-0BF3-4354-B607-07673823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36CC5-4BA4-4714-99C8-C2467D23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99EEC-7270-4821-9DF6-57B7E44D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7C6BD-D9C6-444A-806B-4FF6A683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DAC7E-E256-454A-A270-25379902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1480E-D821-4C40-B4F8-35E3F8A0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1C484-9D14-462E-80B7-5BA49972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42880-1811-43FE-B790-DEB014C5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C76D0-270D-4C28-A18F-75D911D3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A5DB6-7C09-4C67-9E18-52FB3563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6C085-1CC2-4167-B711-BD1B774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AC65-9FDE-43B9-8459-7EED629D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C5FF0-FAA4-481F-9233-D2FD6393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066E1-9EAD-43C9-91EE-AA6A0081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1EA86-61E8-421D-8DC0-17805670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1662C-69C9-4670-9E57-64804C06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9BA1E-1D78-4301-BA4F-F93F2C86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EFA4E-DF0E-433E-8927-D7182FA1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68AAC-FBF8-465B-A7B5-83DBE49E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43553-825D-4F28-9CE4-8F3E0D75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54676-65E9-4C9A-AFF9-55FD2D31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14F23-4538-44D8-956B-3AB9A3BE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5153-7398-47AF-BE6D-6CE52EB9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3884A-0049-484D-8354-E4B1544D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12ACF-7FA6-4A72-835A-2DFD8C11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D9182-3843-46DC-9B85-7B076351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7E115-E49A-41F3-8984-DEE2F319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1258C-4D5F-427D-B881-259F84D9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643DF-DB3A-413A-A7D3-D87CFA74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E0A8D-256C-442C-9290-F97156B3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DEB16-4E34-4F69-BE03-88499F50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2F014-E346-4E37-A326-E21CBAB5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76082-F956-47EF-87DA-883BA441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8D98-259C-4339-AE52-603D086C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F77AD-ADE4-45D0-A6E2-2EF5A760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F65E5-20F0-4247-B323-00BC6C1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77259-0978-45F9-848E-73D1D9A8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7918E-3753-4751-A924-1AB0E9EA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A255B-6F75-49C5-855B-0E448759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B6D58-0C7D-4022-A601-108C09D2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F162F-21B0-4619-AE16-D68EE04F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75086-1051-49D3-AE3A-8F7D4BA2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343A9-A26C-408C-950C-BCD0DEC4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4B43D-0F5D-4FBF-B016-0EC94E93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753E-3AD6-463D-9BA3-BCD2B0D7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72255-C4AE-456F-88F0-1C6C4C07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26263-E52E-40F8-9DC3-36596D32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546D5-B244-41B6-BA00-CFA7D94E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DC3F4-E6A7-4061-B17E-554CAF6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62AF2-97A9-4E6A-9A23-9FC5E822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D71EE-123B-4E7F-8662-AC310A59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E8105-4273-4420-BD98-2408F177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B8662-E70E-420E-87C4-F3F25BC7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E7E6B-5E04-4496-893A-46352538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39E95-680B-4CBB-94F2-D77BDC4A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55C3-B39D-45CC-BCCD-22A67F5E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49E87-1E68-4A15-8216-E0B15296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C3598-AF0B-48A2-BAEC-2B0612BC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786747-EAF4-4BC0-BE4D-EDE3C056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73F28-5FBC-4E88-A5C1-8708960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742F8-7AE9-4591-B216-9C0D143A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702A3-3C9D-41C7-B465-4EFAF960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0AE69-6CC9-47BB-88F6-837A0ED4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B673A-01F8-45F2-8A67-37F3118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12592-5E10-49B3-B0ED-E4A961FD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B4299F-6314-4DF4-88E1-22F0BBC4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DAED-C857-4763-B72C-BB7103BF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7B4FB-09E8-4C16-8D2C-7F50371E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5CAF9-38F6-492D-B858-C3491CF2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4179A-05C6-4A25-A013-69FEC8F9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EDF07-8156-46D0-ADC2-0CD7BB94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BD51D-8BCB-488B-B79C-03B8121D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C86EB-42FA-4EB5-828E-45CF0A54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BB712-99DF-48A6-AFC1-04513534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63EC5-5EE3-4D43-BE31-6FA5236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EE5CF-901B-4A17-AF61-ABDC996F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CAE57-383D-4C03-B7CC-B485733D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51C1-06A4-4060-8ABD-C764D347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A8C65-5A75-4912-A6D6-A5C11D18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995A1C-22A8-4863-8814-23378052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FA69F-0376-4B1F-BE1C-AB4F1217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84A572-7461-4ABD-80C1-7D986D6F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715D22-5FE8-427C-818A-A1303C86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20B70-F9C6-4B45-BA6F-9621681E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426D58-999E-4677-800E-0C03CB97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FA356-BA7B-4508-994A-C697A9DA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CB62F-A033-4554-9ACF-79C1CF4F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B817F-CC36-4B4A-AFBF-E09BE7BD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31B-6FE4-425C-9697-C46264C4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6490-1A2A-4610-8F0F-85EE727B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B07E5-7047-4CB2-BA2F-AFC75CE5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FBA13-CE9D-4AFE-93DD-4AD127B9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52FA1-F6C7-4197-92E7-68F16C54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015E4-4C35-4A12-8EBC-33536777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7F5AD-8DF3-46F8-8555-1D91F5AC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D701D-C5EF-4F0D-9E33-2608E0BC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5FB40-FAFB-4513-827F-92D8CBDD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8150E-976E-48E6-B0A9-7A8BFDCB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B9A560-2767-4CE7-8E59-2CCFD9BC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7A930-5345-490C-AAF6-2C001E1C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16BD-5405-476B-9821-E5B03E38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26FB3-5A8F-4868-BC7D-27ACFFE8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72703-018C-4CE4-A279-837D06D2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F5940-527A-4CED-AF8E-774C6A05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A2DE7-5392-4F54-A0BF-D38ED0FB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43135-CEDD-4825-833A-9B24C1DB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8C2AC-822E-4ED2-BA37-3CE1AD10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DAB7E-D589-4DD3-8837-C0E2046B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66A8-8CE7-44F2-A67B-A89A6231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21E7-148A-479A-86EB-52E6930C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F25A-A299-4ADD-BA6E-7C723D6A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A84D-2A77-4644-A431-A3D70E23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2A14-A3E6-4CE6-AF2F-D98DD50E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FA44-938F-40DC-93A3-27C65164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6850-CEA8-49A5-8415-C04A7706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BC7F-2580-4259-BDF1-6C01CCF6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927-2725-4DD8-8727-1C8A0206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0A1A-77DE-4D95-B4FD-CE807924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6763-B290-4A10-B8E9-65EDE7D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241F-5B13-4B60-B3DE-9495F5CD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29BC-3D04-468C-9E37-417A3770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428AC-407F-4107-8FAD-0C38DA06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5E29-0DB9-4CB1-ACF5-976A4BCA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FA1F-DBE6-4111-921F-EEA2A525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7D0BD-57EB-4514-B402-402A39F9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D3C61-1377-4551-A6C8-D89D377E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2DF9-FE9D-4CA6-A499-D1D8CC0E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BDD-7C87-47AE-92B4-2EA6A439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6460C-1226-42BC-B8CB-4D530C1D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688A-D646-43B1-BE7A-1A7AD2A0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5A53-1A65-470E-92DB-DA2464E4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83179-D783-4BAF-A069-66D65790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CA564-63E6-4CD5-A2D2-0228A12D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7A996-7C23-4A77-9C7F-8CDCBE60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3A83F-5FCC-470A-AE33-C2F26161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942C-BD6E-4144-B1A7-1C0E7E27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5A934-CD01-42D9-900D-F766ACBC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5D38-D18D-42E4-8164-B7BB755D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A3A-BF13-402B-A3AB-B1BE8E18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836CF-F879-462A-B0A0-51DEE074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28AC9-6B7C-4C18-8C2D-112E2FE3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B293D-5E9F-4C46-BE6A-8244CD23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75783-35A0-4266-8689-186B0191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AA72-ED63-4874-BB01-E5FFBF33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6707A-0AA9-44CA-9A56-864727EB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91424-9BB5-4A3F-97BA-EBA26D0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A72B1-5529-40C7-9FA6-D2239D0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3987A-8309-4C16-8928-8D0A2E38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33A3-3AE3-4D26-9958-282824D1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5D6-4F89-4E29-83E9-8EEF22FA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16C48-0CF4-4DF6-93C2-DC9CEB12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D0746-E3CB-44D1-8A72-BB50A1D3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311A4-B26F-4788-B203-9BD40B79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22BCB-2A4E-4F10-A120-9D80EC6F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4C22E-979F-409B-B1D4-0FB8681E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C65C6-A3BA-4832-A5C7-E728E667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40721-8E23-4722-8F51-7DB4F80C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A99CA-E4F4-44ED-A789-8C9A953E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34C04-E14A-4E18-9C06-CCB89D53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C03F-2330-4BC9-8C6A-BF22A590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110-8E58-4BEB-A102-2B32E577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6BD7A-F816-4F0B-A7F0-9538A85A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EA198-EF47-459D-85F4-1E02A9DB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1B9BD-EDB0-4B1B-B1AF-9743C056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B1EE1-0964-4A63-BEFB-716AE943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DCC9C-5AA3-43BF-9779-F6EB03DA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C1149-4F34-45B5-B7C2-1738779F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D38D3-2FAA-411C-A072-FD5926EF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8C81D-76BE-4108-A6C1-014B6FAF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99E4-C2C1-456A-9DDB-75C64F97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53EDD-C8EC-4A98-90E6-0ED71E57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D2F-1EA7-49B3-B8BA-04E448A1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16105-9E73-49A2-B59E-30FDAB5A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8C7B7-9690-45F2-91C1-F6A3F07E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5CF31-11B2-4812-B31F-976109D8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65406-C2CC-4FB9-897B-6BCD8644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E2F75-6F5B-4D08-B515-94C4D2B0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17C5-CB2B-425A-B1FB-4FDAA0A5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1AF6-603C-4B0F-B872-22A1D2FA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D2F83-7272-468D-8806-FE23969F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4EDAE-406B-44B8-B82D-AE49335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D427A-8BEF-4167-B534-441E2CF6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D65-089C-4564-9A9D-FB06C3A2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35ECE-E3CE-44D5-8E29-D79A36A6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72469-E5C9-417D-90A4-3601E213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594DD-42BE-4D0A-AE1B-A6B82E75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99059-E862-4A48-9759-75ECABA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F37F3-F711-40E2-87AA-DF3B27C5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EA838-35B1-45FD-B1E6-F71D23CC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D869C-F19B-4CDA-9D15-80D11EDA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3D788-EA3A-401F-ACA1-15BA207E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BD219-3311-4669-853D-F23F6371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C031A-3672-46A9-978A-DDBE9681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60AE-CC27-48F3-9A0C-6C654BE927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A79C-4FB5-4412-B445-C5DBDAFE5E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E617-129F-4D1B-8A50-A5C435FC39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C2A1-7131-40C0-9300-8442CC0191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6D99-E4CD-4F65-9EDB-05BF2E9738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8A18-E5C6-4745-8F0F-063431DEB8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FBBC-CADB-4D9B-8637-2F2B5A4270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20DA-0AE3-4ADA-B6B5-15700D8CAA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0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0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FEA8-3BEE-4838-AA29-B9F605A518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4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E7C9-6A3D-47AE-8D70-F0A7BB72BE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8D84-4417-4C5B-AC4C-499E113AA2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0988-3D66-44D2-8A7E-F893904BA3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1731-0198-436B-8F73-B7EF4B7A12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D516-2A5F-4B64-ACCB-7710703423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59B5-8ABA-4A1E-8CDC-D86062DEA8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9DE2-10BA-4E3C-87AA-9B677B4430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7A91-6342-452C-B437-E47C20B266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E66-316C-4AC6-BF05-949CCEDB40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6400800" cy="1855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оделирование как инструмент познавательно-речевой активности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лабанова Милена Валерьевна, старший воспитатель МБДОУ д/с «Золотой петушок» Брян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тапы работы с модел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мод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цесс запом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428760" y="571680"/>
            <a:ext cx="795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«Учите ребенка каким-нибудь неизвестным  ему пяти словам – он будет долго и напрасно мучиться, но свяжите двадцать таких слов с картинками, и он усвоит их на ле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0012-01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емы, используемые  при формировании познавательно – речевого развит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Наглядны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наблюдения, рассматривание картин, демонстрации фильмов, слайдов,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упражнения, игры, эксперименты и опыты, моделирование, проектная деятельность, исследовательско-поисковая  деятель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рассказ, чтение, вопросы, беседы, 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ые задачи познавательно-рече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 познавательную сферу детей информацией через занятия, наблюдения, экспериментальную деятельность, реч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эмоционально-чувственный опыт в процессе непосредственного общения с предметами, явлениями, людь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чь упорядочить сведения об окружающем мире, формировать представления его целост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бережное отношение к окружающему миру, закреплять положительные эмоции, умение их проявля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выявлению и поддержанию интере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держивать условия для развития познавательно-речевых процессов дошкольников во все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правильной организации организации познавательно-речевого развития выделяются следующие аспек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чь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й об окружающем ми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любозна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нсорное вос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468360" y="213840"/>
            <a:ext cx="79135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ирование 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одно из средств познания действительности, исследование каких-либо явлений, процессов посредством построения и изучения мод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ь -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любой образ (мысленный или условный; изображения, описания, схема, чертеж, график, план) какого-либо процесса или явления (оригинала данной модели), используемый в качестве замест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иды моделир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 – схемат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ф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дель должн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ко отображать основные свойства и отношения, которые являются объектом позн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ть простой для восприятия и доступной для создания действий с н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рко и отчетливо передавать с ее помощью те свойства и отношения, которые должны быть освоен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егчать позн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ономерности формирования моделирования у до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рование выполняется на знакомом детям материале, с опорой на знания, полученные на занятиях или в обыденной жизн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есообразно начинать с моделирования единичных конкретных ситуаций, а позднее с построения моделей, имеющих обобщенный характ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ует начинать с иконических  моделей, т.е. сохраняющих известное сходство  с моделируемым объектом, постоянно переходя к условно- символическим изображениям отнош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7138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инать следует с моделирования пространственных отношений, а затем переходить к моделированию временных, логических и т. 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моделированию осуществляется легче, если начинается с применения готовых моделей, а затем их постро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сс обучения моделированию заканчивается интериоризацией  действий, т.е. переводом планирования во внутренний пл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9:41Z</dcterms:created>
  <dc:creator>Оля</dc:creator>
  <dc:description/>
  <dc:language>en-US</dc:language>
  <cp:lastModifiedBy>Doshkola</cp:lastModifiedBy>
  <dcterms:modified xsi:type="dcterms:W3CDTF">2017-11-28T07:59:00Z</dcterms:modified>
  <cp:revision>32</cp:revision>
  <dc:subject/>
  <dc:title>Моделирование в детском саду</dc:title>
</cp:coreProperties>
</file>