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4EF0-28A0-415E-9B0C-A2D9CDA6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7362-E418-40E7-BFE3-BEA69BFE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82CD-38F2-4B4B-82B6-CBA951DA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670-BAE8-408D-8487-9080AA6F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1B08A-37D5-4E12-BF3C-F9817A1B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DB0AC-6C50-4280-BBE7-287DB6B5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D43A2-70EE-41D4-A32A-E0101935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781AA-3FCB-49FF-A828-47CAF053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60A1D-C63F-41C3-A52F-0AC1A78A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6CB66-21AF-4B7B-AF40-D3126D25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CF593-D6AA-4FB5-8AF5-9D89F494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0321-36CD-451A-92F2-7128205C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47848-B176-446D-A1B5-4D6F90C0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D25E6-0706-4C33-976E-86FE13BD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66D8D-0176-4B0E-956D-5738E790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10782-CB1D-4806-B0BA-4DAC030E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39E9E-01E5-4850-93E4-D6BAB8A9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45B29-34D3-4039-B73D-462A4769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1E69F-A69C-4211-93FC-1DEDE060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A178F-AACB-4332-B1F0-4DEAA2C8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694FB-D91B-41B8-861A-7F3997A9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B4EE9-1194-41B2-887D-042E0C0D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472-475B-43E5-AFE2-D65A2294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111B7-8BCB-46D3-8F27-E49C2C64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86C30-BC65-40AD-89A7-2B525A5C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51EAD-D25A-4397-8164-A969EE79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04B60-4DD4-4EA8-89C7-7DAD678B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CE05C-9A2A-4F36-8EA4-4CA463F5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852F7-6C14-4FDF-A5C1-18F90086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68CBA-95C8-4080-BB09-568AEF55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C59-E9E8-4CB2-9A68-A3246448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07E-C5A4-4BF3-AFBE-A5DFD3D1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658-2586-43BC-A0A0-E89990AF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61E-A02D-4304-9834-6F9FE19C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B21-79A5-41E9-9625-B775074C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227F-2C69-4DCC-85EA-93B7B9AC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0645-C453-46A6-B4A1-EE54253A12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FE9A-5DDA-48CE-BFB1-6AFCAF8344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9BAE-D1D6-496F-9DA3-ECF95EB3CA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онкурс программист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z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y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Qu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AB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 раз выполнится цик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коррек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5" descr="214"/>
          <p:cNvPicPr/>
          <p:nvPr/>
        </p:nvPicPr>
        <p:blipFill>
          <a:blip r:embed="rId3"/>
          <a:stretch/>
        </p:blipFill>
        <p:spPr>
          <a:xfrm>
            <a:off x="1476360" y="5013360"/>
            <a:ext cx="1943280" cy="1176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214"/>
          <p:cNvPicPr/>
          <p:nvPr/>
        </p:nvPicPr>
        <p:blipFill>
          <a:blip r:embed="rId4"/>
          <a:stretch/>
        </p:blipFill>
        <p:spPr>
          <a:xfrm>
            <a:off x="3780000" y="5445000"/>
            <a:ext cx="129672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1. Решить квадратное урав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и исправить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ura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c: integer; 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ln(a,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=0 then if c=0 then writeln(‘x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 else writeln(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c=0 then writeln(‘x=0’) else writeln(‘x1=’,-sqrt(c/a),’x2=’,sqrt(c/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2. Определить наименьшую цифру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inimi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min,z,a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ln(a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&gt;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:=a mod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z&lt;min then min:=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=a div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ln(z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ить реверс элементов одномерного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re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a:array[1..10] of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readln(a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a[10+1-i]:=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write(a[i]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разработч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1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ичное число, введенное пользователем преобразовать в десятич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какие различные числа входят в цел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2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, представленное в шестнадцатеричной системе счисления, перевести в десятичную систему 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есть ли в целом числе две подряд идущие одинаковые цифры и ка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болельщ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йте ответы на следующи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году был разработан язык Паска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дения об окружающем мире и о нас сам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действий, которая приводит к решению поставленн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ая единица хран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ратное повторение одних и тех же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аш класс приходит новый ученик по фамилии Афанасенко. Вы справшиваете учителя, кто это: девочка или мальчик. Какое количество информации содержит ответ уч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209"/>
          <p:cNvPicPr/>
          <p:nvPr/>
        </p:nvPicPr>
        <p:blipFill>
          <a:blip r:embed="rId1"/>
          <a:stretch/>
        </p:blipFill>
        <p:spPr>
          <a:xfrm>
            <a:off x="1762200" y="3500280"/>
            <a:ext cx="2592360" cy="1795680"/>
          </a:xfrm>
          <a:prstGeom prst="rect">
            <a:avLst/>
          </a:prstGeom>
          <a:ln w="0">
            <a:noFill/>
          </a:ln>
        </p:spPr>
      </p:pic>
      <p:sp>
        <p:nvSpPr>
          <p:cNvPr id="163" name="WordArt 5"/>
          <p:cNvSpPr txBox="1"/>
          <p:nvPr/>
        </p:nvSpPr>
        <p:spPr>
          <a:xfrm rot="21144600">
            <a:off x="324000" y="141264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7d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борочный тур</a:t>
            </a:r>
            <a:endParaRPr b="1" lang="en-US" sz="1800" spc="1" strike="noStrike">
              <a:ln w="25560">
                <a:solidFill>
                  <a:srgbClr val="00007d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7" descr="i1"/>
          <p:cNvPicPr/>
          <p:nvPr/>
        </p:nvPicPr>
        <p:blipFill>
          <a:blip r:embed="rId2"/>
          <a:stretch/>
        </p:blipFill>
        <p:spPr>
          <a:xfrm>
            <a:off x="6443640" y="2924280"/>
            <a:ext cx="1716120" cy="20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50920" y="1484280"/>
            <a:ext cx="756108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н всегда имел запас калькуляторо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3924360" y="1700280"/>
            <a:ext cx="1704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с ка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Найдите знакомые термины в следующих фраз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042920" y="2708280"/>
            <a:ext cx="64915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приказу директо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ы шка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еставили в уго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2844720" y="3467160"/>
            <a:ext cx="23749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84360" y="692280"/>
            <a:ext cx="78483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  В коробке лежат 5 карандашей: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 сини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 крас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Сколько карандашей надо взять из коробки, не заглядывая в неё, чтобы среди них был хотя б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ин красны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аранда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Отгадайте ан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5280" y="3500280"/>
            <a:ext cx="770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лодая наука, рожденная компьюте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1187280" y="5084640"/>
            <a:ext cx="61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К  +  УМ  +  НЕ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457200"/>
            <a:ext cx="757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заимодействия программы и пользов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042920" y="2060640"/>
            <a:ext cx="619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ЙФ  +  РЕ  +  Н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748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мпьютерное зазерка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говременный склероз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перативная пам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кальный 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Глобальная се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цовский б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Материнская пл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оптимиза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Picture 14" descr="218"/>
          <p:cNvPicPr/>
          <p:nvPr/>
        </p:nvPicPr>
        <p:blipFill>
          <a:blip r:embed="rId3"/>
          <a:stretch/>
        </p:blipFill>
        <p:spPr>
          <a:xfrm>
            <a:off x="2411280" y="3645000"/>
            <a:ext cx="190512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Друзья мои!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Поверьте: год за годом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Не отпадет нам в информатике нужда,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компьютер переста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быть нам богом –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Мы подчиним его себе, и –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очное и понятное предписание исполнителю совершить указанную последовательность команд назыв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-сх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ую модель вычислительной машины, которая могла выполнять арифметические операции, со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льгельм Лейб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 Гау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фнутий Чебы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ая программа была напис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ом Бэббид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ой Августой Лавл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ардом Айк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м Алл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Возможность применения алгоритма для решения любой задачи из круга задач, для которого он был предназначен. О каком свойстве идёт реч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иклический алгоритм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кратное повторение однотипных действий при различных значениях параметров, определяющих эти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операций, предполагающих различные варианты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ьное выполнение операций в порядке их 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оритм перехода на начало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126828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 фрагмент программы на языке Паскаль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:=27;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a&gt;0 then a:=a*2 else a:=a+2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ln(a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удет выведено на экран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3284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ние об ошиб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71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ставьте строки программы в правильном порядке, чтобы получилась программа, которая находит сумму первых десяти натуральных чис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ln(s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 i,s:integ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s+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i:=1 to 10 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0:57:42Z</dcterms:created>
  <dc:creator>щзщз</dc:creator>
  <dc:description/>
  <dc:language>en-US</dc:language>
  <cp:lastModifiedBy>acer pc</cp:lastModifiedBy>
  <dcterms:modified xsi:type="dcterms:W3CDTF">2013-11-27T17:01:33Z</dcterms:modified>
  <cp:revision>36</cp:revision>
  <dc:subject/>
  <dc:title>Слайд 1</dc:title>
</cp:coreProperties>
</file>