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1.gif" ContentType="image/gif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F976-F022-4875-A55D-23FAC1B7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2DC8-B176-48FA-B6D0-A631D1EE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CDF6A-C5DC-46E2-A3D3-000EB193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182CB-569A-463B-AF8A-7867B208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11B73-72ED-4086-ADCA-7E7AC5DC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8C4FE-1636-4A56-82DE-17EC64FB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4959A-07BF-4BB1-8E0A-6E1369E1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08560-B560-4602-A36D-F160A6AA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572D4-86C5-4D9B-B966-2297B569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90E36-128E-4F99-87E6-8D7CB3DB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953AA-D67D-4789-B9AE-5EC4CA89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7FE4F-42FF-457F-B1FE-2EA2FFCD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665D-55C3-4829-9573-A9636B77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AC95C-A1F1-4BBA-98FD-75552DC6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43447-7E3E-4409-84A1-070A472B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ACD72-813B-4BAE-84B3-FE4970F4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C9469-424E-4999-BE8E-AAC9EA04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780ED-03A9-4481-AF39-6C308E42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5BD9D9-B1C6-4068-95CA-D78AC9E5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FC56D1-4FC5-4F41-BC30-47EF6C4C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77334-1205-4D0B-9772-B531F059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48AAF-11A0-49E8-AE3C-DC277BB8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51A4D-AE6F-4D9C-984D-A9AB53EA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2E16-DBD8-4AF8-ADED-0F56DEA8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3A381-814C-402A-B5E4-A573352F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9F349-EE6C-41E6-8406-650A4A22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267CD-4135-43DE-9D03-1383E76A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AE064-1F65-4D50-BAE7-321B3E13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8B512-6C61-415B-ACFF-3AD877EE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3EBA7-2745-44BA-A22C-74F52017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5986F9-C489-4A0F-9FD0-B25577A2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F9EC7-A24A-435E-9241-394C0085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DE1BE-37E0-4CE6-9793-99F8676C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60416-70CC-4D4D-BBC1-96602D97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F168-9319-4421-83B4-C4D2827E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C6613-404F-4E44-918B-061717E1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EE229-6046-4C03-9272-D0747B71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C580B-CCEA-49FA-8E0A-A6159A15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FA618-1AB8-489A-9DB6-68F59481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582B0-95D7-4328-8BBA-106F7FCE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E2D6D-F67E-404A-B8A4-FBB6311F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76F81-C6AD-499D-A1CB-9FF7747E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5AA3F-88DE-4679-AC04-EBB761F0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E3759-58C1-4F2D-A747-D69A0C9F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2C163-F6C4-4EC0-B58E-14E6B0DB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DB0A-6432-4E48-9227-FA441C5C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6A95C1-B550-4FD0-A023-9822E820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DE822-1BB4-4171-B56F-3EBF8C93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987001-29C4-41FD-8C5E-E5771499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146FC7-38F8-4F98-9B20-57BD93327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B0CB28-4E36-4FA8-86AF-5B8A98E2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D59D-A092-41D4-B111-0722F665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6486-30BD-471C-9C0F-73FFBCE8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C4F7-998A-448F-923E-18FC500C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7EF8-22D4-4389-B2F4-8C7D8E91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45DC-CB17-4B9E-B67E-C24703D0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65D0-38EC-46F0-B13F-7C128277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014A-CF67-40EB-9912-02A472D3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2671-80BC-45FD-BB14-C4FA20B6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008C-8D59-433C-988E-71840216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2361-20F5-4FA5-BF94-368CFEC0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A1DF-8DF8-4E8C-99C0-A60043F0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ECF54-68B7-4FE7-98ED-639F4652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97C01-9D81-42A7-A569-8F4256BE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7D42A-AB90-4E22-BC57-8BB79B8E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79D11-0EF8-4060-B129-2C3E7714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9DFD2-76CA-4414-AAE0-D5CB7F40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A9DD-E2C8-4CAE-8EFA-22806066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4FE2D-FA66-44BA-BF87-79EE038B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0DFD0-B98B-4C00-A092-D402F205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39F22-0ADE-4860-8541-4DD63AB5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87E09-7593-49F8-B731-F1CAD9D6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4ACBF-090C-4E70-90BC-FAE8FD77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DCB27-ABCC-4195-8AED-50D1532C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3F4AB-1EB6-4D1D-8CE6-223BBBFE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59722-29DD-46D0-9BB8-BBD68526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AC6E5-FE75-4368-840A-520B6BFDE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60894-78BE-4CFA-9E59-BA045E55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E58D-3D69-4EE0-B817-E6D8C465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137E9-70AE-4A16-A6EF-8FD92A4D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138D9-F74E-43D2-B5A5-4986BBCD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1E7AF-C33B-47F6-9D81-E360C7A0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DCA87-5B07-4DF9-B7B9-F5CF77E6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1BFAB-C443-4762-96C5-E95827FE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51587-82E1-4DDC-95DE-928A571F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C800D-6E4A-4CAA-B2F4-81BAAD40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5C811-D0AC-4C9D-93ED-57FD64D46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D4E65-69B7-4B90-B28F-41A10594B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E931E-659D-4059-AFCD-75C8B9BD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457A-2961-47D7-BDDB-4E2674D3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CBEFB-F2BE-4A58-8062-30903BFC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B1B90-9261-4E39-B4D0-F27B16BD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B979E-BB28-48F4-A426-9A59BF2B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E4E7E-ED59-4B7B-A44B-0DF13096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D95E8-3377-469C-B0F1-D1B65754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071F2-7F5A-426F-A0E2-71F6405F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25234-5885-472B-A497-3CD005EA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79C08-2851-4EB9-8062-D102AD57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DDD07-AB2B-4211-B9FD-2CCD9438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666D0-BC12-4029-9F3D-5CA098BF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4465-976A-4A2E-8BCD-0CC22D6A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81BDD-B27A-40BF-AF7A-28DD650E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39050-0BE0-4AFC-9594-629650111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43343-9CCE-4461-81EA-0DDFDF70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A6EF0-9531-4788-88F9-D5A07B13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401CF-B01C-4C4E-9E3F-04B91766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75A15-E203-4B48-BEBE-75DF8014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D10FD-0EF4-4D1D-A78E-E86036ED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080C7-3C5D-4B5E-A0FC-AA26D8A4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9D792-C4A4-4CD2-A79B-781E6290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DC702-C7D7-4385-9B8E-21D1DC58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E90C-11FA-4AD8-82EC-B3740212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46709-2841-4F65-B916-79DAB1FE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ED42A-FB19-4F47-AC98-C243F865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9ACAA-3347-4CC4-A993-8461A1CE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C931F-1CF7-498A-860F-6803E7C5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9D2F7-4982-47A8-A2F6-D8616725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D62A5-5B99-439F-96EE-8F9B580E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30E64-D645-49F6-B34A-2737F3DC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FB1BD-17ED-4CEA-B11D-C1F47598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4CA65-2A07-4905-A481-40C93386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72E25-B630-4898-9021-B0F1543E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7F09-3302-4121-B97D-EAFF5E00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462EC-54AF-430B-B877-438471C6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94408-147F-48BA-95BC-9AE07FEC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39F6A-1DEE-42E0-B7D3-1BB82271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2F109-5212-4590-B819-511F2156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32715-A9C0-425A-8052-BC5D3136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A6AF0-24F9-4C10-88A4-C62D8732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76CE4-136A-45C5-AA09-DB3CCC20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68FB5-EFBE-4F14-884F-56E6E2B5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D0F86-0184-4069-98BB-54E49ADA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FC800-A0D4-4680-B2C0-88E67281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75D5-4CD9-42A7-8C11-CF5649C5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65CE5-A088-451E-A0CE-712F88E8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F1FEB-E8AF-4920-9D33-0445FCDE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5CA36-8A7B-408F-9BD4-2D792714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31F26-4C46-4011-9AE1-0AA178CA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31D8B-7CD0-4ECE-A6B8-BFF03A03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69D98-B0DF-430E-AD18-6C3A5F523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77527-711C-4B79-9B08-E9B15A89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E40DB-491A-4200-A7F2-343A06F5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EAA99-3BD1-46D3-ADCD-75322813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2BC59-4FF1-4D70-8EDD-37774D81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:\графика\asadal\scool\scool\38 [Converted]111.png"/>
          <p:cNvPicPr/>
          <p:nvPr/>
        </p:nvPicPr>
        <p:blipFill>
          <a:blip r:embed="rId2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:\графика\asadal\scool\scool\38 [Converted].png"/>
          <p:cNvPicPr/>
          <p:nvPr/>
        </p:nvPicPr>
        <p:blipFill>
          <a:blip r:embed="rId3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4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2721-6CE1-4DCF-BF7C-C95EE1D1ED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65CF-0023-4BCC-928E-5FD6438743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56580-F57B-4210-BF85-8AC7CCE66E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069A-1C2A-4B5B-A5BC-FD40D3B9EB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H:\графика\asadal\scool\scool\38 [Converted].png"/>
          <p:cNvPicPr/>
          <p:nvPr/>
        </p:nvPicPr>
        <p:blipFill>
          <a:blip r:embed="rId2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графика\asadal\scool\scool\23\10101010.png"/>
          <p:cNvPicPr/>
          <p:nvPr/>
        </p:nvPicPr>
        <p:blipFill>
          <a:blip r:embed="rId3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8625-A462-4B29-BE77-05606A24E537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445F-668B-45D6-B089-F7F18234EB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25E8-1476-4AD2-8F17-E44628F95B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FA1C-7AEC-4338-870C-A8C83CAA93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5755-1ADA-44F0-8D25-05CA2F6FF8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B33E-5349-4FC1-BC87-E906069F74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D405-DE85-4C6A-BD60-ABC69F0DD8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7942-B600-40AA-95DC-538E8799B7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10.jpe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1.png"/><Relationship Id="rId10" Type="http://schemas.openxmlformats.org/officeDocument/2006/relationships/image" Target="../media/image10.jpeg"/><Relationship Id="rId11" Type="http://schemas.openxmlformats.org/officeDocument/2006/relationships/image" Target="../media/image21.gif"/><Relationship Id="rId1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hyperlink" Target="http://www.englishteachers.ru/forum/index.php?showtopic=706&amp;view=findpost&amp;p=28385" TargetMode="External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O68uTk-T_E&amp;feature=fvw" TargetMode="External"/><Relationship Id="rId2" Type="http://schemas.openxmlformats.org/officeDocument/2006/relationships/hyperlink" Target="http://www.youtube.com/watch?v=7AxNI3PhvBo&amp;feature=related" TargetMode="External"/><Relationship Id="rId3" Type="http://schemas.openxmlformats.org/officeDocument/2006/relationships/hyperlink" Target="http://www.youtube.com/watch?v=2xeIry9Kmbk" TargetMode="External"/><Relationship Id="rId4" Type="http://schemas.openxmlformats.org/officeDocument/2006/relationships/hyperlink" Target="http://docs.google.com/present/view?id=ddz7gq4w_0dkk24ffw" TargetMode="External"/><Relationship Id="rId5" Type="http://schemas.openxmlformats.org/officeDocument/2006/relationships/hyperlink" Target="http://www.chinswing.com/" TargetMode="External"/><Relationship Id="rId6" Type="http://schemas.openxmlformats.org/officeDocument/2006/relationships/hyperlink" Target="http://www.voxopop.com/" TargetMode="External"/><Relationship Id="rId7" Type="http://schemas.openxmlformats.org/officeDocument/2006/relationships/hyperlink" Target="http://www.chinswing.com/" TargetMode="External"/><Relationship Id="rId8" Type="http://schemas.openxmlformats.org/officeDocument/2006/relationships/hyperlink" Target="http://www.voxopop.com/signup" TargetMode="External"/><Relationship Id="rId9" Type="http://schemas.openxmlformats.org/officeDocument/2006/relationships/hyperlink" Target="http://www.listen-and-write.com/" TargetMode="External"/><Relationship Id="rId10" Type="http://schemas.openxmlformats.org/officeDocument/2006/relationships/hyperlink" Target="http://www.bbc.co.uk/" TargetMode="External"/><Relationship Id="rId11" Type="http://schemas.openxmlformats.org/officeDocument/2006/relationships/hyperlink" Target="http://www.bbc.co.uk/worldservice/learningenglish/teach/discuss/2009/04/090427_teach_discuss_al.shtml" TargetMode="External"/><Relationship Id="rId12" Type="http://schemas.openxmlformats.org/officeDocument/2006/relationships/hyperlink" Target="http://www.youtube.com/" TargetMode="External"/><Relationship Id="rId13" Type="http://schemas.openxmlformats.org/officeDocument/2006/relationships/hyperlink" Target="http://www.efl.ru/links/listening/" TargetMode="External"/><Relationship Id="rId14" Type="http://schemas.openxmlformats.org/officeDocument/2006/relationships/hyperlink" Target="http://www.voanews.com/specialenglish/" TargetMode="External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hyperlink" Target="http://festival.1september.ru/articles/311345/" TargetMode="External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hyperlink" Target="http://mind42.com/about;jsessionid=A9A14662DB6C776741B4C538B1BF192F" TargetMode="External"/><Relationship Id="rId7" Type="http://schemas.openxmlformats.org/officeDocument/2006/relationships/image" Target="../media/image21.gif"/><Relationship Id="rId8" Type="http://schemas.openxmlformats.org/officeDocument/2006/relationships/hyperlink" Target="file:///Trofimova%20-%20&#1087;&#1086;&#1076;&#1082;&#1072;&#1089;&#1090;&#1080;&#1085;&#1075;.doc" TargetMode="External"/><Relationship Id="rId9" Type="http://schemas.openxmlformats.org/officeDocument/2006/relationships/hyperlink" Target="file:///Rovenskikh_SV_week4_Voxopop.doc" TargetMode="External"/><Relationship Id="rId10" Type="http://schemas.openxmlformats.org/officeDocument/2006/relationships/hyperlink" Target="file:///Korneva_4_Forum.docx" TargetMode="External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Заголовок 1" descr=""/>
          <p:cNvPicPr/>
          <p:nvPr/>
        </p:nvPicPr>
        <p:blipFill>
          <a:blip r:embed="rId1"/>
          <a:stretch/>
        </p:blipFill>
        <p:spPr>
          <a:xfrm>
            <a:off x="-6480" y="1427040"/>
            <a:ext cx="9156960" cy="1297080"/>
          </a:xfrm>
          <a:prstGeom prst="rect">
            <a:avLst/>
          </a:prstGeom>
          <a:ln w="0">
            <a:noFill/>
          </a:ln>
        </p:spPr>
      </p:pic>
      <p:pic>
        <p:nvPicPr>
          <p:cNvPr id="498" name="Подзаголовок 2" descr=""/>
          <p:cNvPicPr/>
          <p:nvPr/>
        </p:nvPicPr>
        <p:blipFill>
          <a:blip r:embed="rId2"/>
          <a:stretch/>
        </p:blipFill>
        <p:spPr>
          <a:xfrm>
            <a:off x="-6480" y="2664000"/>
            <a:ext cx="9156960" cy="228600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4" descr="Audio.jpg"/>
          <p:cNvPicPr/>
          <p:nvPr/>
        </p:nvPicPr>
        <p:blipFill>
          <a:blip r:embed="rId3"/>
          <a:stretch/>
        </p:blipFill>
        <p:spPr>
          <a:xfrm>
            <a:off x="122400" y="133200"/>
            <a:ext cx="3674880" cy="2318040"/>
          </a:xfrm>
          <a:prstGeom prst="rect">
            <a:avLst/>
          </a:prstGeom>
          <a:ln w="0">
            <a:noFill/>
          </a:ln>
        </p:spPr>
      </p:pic>
      <p:pic>
        <p:nvPicPr>
          <p:cNvPr id="500" name="TextBox 6" descr=""/>
          <p:cNvPicPr/>
          <p:nvPr/>
        </p:nvPicPr>
        <p:blipFill>
          <a:blip r:embed="rId4"/>
          <a:stretch/>
        </p:blipFill>
        <p:spPr>
          <a:xfrm>
            <a:off x="5205240" y="274680"/>
            <a:ext cx="3445200" cy="7556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7"/>
          <p:cNvPicPr/>
          <p:nvPr/>
        </p:nvPicPr>
        <p:blipFill>
          <a:blip r:embed="rId5"/>
          <a:stretch/>
        </p:blipFill>
        <p:spPr>
          <a:xfrm>
            <a:off x="0" y="5718240"/>
            <a:ext cx="9144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Заголовок 1" descr=""/>
          <p:cNvPicPr/>
          <p:nvPr/>
        </p:nvPicPr>
        <p:blipFill>
          <a:blip r:embed="rId1"/>
          <a:stretch/>
        </p:blipFill>
        <p:spPr>
          <a:xfrm>
            <a:off x="-6480" y="-176040"/>
            <a:ext cx="9156960" cy="1541160"/>
          </a:xfrm>
          <a:prstGeom prst="rect">
            <a:avLst/>
          </a:prstGeom>
          <a:ln w="0">
            <a:noFill/>
          </a:ln>
        </p:spPr>
      </p:pic>
      <p:pic>
        <p:nvPicPr>
          <p:cNvPr id="532" name="Схема 3" descr=""/>
          <p:cNvPicPr/>
          <p:nvPr/>
        </p:nvPicPr>
        <p:blipFill>
          <a:blip r:embed="rId2"/>
          <a:stretch/>
        </p:blipFill>
        <p:spPr>
          <a:xfrm>
            <a:off x="781200" y="1285920"/>
            <a:ext cx="8229600" cy="5499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Заголовок 3" descr=""/>
          <p:cNvPicPr/>
          <p:nvPr/>
        </p:nvPicPr>
        <p:blipFill>
          <a:blip r:embed="rId1"/>
          <a:stretch/>
        </p:blipFill>
        <p:spPr>
          <a:xfrm>
            <a:off x="-6480" y="30240"/>
            <a:ext cx="9156960" cy="1401840"/>
          </a:xfrm>
          <a:prstGeom prst="rect">
            <a:avLst/>
          </a:prstGeom>
          <a:ln w="0">
            <a:noFill/>
          </a:ln>
        </p:spPr>
      </p:pic>
      <p:pic>
        <p:nvPicPr>
          <p:cNvPr id="535" name="Схема 4" descr=""/>
          <p:cNvPicPr/>
          <p:nvPr/>
        </p:nvPicPr>
        <p:blipFill>
          <a:blip r:embed="rId2"/>
          <a:stretch/>
        </p:blipFill>
        <p:spPr>
          <a:xfrm>
            <a:off x="208080" y="1420920"/>
            <a:ext cx="8802720" cy="5235480"/>
          </a:xfrm>
          <a:prstGeom prst="rect">
            <a:avLst/>
          </a:prstGeom>
          <a:ln w="0">
            <a:noFill/>
          </a:ln>
        </p:spPr>
      </p:pic>
      <p:pic>
        <p:nvPicPr>
          <p:cNvPr id="536" name="Блок-схема: узел 9" descr=""/>
          <p:cNvPicPr/>
          <p:nvPr/>
        </p:nvPicPr>
        <p:blipFill>
          <a:blip r:embed="rId3"/>
          <a:stretch/>
        </p:blipFill>
        <p:spPr>
          <a:xfrm>
            <a:off x="3541680" y="3181320"/>
            <a:ext cx="1981080" cy="1628640"/>
          </a:xfrm>
          <a:prstGeom prst="rect">
            <a:avLst/>
          </a:prstGeom>
          <a:ln w="0">
            <a:noFill/>
          </a:ln>
        </p:spPr>
      </p:pic>
      <p:sp>
        <p:nvSpPr>
          <p:cNvPr id="537" name="Прямоугольник 10"/>
          <p:cNvSpPr/>
          <p:nvPr/>
        </p:nvSpPr>
        <p:spPr>
          <a:xfrm>
            <a:off x="6726960" y="600084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39" name="Рисунок 6" descr="anilook.gif"/>
          <p:cNvPicPr/>
          <p:nvPr/>
        </p:nvPicPr>
        <p:blipFill>
          <a:blip r:embed="rId5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Заголовок 1" descr=""/>
          <p:cNvPicPr/>
          <p:nvPr/>
        </p:nvPicPr>
        <p:blipFill>
          <a:blip r:embed="rId1"/>
          <a:stretch/>
        </p:blipFill>
        <p:spPr>
          <a:xfrm>
            <a:off x="-6480" y="-66600"/>
            <a:ext cx="9156960" cy="1431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42" name="Рисунок 3" descr="аудир.jpg"/>
          <p:cNvPicPr/>
          <p:nvPr/>
        </p:nvPicPr>
        <p:blipFill>
          <a:blip r:embed="rId3"/>
          <a:stretch/>
        </p:blipFill>
        <p:spPr>
          <a:xfrm>
            <a:off x="5138640" y="2004840"/>
            <a:ext cx="3475080" cy="364680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14"/>
          <p:cNvSpPr/>
          <p:nvPr/>
        </p:nvSpPr>
        <p:spPr>
          <a:xfrm>
            <a:off x="714240" y="1500120"/>
            <a:ext cx="2786040" cy="538200"/>
          </a:xfrm>
          <a:prstGeom prst="can">
            <a:avLst>
              <a:gd name="adj" fmla="val 25000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4"/>
          <p:cNvSpPr/>
          <p:nvPr/>
        </p:nvSpPr>
        <p:spPr>
          <a:xfrm>
            <a:off x="714240" y="2000160"/>
            <a:ext cx="2786040" cy="609840"/>
          </a:xfrm>
          <a:prstGeom prst="can">
            <a:avLst>
              <a:gd name="adj" fmla="val 25000"/>
            </a:avLst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4"/>
          <p:cNvSpPr/>
          <p:nvPr/>
        </p:nvSpPr>
        <p:spPr>
          <a:xfrm>
            <a:off x="714240" y="2571840"/>
            <a:ext cx="2786040" cy="609480"/>
          </a:xfrm>
          <a:prstGeom prst="can">
            <a:avLst>
              <a:gd name="adj" fmla="val 25000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Articulating while li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714240" y="3143160"/>
            <a:ext cx="2786040" cy="609840"/>
          </a:xfrm>
          <a:prstGeom prst="can">
            <a:avLst>
              <a:gd name="adj" fmla="val 25000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uessing unknown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714240" y="3714840"/>
            <a:ext cx="2786040" cy="609480"/>
          </a:xfrm>
          <a:prstGeom prst="can">
            <a:avLst>
              <a:gd name="adj" fmla="val 25000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4"/>
          <p:cNvSpPr/>
          <p:nvPr/>
        </p:nvSpPr>
        <p:spPr>
          <a:xfrm>
            <a:off x="714240" y="4286160"/>
            <a:ext cx="2786040" cy="609840"/>
          </a:xfrm>
          <a:prstGeom prst="can">
            <a:avLst>
              <a:gd name="adj" fmla="val 25000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4"/>
          <p:cNvSpPr/>
          <p:nvPr/>
        </p:nvSpPr>
        <p:spPr>
          <a:xfrm>
            <a:off x="714240" y="4857840"/>
            <a:ext cx="27860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b9a99"/>
              </a:gs>
              <a:gs pos="100000">
                <a:srgbClr val="eee1e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Bingo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4"/>
          <p:cNvSpPr/>
          <p:nvPr/>
        </p:nvSpPr>
        <p:spPr>
          <a:xfrm>
            <a:off x="714240" y="5429160"/>
            <a:ext cx="2786040" cy="60984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714240" y="6000840"/>
            <a:ext cx="2786040" cy="609480"/>
          </a:xfrm>
          <a:prstGeom prst="can">
            <a:avLst>
              <a:gd name="adj" fmla="val 25000"/>
            </a:avLst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3"/>
          <p:cNvSpPr/>
          <p:nvPr/>
        </p:nvSpPr>
        <p:spPr>
          <a:xfrm>
            <a:off x="642960" y="164304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4"/>
          <p:cNvSpPr/>
          <p:nvPr/>
        </p:nvSpPr>
        <p:spPr>
          <a:xfrm>
            <a:off x="642960" y="21430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7"/>
          <p:cNvSpPr/>
          <p:nvPr/>
        </p:nvSpPr>
        <p:spPr>
          <a:xfrm>
            <a:off x="1000080" y="38577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Arial"/>
              </a:rPr>
              <a:t>Activity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0"/>
          <p:cNvSpPr/>
          <p:nvPr/>
        </p:nvSpPr>
        <p:spPr>
          <a:xfrm>
            <a:off x="1143000" y="557208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Стрелка вправо 21"/>
          <p:cNvSpPr/>
          <p:nvPr/>
        </p:nvSpPr>
        <p:spPr>
          <a:xfrm>
            <a:off x="3643200" y="3571920"/>
            <a:ext cx="1428840" cy="1143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2"/>
          <p:cNvSpPr/>
          <p:nvPr/>
        </p:nvSpPr>
        <p:spPr>
          <a:xfrm>
            <a:off x="6869880" y="585792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Рисунок 19" descr="anilook.gif"/>
          <p:cNvPicPr/>
          <p:nvPr/>
        </p:nvPicPr>
        <p:blipFill>
          <a:blip r:embed="rId4"/>
          <a:stretch/>
        </p:blipFill>
        <p:spPr>
          <a:xfrm>
            <a:off x="142920" y="6429240"/>
            <a:ext cx="642960" cy="3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3" descr="Рисунок37.png"/>
          <p:cNvPicPr/>
          <p:nvPr/>
        </p:nvPicPr>
        <p:blipFill>
          <a:blip r:embed="rId2"/>
          <a:stretch/>
        </p:blipFill>
        <p:spPr>
          <a:xfrm>
            <a:off x="133200" y="1566720"/>
            <a:ext cx="2372040" cy="201168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5" descr="Рисунок37.png"/>
          <p:cNvPicPr/>
          <p:nvPr/>
        </p:nvPicPr>
        <p:blipFill>
          <a:blip r:embed="rId3"/>
          <a:stretch/>
        </p:blipFill>
        <p:spPr>
          <a:xfrm>
            <a:off x="853920" y="2992320"/>
            <a:ext cx="2438640" cy="208620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6" descr="Рисунок37.png"/>
          <p:cNvPicPr/>
          <p:nvPr/>
        </p:nvPicPr>
        <p:blipFill>
          <a:blip r:embed="rId4"/>
          <a:stretch/>
        </p:blipFill>
        <p:spPr>
          <a:xfrm>
            <a:off x="1706400" y="4565520"/>
            <a:ext cx="2511720" cy="201132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8" descr="Рисунок37.png"/>
          <p:cNvPicPr/>
          <p:nvPr/>
        </p:nvPicPr>
        <p:blipFill>
          <a:blip r:embed="rId5"/>
          <a:stretch/>
        </p:blipFill>
        <p:spPr>
          <a:xfrm>
            <a:off x="3067200" y="1566720"/>
            <a:ext cx="2584440" cy="201168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9" descr="Рисунок37.png"/>
          <p:cNvPicPr/>
          <p:nvPr/>
        </p:nvPicPr>
        <p:blipFill>
          <a:blip r:embed="rId6"/>
          <a:stretch/>
        </p:blipFill>
        <p:spPr>
          <a:xfrm>
            <a:off x="3706920" y="3067200"/>
            <a:ext cx="2444760" cy="208440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10" descr="Рисунок37.png"/>
          <p:cNvPicPr/>
          <p:nvPr/>
        </p:nvPicPr>
        <p:blipFill>
          <a:blip r:embed="rId7"/>
          <a:stretch/>
        </p:blipFill>
        <p:spPr>
          <a:xfrm>
            <a:off x="4705200" y="4565520"/>
            <a:ext cx="2603520" cy="208440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2" descr="Рисунок37.png"/>
          <p:cNvPicPr/>
          <p:nvPr/>
        </p:nvPicPr>
        <p:blipFill>
          <a:blip r:embed="rId8"/>
          <a:stretch/>
        </p:blipFill>
        <p:spPr>
          <a:xfrm>
            <a:off x="5924520" y="1566720"/>
            <a:ext cx="2725920" cy="208440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3" descr="Рисунок37.png"/>
          <p:cNvPicPr/>
          <p:nvPr/>
        </p:nvPicPr>
        <p:blipFill>
          <a:blip r:embed="rId9"/>
          <a:stretch/>
        </p:blipFill>
        <p:spPr>
          <a:xfrm>
            <a:off x="6566040" y="3067200"/>
            <a:ext cx="2444760" cy="2084400"/>
          </a:xfrm>
          <a:prstGeom prst="rect">
            <a:avLst/>
          </a:prstGeom>
          <a:ln w="0">
            <a:noFill/>
          </a:ln>
        </p:spPr>
      </p:pic>
      <p:sp>
        <p:nvSpPr>
          <p:cNvPr id="568" name="TextBox 15"/>
          <p:cNvSpPr/>
          <p:nvPr/>
        </p:nvSpPr>
        <p:spPr>
          <a:xfrm>
            <a:off x="642960" y="24289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7"/>
          <p:cNvSpPr/>
          <p:nvPr/>
        </p:nvSpPr>
        <p:spPr>
          <a:xfrm>
            <a:off x="1428840" y="3714840"/>
            <a:ext cx="13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8"/>
          <p:cNvSpPr/>
          <p:nvPr/>
        </p:nvSpPr>
        <p:spPr>
          <a:xfrm>
            <a:off x="2357280" y="5500800"/>
            <a:ext cx="150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ut pictures i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9"/>
          <p:cNvSpPr/>
          <p:nvPr/>
        </p:nvSpPr>
        <p:spPr>
          <a:xfrm>
            <a:off x="3643200" y="2357280"/>
            <a:ext cx="142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20"/>
          <p:cNvSpPr/>
          <p:nvPr/>
        </p:nvSpPr>
        <p:spPr>
          <a:xfrm>
            <a:off x="4429080" y="3857760"/>
            <a:ext cx="121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21"/>
          <p:cNvSpPr/>
          <p:nvPr/>
        </p:nvSpPr>
        <p:spPr>
          <a:xfrm>
            <a:off x="5715000" y="5357880"/>
            <a:ext cx="121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Answer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22"/>
          <p:cNvSpPr/>
          <p:nvPr/>
        </p:nvSpPr>
        <p:spPr>
          <a:xfrm>
            <a:off x="6429240" y="2286000"/>
            <a:ext cx="157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Multiple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23"/>
          <p:cNvSpPr/>
          <p:nvPr/>
        </p:nvSpPr>
        <p:spPr>
          <a:xfrm>
            <a:off x="7000920" y="3929040"/>
            <a:ext cx="14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Retell the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24"/>
          <p:cNvSpPr/>
          <p:nvPr/>
        </p:nvSpPr>
        <p:spPr>
          <a:xfrm>
            <a:off x="7072200" y="550080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3" descr="iCAQ59MFN"/>
          <p:cNvPicPr/>
          <p:nvPr/>
        </p:nvPicPr>
        <p:blipFill>
          <a:blip r:embed="rId10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78" name="Рисунок 24" descr="anilook.gif"/>
          <p:cNvPicPr/>
          <p:nvPr/>
        </p:nvPicPr>
        <p:blipFill>
          <a:blip r:embed="rId11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80" name="TextBox 2"/>
          <p:cNvSpPr/>
          <p:nvPr/>
        </p:nvSpPr>
        <p:spPr>
          <a:xfrm>
            <a:off x="857160" y="1643040"/>
            <a:ext cx="72867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пражнения для обучения слушанию можно условно поделить на три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d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сделай подписи к картинке или нарисуй услышанно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trans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заполни таблицу, схему, карту на основе прослушан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in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выскажи мн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2500200" y="6000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nglishteachers.ru/forum/index.php?showtopic=706&amp;view=findpost&amp;p=2838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mbria"/>
              </a:rPr>
              <a:t>For teachers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How to Be a Good Listener: Good Listeners: 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"/>
              </a:rPr>
              <a:t>http://www.youtube.com/watch?v=tO68uTk-T_E&amp;feature=fv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2"/>
              </a:rPr>
              <a:t>http://www.youtube.com/watch?v=7AxNI3PhvBo&amp;feature=related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ESL / ELT listening comprehension - 5th grade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3"/>
              </a:rPr>
              <a:t>http://www.youtube.com/watch?v=2xeIry9Kmbk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the presentation “Using audio resources”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4"/>
              </a:rPr>
              <a:t>http://docs.google.com/present/view?id=ddz7gq4w_0dkk24ff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5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6"/>
              </a:rPr>
              <a:t>http://www.voxopop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7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8"/>
              </a:rPr>
              <a:t>http://www.voxopop.com/signu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Listen and write dictation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9"/>
              </a:rPr>
              <a:t>http://www.listen-and-writ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Read about it.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Go to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0"/>
              </a:rPr>
              <a:t>www.bbc.co.uk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.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Read the following discussion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 “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What do you think is the best way to improve academic listening skills?”        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1"/>
              </a:rPr>
              <a:t>http://www.bbc.co.uk/worldservice/learningenglish/teach/discuss/2009/04/090427_teach_discuss_al.shtml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YouTube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2"/>
              </a:rPr>
              <a:t>http://www.youtub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 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3"/>
              </a:rPr>
              <a:t>http://www.efl.ru/links/listening/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VOA Special English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4"/>
              </a:rPr>
              <a:t>http://www.voanews.com/specialenglish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84" name="Picture 33" descr="iCAQ59MFN"/>
          <p:cNvPicPr/>
          <p:nvPr/>
        </p:nvPicPr>
        <p:blipFill>
          <a:blip r:embed="rId15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Источники  информации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grpSp>
        <p:nvGrpSpPr>
          <p:cNvPr id="586" name="Группа 26"/>
          <p:cNvGrpSpPr/>
          <p:nvPr/>
        </p:nvGrpSpPr>
        <p:grpSpPr>
          <a:xfrm>
            <a:off x="428760" y="1785960"/>
            <a:ext cx="8286480" cy="4714920"/>
            <a:chOff x="428760" y="1785960"/>
            <a:chExt cx="8286480" cy="4714920"/>
          </a:xfrm>
        </p:grpSpPr>
        <p:pic>
          <p:nvPicPr>
            <p:cNvPr id="587" name="Рисунок 27" descr="BD03200.png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8286480" cy="47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Прямоугольник 6"/>
            <p:cNvSpPr/>
            <p:nvPr/>
          </p:nvSpPr>
          <p:spPr>
            <a:xfrm>
              <a:off x="834840" y="1965240"/>
              <a:ext cx="7473960" cy="3741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9" name="Рисунок 25" descr="2.bmp"/>
          <p:cNvPicPr/>
          <p:nvPr/>
        </p:nvPicPr>
        <p:blipFill>
          <a:blip r:embed="rId2"/>
          <a:srcRect l="0" t="0" r="0" b="5404"/>
          <a:stretch/>
        </p:blipFill>
        <p:spPr>
          <a:xfrm>
            <a:off x="214200" y="357120"/>
            <a:ext cx="2189160" cy="1643040"/>
          </a:xfrm>
          <a:prstGeom prst="rect">
            <a:avLst/>
          </a:prstGeom>
          <a:ln w="0">
            <a:noFill/>
          </a:ln>
        </p:spPr>
      </p:pic>
      <p:sp>
        <p:nvSpPr>
          <p:cNvPr id="590" name="TextBox 8"/>
          <p:cNvSpPr/>
          <p:nvPr/>
        </p:nvSpPr>
        <p:spPr>
          <a:xfrm>
            <a:off x="1214280" y="2000160"/>
            <a:ext cx="692964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ов Е. И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— концепция коммуникативного иноязычного образования. — М.: Просвещение, 200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ина О. В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аудированию на уроках иностранного языка // Образование в современной школе. — 2001. — № 5-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вова Е.Н., Апальков В.Г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звитие и контроль коммуникативных умений: традиции и перспективы. М.: Педагогический университет «Первое сентября»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цун О.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«Возможности аудирования, как вида речевой деятельности в формировании языковой компетенции»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 http://festival.1september.ru/articles/311345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шкина И.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«Аудирование.Теория и методика преподавани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ttp://www.it-n.ru/board.aspx?cat_no=14410&amp;tmpl=Thread&amp;BoardId=15211&amp;ThreadId=165237&amp;page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rapidsteps.com/en/ru/blogs/tags/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teachingenglish.org.uk/rus/think/articles/pre-listening-activitie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ngilish.com/listening-activitie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тер – класс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иной Е.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t-n.ru/communities.aspx?cat_no=14410&amp;tmpl=com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езентации из коллекци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lenagold.ru/fon/clipar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500040" y="1357200"/>
            <a:ext cx="82296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 своей природе аудирование — это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восприятие акустического сигнала и аналитико-синтетический процесс по его обработке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, результатом которой является осмысление, понимание воспринимаемого объекта, сопоставление его с хранящимся в долговременной памяти образцом. Аудирование относится к рецептивному виду речевой деятельности.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 процессе обучения иностранному языку аудирование является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средством и целью обучения.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Обучение смысловому восприятию иноязычной речи на слух, то есть аудированию, — самый трудный для учащихся вид устной речевой деятельности, который может протекать без внешних проявлений, но требует больших интеллектуальных усилий со стороны воспринимающих иноязычную речь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4" name="Picture 33" descr="iCAQ59MFN"/>
          <p:cNvPicPr/>
          <p:nvPr/>
        </p:nvPicPr>
        <p:blipFill>
          <a:blip r:embed="rId2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Содержимое 3" descr=""/>
          <p:cNvPicPr/>
          <p:nvPr/>
        </p:nvPicPr>
        <p:blipFill>
          <a:blip r:embed="rId1"/>
          <a:stretch/>
        </p:blipFill>
        <p:spPr>
          <a:xfrm>
            <a:off x="341280" y="554040"/>
            <a:ext cx="852804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Результатом аудирования является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понимание или непонимание информации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Понимание речи на слух тесно связано с говорением – выражением мыслей средствами изучаемого языка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Говорение и аудирование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– две взаимосвязанные стороны устной речи. Аудирование – не только прием сообщения, но и подготовка во внутренней речи ответной реакции на услышанное. Чтобы сказать, надо услышать. Таким образом, аудирование подготавливает говорение, говорение помогает формированию восприятия речи на слух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Аудирование связано и с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чтение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Их объединяет принадлежность к рецептивным видам речевой деятельности, когда происходит восприятие – понимание – активная переработка информации, получаемой из речевых сообщений – при аудировании через слуховой канал, при чтении – через зрительный канал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Самым тесным образом связано аудирование и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с письмо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В процессе графического оформления человек проговаривает и слышит то, что пишет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8" name="Рисунок 3" descr="Audio.jpg"/>
          <p:cNvPicPr/>
          <p:nvPr/>
        </p:nvPicPr>
        <p:blipFill>
          <a:blip r:embed="rId2"/>
          <a:stretch/>
        </p:blipFill>
        <p:spPr>
          <a:xfrm>
            <a:off x="3706920" y="5851440"/>
            <a:ext cx="1371600" cy="8668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Заголовок 2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9" descr="1.png"/>
          <p:cNvPicPr/>
          <p:nvPr/>
        </p:nvPicPr>
        <p:blipFill>
          <a:blip r:embed="rId2"/>
          <a:stretch/>
        </p:blipFill>
        <p:spPr>
          <a:xfrm>
            <a:off x="357120" y="1500120"/>
            <a:ext cx="828684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Схема 3" descr=""/>
          <p:cNvPicPr/>
          <p:nvPr/>
        </p:nvPicPr>
        <p:blipFill>
          <a:blip r:embed="rId1"/>
          <a:stretch/>
        </p:blipFill>
        <p:spPr>
          <a:xfrm>
            <a:off x="414360" y="268200"/>
            <a:ext cx="8242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Заголовок 1" descr=""/>
          <p:cNvPicPr/>
          <p:nvPr/>
        </p:nvPicPr>
        <p:blipFill>
          <a:blip r:embed="rId1"/>
          <a:stretch/>
        </p:blipFill>
        <p:spPr>
          <a:xfrm>
            <a:off x="-6480" y="-139680"/>
            <a:ext cx="9156960" cy="1504800"/>
          </a:xfrm>
          <a:prstGeom prst="rect">
            <a:avLst/>
          </a:prstGeom>
          <a:ln w="0">
            <a:noFill/>
          </a:ln>
        </p:spPr>
      </p:pic>
      <p:pic>
        <p:nvPicPr>
          <p:cNvPr id="514" name="Содержимое 3" descr="listening.png"/>
          <p:cNvPicPr/>
          <p:nvPr/>
        </p:nvPicPr>
        <p:blipFill>
          <a:blip r:embed="rId2"/>
          <a:stretch/>
        </p:blipFill>
        <p:spPr>
          <a:xfrm>
            <a:off x="214200" y="1357200"/>
            <a:ext cx="8685360" cy="5000760"/>
          </a:xfrm>
          <a:prstGeom prst="rect">
            <a:avLst/>
          </a:prstGeom>
          <a:ln w="0">
            <a:noFill/>
          </a:ln>
        </p:spPr>
      </p:pic>
      <p:grpSp>
        <p:nvGrpSpPr>
          <p:cNvPr id="515" name="Группа 5"/>
          <p:cNvGrpSpPr/>
          <p:nvPr/>
        </p:nvGrpSpPr>
        <p:grpSpPr>
          <a:xfrm>
            <a:off x="140760" y="214200"/>
            <a:ext cx="1187640" cy="1117080"/>
            <a:chOff x="140760" y="214200"/>
            <a:chExt cx="1187640" cy="1117080"/>
          </a:xfrm>
        </p:grpSpPr>
        <p:pic>
          <p:nvPicPr>
            <p:cNvPr id="516" name="TextBox 5" descr=""/>
            <p:cNvPicPr/>
            <p:nvPr/>
          </p:nvPicPr>
          <p:blipFill>
            <a:blip r:embed="rId3"/>
            <a:stretch/>
          </p:blipFill>
          <p:spPr>
            <a:xfrm>
              <a:off x="142920" y="214200"/>
              <a:ext cx="768240" cy="65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Рисунок 7" descr="isanic.gif"/>
            <p:cNvPicPr/>
            <p:nvPr/>
          </p:nvPicPr>
          <p:blipFill>
            <a:blip r:embed="rId4"/>
            <a:stretch/>
          </p:blipFill>
          <p:spPr>
            <a:xfrm rot="835200">
              <a:off x="206640" y="533880"/>
              <a:ext cx="1055160" cy="68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Рисунок 9" descr="headphones.gif"/>
            <p:cNvPicPr/>
            <p:nvPr/>
          </p:nvPicPr>
          <p:blipFill>
            <a:blip r:embed="rId5"/>
            <a:stretch/>
          </p:blipFill>
          <p:spPr>
            <a:xfrm>
              <a:off x="151560" y="422280"/>
              <a:ext cx="75888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TextBox 8"/>
          <p:cNvSpPr/>
          <p:nvPr/>
        </p:nvSpPr>
        <p:spPr>
          <a:xfrm>
            <a:off x="357120" y="64292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mind42.com/about;jsessionid=A9A14662DB6C776741B4C538B1BF192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Рисунок 9" descr="anilook.gif"/>
          <p:cNvPicPr/>
          <p:nvPr/>
        </p:nvPicPr>
        <p:blipFill>
          <a:blip r:embed="rId7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9"/>
          <p:cNvSpPr/>
          <p:nvPr/>
        </p:nvSpPr>
        <p:spPr>
          <a:xfrm>
            <a:off x="5786280" y="54291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N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6286680" y="28576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Voxop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1"/>
          <p:cNvSpPr/>
          <p:nvPr/>
        </p:nvSpPr>
        <p:spPr>
          <a:xfrm>
            <a:off x="1643040" y="40006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5" name="Содержимое 3" descr=""/>
          <p:cNvPicPr/>
          <p:nvPr/>
        </p:nvPicPr>
        <p:blipFill>
          <a:blip r:embed="rId2"/>
          <a:stretch/>
        </p:blipFill>
        <p:spPr>
          <a:xfrm>
            <a:off x="396720" y="1322280"/>
            <a:ext cx="8345520" cy="539604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2" descr="girl-05.jpg"/>
          <p:cNvPicPr/>
          <p:nvPr/>
        </p:nvPicPr>
        <p:blipFill>
          <a:blip r:embed="rId3"/>
          <a:stretch/>
        </p:blipFill>
        <p:spPr>
          <a:xfrm>
            <a:off x="7286760" y="928800"/>
            <a:ext cx="1643040" cy="18777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Заголовок 3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30" name="Схема 11" descr=""/>
          <p:cNvPicPr/>
          <p:nvPr/>
        </p:nvPicPr>
        <p:blipFill>
          <a:blip r:embed="rId3"/>
          <a:stretch/>
        </p:blipFill>
        <p:spPr>
          <a:xfrm>
            <a:off x="152280" y="1384200"/>
            <a:ext cx="86932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9:07:06Z</dcterms:created>
  <dc:creator>Митюгина Т.Г.</dc:creator>
  <dc:description/>
  <dc:language>en-US</dc:language>
  <cp:lastModifiedBy>Tatyana</cp:lastModifiedBy>
  <dcterms:modified xsi:type="dcterms:W3CDTF">2011-09-28T12:53:34Z</dcterms:modified>
  <cp:revision>68</cp:revision>
  <dc:subject/>
  <dc:title>Аудирование (конспект лекции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76301049</vt:lpwstr>
  </property>
</Properties>
</file>