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89C-0E0E-468F-A233-160D25D2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940-D236-40A3-9A05-06869232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585-EB86-4428-98B3-6ED0462F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F557-D0FB-468B-A952-DADF2AAA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4C6-7DB0-42CF-8E9E-610DD30F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019-7CCC-4B75-9346-5B424068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5CF-FD0E-46B7-872E-9990830F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91D-B5DE-43F3-A9A6-5ACAB40C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F973-0035-49D5-9936-AD74444F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D1E-EB7D-4A7B-A70F-DE445EF3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21EF-2C61-4616-B60D-DE803056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BE3-97B5-4FCD-BAAB-3491B8EB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8D00-316A-49E5-9C7E-DC5D769B3A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aweb.gallaudet.edu/CLAST/Tutorial_and_Instructional_Programs/English_Works/Writing/Essays.html" TargetMode="External"/><Relationship Id="rId2" Type="http://schemas.openxmlformats.org/officeDocument/2006/relationships/hyperlink" Target="http://aaweb.gallaudet.edu/CLAST/Tutorial_and_Instructional_Programs/English_Works/Writing/Essays.html" TargetMode="External"/><Relationship Id="rId3" Type="http://schemas.openxmlformats.org/officeDocument/2006/relationships/hyperlink" Target="http://aaweb.gallaudet.edu/CLAST/Tutorial_and_Instructional_Programs/English_Works/Writing/Essays.html" TargetMode="External"/><Relationship Id="rId4" Type="http://schemas.openxmlformats.org/officeDocument/2006/relationships/hyperlink" Target="http://aaweb.gallaudet.edu/CLAST/Tutorial_and_Instructional_Programs/English_Works/Writing/Essays.html" TargetMode="External"/><Relationship Id="rId5" Type="http://schemas.openxmlformats.org/officeDocument/2006/relationships/hyperlink" Target="http://aaweb.gallaudet.edu/CLAST/Tutorial_and_Instructional_Programs/English_Works/Writing/Essays.html" TargetMode="External"/><Relationship Id="rId6" Type="http://schemas.openxmlformats.org/officeDocument/2006/relationships/hyperlink" Target="http://aaweb.gallaudet.edu/CLAST/Tutorial_and_Instructional_Programs/English_Works/Writing/Essays.html" TargetMode="External"/><Relationship Id="rId7" Type="http://schemas.openxmlformats.org/officeDocument/2006/relationships/hyperlink" Target="http://aaweb.gallaudet.edu/CLAST/Tutorial_and_Instructional_Programs/English_Works/Writing/Essays.html" TargetMode="External"/><Relationship Id="rId8" Type="http://schemas.openxmlformats.org/officeDocument/2006/relationships/hyperlink" Target="http://aaweb.gallaudet.edu/CLAST/Tutorial_and_Instructional_Programs/English_Works/Writing/Essays.html" TargetMode="External"/><Relationship Id="rId9" Type="http://schemas.openxmlformats.org/officeDocument/2006/relationships/hyperlink" Target="http://aaweb.gallaudet.edu/CLAST/Tutorial_and_Instructional_Programs/English_Works/Writing/Essays.html" TargetMode="External"/><Relationship Id="rId10" Type="http://schemas.openxmlformats.org/officeDocument/2006/relationships/hyperlink" Target="http://aaweb.gallaudet.edu/CLAST/Tutorial_and_Instructional_Programs/English_Works/Writing/Essays.html" TargetMode="External"/><Relationship Id="rId11" Type="http://schemas.openxmlformats.org/officeDocument/2006/relationships/hyperlink" Target="http://aaweb.gallaudet.edu/CLAST/Tutorial_and_Instructional_Programs/English_Works/Writing/Essays.html" TargetMode="External"/><Relationship Id="rId12" Type="http://schemas.openxmlformats.org/officeDocument/2006/relationships/hyperlink" Target="http://aaweb.gallaudet.edu/CLAST/Tutorial_and_Instructional_Programs/English_Works/Writing/Essays.html" TargetMode="External"/><Relationship Id="rId13" Type="http://schemas.openxmlformats.org/officeDocument/2006/relationships/hyperlink" Target="http://aaweb.gallaudet.edu/CLAST/Tutorial_and_Instructional_Programs/English_Works/Writing/Essays.html" TargetMode="External"/><Relationship Id="rId14" Type="http://schemas.openxmlformats.org/officeDocument/2006/relationships/hyperlink" Target="http://aaweb.gallaudet.edu/CLAST/Tutorial_and_Instructional_Programs/English_Works/Writing/Essays.html" TargetMode="External"/><Relationship Id="rId15" Type="http://schemas.openxmlformats.org/officeDocument/2006/relationships/hyperlink" Target="http://aaweb.gallaudet.edu/CLAST/Tutorial_and_Instructional_Programs/English_Works/Writing/Essays.html" TargetMode="External"/><Relationship Id="rId16" Type="http://schemas.openxmlformats.org/officeDocument/2006/relationships/hyperlink" Target="http://aaweb.gallaudet.edu/CLAST/Tutorial_and_Instructional_Programs/English_Works/Writing/Essays.html" TargetMode="External"/><Relationship Id="rId17" Type="http://schemas.openxmlformats.org/officeDocument/2006/relationships/hyperlink" Target="http://aaweb.gallaudet.edu/CLAST/Tutorial_and_Instructional_Programs/English_Works/Writing/Essays.html" TargetMode="External"/><Relationship Id="rId18" Type="http://schemas.openxmlformats.org/officeDocument/2006/relationships/hyperlink" Target="http://aaweb.gallaudet.edu/CLAST/Tutorial_and_Instructional_Programs/English_Works/Writing/Essays.html" TargetMode="External"/><Relationship Id="rId19" Type="http://schemas.openxmlformats.org/officeDocument/2006/relationships/hyperlink" Target="http://aaweb.gallaudet.edu/CLAST/Tutorial_and_Instructional_Programs/English_Works/Writing/Essays.html" TargetMode="External"/><Relationship Id="rId20" Type="http://schemas.openxmlformats.org/officeDocument/2006/relationships/hyperlink" Target="http://aaweb.gallaudet.edu/CLAST/Tutorial_and_Instructional_Programs/English_Works/Writing/Essays.html" TargetMode="External"/><Relationship Id="rId21" Type="http://schemas.openxmlformats.org/officeDocument/2006/relationships/hyperlink" Target="http://aaweb.gallaudet.edu/CLAST/Tutorial_and_Instructional_Programs/English_Works/Writing/Essays.html" TargetMode="External"/><Relationship Id="rId22" Type="http://schemas.openxmlformats.org/officeDocument/2006/relationships/hyperlink" Target="http://aaweb.gallaudet.edu/CLAST/Tutorial_and_Instructional_Programs/English_Works/Writing/Essays.html" TargetMode="External"/><Relationship Id="rId23" Type="http://schemas.openxmlformats.org/officeDocument/2006/relationships/hyperlink" Target="http://aaweb.gallaudet.edu/CLAST/Tutorial_and_Instructional_Programs/English_Works/Writing/Essays.html" TargetMode="External"/><Relationship Id="rId24" Type="http://schemas.openxmlformats.org/officeDocument/2006/relationships/hyperlink" Target="http://aaweb.gallaudet.edu/CLAST/Tutorial_and_Instructional_Programs/English_Works/Writing/Essays.html" TargetMode="External"/><Relationship Id="rId25" Type="http://schemas.openxmlformats.org/officeDocument/2006/relationships/hyperlink" Target="http://aaweb.gallaudet.edu/CLAST/Tutorial_and_Instructional_Programs/English_Works/Writing/Essays.html" TargetMode="External"/><Relationship Id="rId26" Type="http://schemas.openxmlformats.org/officeDocument/2006/relationships/hyperlink" Target="http://aaweb.gallaudet.edu/CLAST/Tutorial_and_Instructional_Programs/English_Works/Writing/Essays.html" TargetMode="External"/><Relationship Id="rId27" Type="http://schemas.openxmlformats.org/officeDocument/2006/relationships/hyperlink" Target="http://aaweb.gallaudet.edu/CLAST/Tutorial_and_Instructional_Programs/English_Works/Writing/Essays.html" TargetMode="External"/><Relationship Id="rId28" Type="http://schemas.openxmlformats.org/officeDocument/2006/relationships/hyperlink" Target="http://www.usingenglish.com/resources/essays/" TargetMode="External"/><Relationship Id="rId29" Type="http://schemas.openxmlformats.org/officeDocument/2006/relationships/hyperlink" Target="file:///&#1052;&#1077;&#1090;&#1086;&#1076;&#1080;&#1095;&#1077;&#1089;&#1082;&#1086;&#1077;%20&#1087;&#1080;&#1089;&#1100;&#1084;&#1086;.doc" TargetMode="External"/><Relationship Id="rId30" Type="http://schemas.openxmlformats.org/officeDocument/2006/relationships/hyperlink" Target="file:///&#1069;&#1057;&#1057;&#1045;%20&#1050;&#1040;&#1050;%20&#1060;&#1054;&#1056;&#1052;&#1040;%20&#1058;&#1042;&#1054;&#1056;&#1063;&#1045;&#1057;&#1050;&#1054;&#1043;&#1054;%20&#1055;&#1048;&#1057;&#1068;&#1052;&#1045;&#1053;&#1053;&#1054;&#1043;&#1054;%20&#1042;&#1067;&#1057;&#1050;&#1040;&#1047;&#1067;&#1042;&#1040;&#1053;&#1048;&#1071;.doc" TargetMode="External"/><Relationship Id="rId31" Type="http://schemas.openxmlformats.org/officeDocument/2006/relationships/hyperlink" Target="file:///&#1055;&#1088;&#1080;&#1084;&#1077;&#1088;&#1099;%20&#1091;&#1087;&#1088;&#1072;&#1078;&#1085;&#1077;&#1085;&#1080;&#1081;%20&#1076;&#1083;&#1103;%20&#1087;&#1086;&#1076;&#1075;&#1086;&#1090;&#1086;&#1074;&#1082;&#1080;%20&#1091;&#1095;&#1072;&#1097;&#1080;&#1093;&#1089;&#1103;%20&#1082;%20%20&#1085;&#1072;&#1087;&#1080;&#1089;&#1072;&#1085;&#1080;&#1102;%20&#1101;&#1089;&#1089;&#1077;.doc" TargetMode="Externa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ipi.ru/view/sections/211/docs/44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42760" y="4857480"/>
            <a:ext cx="62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ЭКЗАМЕНАМ   ГИА  и 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чись писать э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14760" y="6143760"/>
            <a:ext cx="48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тюгина Татья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-  Кокинская СОШ  Бря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920" y="12142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ить тему (не выражая своего м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4200" y="21430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за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против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4200" y="56437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  последний абз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ше мнение и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857680" y="2071800"/>
            <a:ext cx="59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it is…, it has certain 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advantage of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of view in favour of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 favour of convinced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with, Secondly, Furthermore, Fi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/ on the other hand, … does have its dis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drawback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disadvantage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against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e people are again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000240" y="571500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ings considered/taking everything into account, although there some disadvantages of…, I believe it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части сначала высказать свое мнение и аргументировать его, затем представить другие точки зрения и дать аргументацию, почему вы с ними не согл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я контраргументы, отстаивая свою точку зрения, желательно  выражать свое мнение не теми же словами, что раньше, а использовать перифраз, синоним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своя кажется вам более убеди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920" y="12859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овите проблему и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571840" y="1214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…, are among the most serious problems of … nowadays. What can we do, then, to solve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2920" y="2714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ы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-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ложения по решению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43120" y="20001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, a useful suggestion would be to… This woul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ly, another solution is to… .  By doing this, we would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problem of… could be solved by Ving.  If we do this, the result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a good idea to… . The effect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ng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help if we… . In this way the problem of … would be s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could be improved by Ving. If this happened, 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 /measures should be taken in order to solve the problem o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14200" y="5500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, 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786040" y="6091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ng some of these measures would definitely result 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Демо 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714240" y="2143080"/>
            <a:ext cx="7572600" cy="410040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Приложение</a:t>
            </a:r>
            <a:r>
              <a:rPr b="0" lang="ru-RU" sz="4400" spc="-1" strike="noStrike">
                <a:solidFill>
                  <a:srgbClr val="5251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сь писать эссе ( полезные сай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awe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aud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AS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utori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struction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gram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nglis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ork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ritin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Essa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usingenglish.com/resources/essa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Методическое письмо Федеральной предметной комиссии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Р.П.Мильруд «Эссе как форма творческого письменного высказы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Примеры упражнений для подготовки учащихся к написанию э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25129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71680" y="1500120"/>
            <a:ext cx="81435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forbusiness.ru/materials/essay/wri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.ru/communities.aspx?cat_no=14410&amp;lib_no=25603&amp;tmpl=l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Говоровой  Н.В. по подготовке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фор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teachers.ru/forum/index.php?s=cf367ae7d3bc003454d012127a3a1afe&amp;showforum=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Вербиц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Федеральной предметной комиссии по иностранным языкам, Заслуженный работник выс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туальные проблемы ЕГЭ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b@ffl.ms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643040" y="54291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2512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 B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85880" y="1571760"/>
            <a:ext cx="7929360" cy="201420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929040"/>
            <a:ext cx="7929720" cy="22885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ажно, на какую тему Вы пишете эссе, Вы всегда должны задать себе следующие «контрольные» 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ил ли я на предложенный вопрос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ли я выразил свою точку зр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ли все написанное выражено ясным и понятным языком, не  было ли ошибок во время напис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490068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жно для того, чтобы читатель определил для себя, стоит ли читать Ваше э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от параграфа к параграф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лавные переходы – это крайне важный элемент удачного эссе, поскольку именно это демонстрирует Ваше умение ясно и интересно излагать свою мысль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-связки, такие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ater, furthermore, additional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oreov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лавно переходить из одного параграф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дние предложения в Вашем эссе являются крайне значимыми. Во-первых, они должны завершать Вашу мысль. Во-вторых, у читателя они должны оставить в памяти яркий след. Важно, чтобы вывод возвращался к главной идее. Другими словами, он должен содержать то, что было написано во в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ъем письмен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Рисунок3.png"/>
          <p:cNvPicPr/>
          <p:nvPr/>
        </p:nvPicPr>
        <p:blipFill>
          <a:blip r:embed="rId1"/>
          <a:stretch/>
        </p:blipFill>
        <p:spPr>
          <a:xfrm>
            <a:off x="500040" y="2000160"/>
            <a:ext cx="8229600" cy="352764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  <p:sp>
        <p:nvSpPr>
          <p:cNvPr id="51" name="TextBox 5"/>
          <p:cNvSpPr/>
          <p:nvPr/>
        </p:nvSpPr>
        <p:spPr>
          <a:xfrm>
            <a:off x="857160" y="1500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28840" y="5657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формы (I`m, There`re, т.п.) считаются за одно слово. Артикли, предлоги включаются в подсчёт слов. В личном письме дата и адрес включаются в подсчёт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ритерии оцен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00040" y="2143080"/>
            <a:ext cx="77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ое высказывание с элементами рассуждения оценивается по пяти критери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ек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фография и пунк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аксимально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1680" y="5500800"/>
            <a:ext cx="814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ь -  при получении экзаменуемым 0 баллов по критерию «Содержание» все задание оценивается в 0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*; moreover; as well as; in addition to; additionally; furthermore; what is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*; however; on the other hand; in contrast; by contrast; yet; on the cont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(делая исключения и обозначая противоречия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*; in spite of; notwith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ость (делая вывод или подводя итог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*; therefore; as a result; as a consequence; consequently; this results in; this leads to; this has the effect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071720" y="621504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0e1e2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действие (устанавливая как что-то стало причиной чего-то другог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; results from; due to; is caused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ечия порядка или последователь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; next; after; afterwards; finally; la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е числительные, либо образованные от них наречия (Не используйте их одновременно. Либо используйте наречия с суффикс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, либо не используйте совсем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; second; third etc…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; secondly; thirdl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143000" y="578628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темы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стиля сочинения ( описание, рецензия, эссе « за» и « против»  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ор тематическ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содержания ( на основе предложенной струк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ние сочинения с использованием базовых фраз-кл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рка языковой грамотности   и подсчет количества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7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начала представить аргументы «за» в первом абзаце, затем во втором - аргументы «против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ргументов «за» и аргументов «против» должно быть сбалансированным (может быть одинаковы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аргументы представлять симметрично (например, социальные, психологические, образовательные аспекты 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дытожить аргументы «за» и «против»; подвести итог сказанному. Можно выразить надежду на нахождение компромисса, подсказать этот компромисс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ма сформулирована как «За» и «против», а не «Ваше мнение», в заключении уместно высказать свое мнение (формулировки: на мой взгляд, аргументы «за» более весомы / представляется, что противники этой идеи более убедительны и т.п.) или, наоборот подчеркнуть, что у автора пока не сложилось свое мнение по данному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8:19:58Z</dcterms:created>
  <dc:creator>ss</dc:creator>
  <dc:description/>
  <dc:language>en-US</dc:language>
  <cp:lastModifiedBy>Tanya</cp:lastModifiedBy>
  <dcterms:modified xsi:type="dcterms:W3CDTF">2013-10-21T13:43:12Z</dcterms:modified>
  <cp:revision>35</cp:revision>
  <dc:subject/>
  <dc:title>Учись писать ЭССЕ</dc:title>
</cp:coreProperties>
</file>