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084-5C5C-43F8-9B43-12AFDFDD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CB8-FACD-4D6B-B13D-8E52D2CF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4B2-4B63-42A1-B34B-427612C9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290-CD7D-42BE-82F8-E096B7DF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A022-DEF1-4570-89DA-EADB1B71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38B4-3171-4156-A7CC-046B9324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681A-D557-4AAF-8290-113E6456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C567-BCF8-4EE1-AD62-98CF4878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D1C5-FF97-4C6E-91A5-D58E172C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CAC3-C8E6-4380-BE2B-21FEB546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9B2A-16F5-4398-A6D7-558B30EC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535-F804-44A9-AF98-DC5A229B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1B09-1147-47F5-90C2-BF6FCC53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BC6F-E94F-41D3-9ACB-72D8066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880B-DE84-4307-9E45-7B50BB53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BA1B-05CD-4AC0-848A-245484C7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CD0E-161F-44C9-B9E6-7E9D0773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9B8-89F5-4149-9E8B-D7DD255C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CAF-41DB-4956-9CE4-F190AAB2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579-57C7-4779-AA54-C63A8577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C76-DEC9-4DF8-825F-83715A80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DC2-B251-43A4-9EF7-DBDE7639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A51-65A4-4155-9DFD-B5D10A0A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DFF-FDE2-4702-8960-B8913994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8EB1-0058-4600-A7D4-2B14D116B72E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E013-B29F-40B3-8B61-9782EA1B0A38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ан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Выразим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404176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из прямоугольного треугольни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523880" y="2538360"/>
                <a:ext cx="609624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a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b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h / b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Доказать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оказательств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92360" y="1773360"/>
            <a:ext cx="5040000" cy="3411000"/>
            <a:chOff x="1692360" y="1773360"/>
            <a:chExt cx="5040000" cy="3411000"/>
          </a:xfrm>
        </p:grpSpPr>
        <p:sp>
          <p:nvSpPr>
            <p:cNvPr id="345" name=""/>
            <p:cNvSpPr/>
            <p:nvPr/>
          </p:nvSpPr>
          <p:spPr>
            <a:xfrm>
              <a:off x="2430000" y="2493000"/>
              <a:ext cx="3344400" cy="2159280"/>
            </a:xfrm>
            <a:prstGeom prst="triangle">
              <a:avLst>
                <a:gd name="adj" fmla="val 67889"/>
              </a:avLst>
            </a:prstGeom>
            <a:solidFill>
              <a:srgbClr val="33cc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520" y="177336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92360" y="436032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04280" y="4256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0000" y="4652640"/>
              <a:ext cx="3304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89320" y="2472480"/>
              <a:ext cx="2300040" cy="2179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3120" y="448848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8240" y="312984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41320" y="4425480"/>
              <a:ext cx="78120" cy="24732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0" y="0"/>
                  </a:moveTo>
                  <a:cubicBezTo>
                    <a:pt x="33" y="33"/>
                    <a:pt x="37" y="67"/>
                    <a:pt x="37" y="11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200" y="395064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3200" spc="-1" strike="noStrike">
                  <a:solidFill>
                    <a:srgbClr val="404176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671000" y="2452320"/>
              <a:ext cx="2160" cy="2220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3520" y="4724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06520" y="329148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82616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Проведем высоту 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278136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h = b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b / 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BC, </a:t>
            </a:r>
            <a:br>
              <a:rPr sz="5400"/>
            </a:b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a, b – 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стороны,</a:t>
            </a:r>
            <a:br>
              <a:rPr sz="5400"/>
            </a:b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l-GR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- угол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9:43:02Z</dcterms:created>
  <dc:creator>Учитель</dc:creator>
  <dc:description/>
  <dc:language>en-US</dc:language>
  <cp:lastModifiedBy>Учитель</cp:lastModifiedBy>
  <dcterms:modified xsi:type="dcterms:W3CDTF">2007-11-30T11:49:20Z</dcterms:modified>
  <cp:revision>4</cp:revision>
  <dc:subject/>
  <dc:title>Дано:</dc:title>
</cp:coreProperties>
</file>