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102D-7EE9-4D48-A2E0-DFF44D85C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2549-4C80-4D3E-A359-78553449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AC2E-5F86-41F2-8363-0D260B14E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1F8B-C277-4EC8-9344-FB82D727E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8ACFA-AA5E-4998-AA9E-72F3417EE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A20F-3751-4E9C-9260-40A1A8EF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5552-81F8-4052-B52F-8D7DEAEA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276D6-F903-4625-A551-76E85D42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5C75F-F560-49FA-90AD-24A38974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6C3B-2544-4D44-99DA-ED5A1DBB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E7FA-6A0B-42B5-82E8-4A7B681F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E8B9-AB96-45DD-B241-3EFDF420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D918-02AA-4D24-9A91-261F5A99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3E2B-79F2-43C5-8CCD-41485695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31CA-5E5A-40A6-9DB8-C84C3796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FCF7-87BF-400D-9285-C78BF3878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59A3-D407-4BC7-AFB9-879E488C7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73F0-8A29-4D25-BF78-F5584E51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6C7F-0269-409E-A194-C687C7BB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F9EB-86FC-4BEA-9DCA-338F135A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5140-C526-418B-A3DD-A824B9C8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3BF4-75A4-455F-9172-283ECA02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2454-6594-427A-A6BA-07B145A5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3E4B-4386-429D-B3B0-B3F50305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7AF0-F69B-434B-8D29-C3831F11705A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386F-9304-47CE-A640-3F878648CCCE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848720" cy="633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Управление качеством образования в образовательной организации 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а основе диагностико – технологического подхода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ва С. С.,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. директора по УВР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упоневская средняя общеобразовательная школа № 1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и Героя Советского Союза Н. И. Чувина» Брянского района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F8D7-1311-49BB-9E2C-086680DD824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9" descr="Изображение 007"/>
          <p:cNvPicPr/>
          <p:nvPr/>
        </p:nvPicPr>
        <p:blipFill>
          <a:blip r:embed="rId1"/>
          <a:stretch/>
        </p:blipFill>
        <p:spPr>
          <a:xfrm>
            <a:off x="1889280" y="2852640"/>
            <a:ext cx="5340240" cy="52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5 класс</a:t>
            </a:r>
            <a:r>
              <a:rPr b="0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русский язык, математика, история, география, т. к. в 4 классе – ВПР по окружающему миру) – внутрен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  (по русскому языку, математике, истории, биологии) -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 - внутренняя оценка  + экзамен (по литературе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е + метапредметные результаты (защита проекта  - февральская сессия) + личност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3EE5-971A-4FC2-9030-2E86E3BF357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8" descr="https://www.youcubed.org/wp-content/uploads/2017/03/common_core_math.jpg"/>
          <p:cNvPicPr/>
          <p:nvPr/>
        </p:nvPicPr>
        <p:blipFill>
          <a:blip r:embed="rId1"/>
          <a:stretch/>
        </p:blipFill>
        <p:spPr>
          <a:xfrm>
            <a:off x="108000" y="115920"/>
            <a:ext cx="34164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A5F9-4371-490B-944A-EA649902ABE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Таблица 5" descr=""/>
          <p:cNvPicPr/>
          <p:nvPr/>
        </p:nvPicPr>
        <p:blipFill>
          <a:blip r:embed="rId1"/>
          <a:stretch/>
        </p:blipFill>
        <p:spPr>
          <a:xfrm>
            <a:off x="536400" y="2157480"/>
            <a:ext cx="7778880" cy="37256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415440"/>
            <a:ext cx="849636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упоневская СОШ № 1 имени Героя Советского Союза Н. И. Чувина» Брянского района за 20__ -  20 ___ учебный год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 достижений обучающегося  4 «А» класса за Ι четверть по предметным результата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предмет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6D43-BF4B-472C-8B9E-BF346B23D45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415440"/>
            <a:ext cx="849636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упоневская СОШ № 1 имени Героя Советского Союза Н. И. Чувина» Брянского района за 20__ -  20 ___ учебный год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 достижений учащегося  7  класса за Ι четверть по предметным результатам (Лист 1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предмет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8" name="Таблица 6" descr=""/>
          <p:cNvPicPr/>
          <p:nvPr/>
        </p:nvPicPr>
        <p:blipFill>
          <a:blip r:embed="rId1"/>
          <a:stretch/>
        </p:blipFill>
        <p:spPr>
          <a:xfrm>
            <a:off x="249120" y="2030400"/>
            <a:ext cx="857088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1 класс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русский язык, математика) – внутрен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зовые работы / пробные экзамены (по материалам БЦОКО) – внутренняя /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  -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- внутрен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ая итоговая аттестация -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1BF8-6523-436A-B65C-24ACB83602B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6" descr="https://duelit.ru/wp-content/uploads/2014/06/shkola.jpg"/>
          <p:cNvPicPr/>
          <p:nvPr/>
        </p:nvPicPr>
        <p:blipFill>
          <a:blip r:embed="rId1"/>
          <a:stretch/>
        </p:blipFill>
        <p:spPr>
          <a:xfrm>
            <a:off x="179280" y="200160"/>
            <a:ext cx="246852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42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истема управления качеством образования на разных уровнях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1D6F-58E7-4D80-B971-8729A9BC0378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79280" y="1446120"/>
          <a:ext cx="8858520" cy="5429520"/>
        </p:xfrm>
        <a:graphic>
          <a:graphicData uri="http://schemas.openxmlformats.org/drawingml/2006/table">
            <a:tbl>
              <a:tblPr/>
              <a:tblGrid>
                <a:gridCol w="1771920"/>
                <a:gridCol w="1771560"/>
                <a:gridCol w="1771560"/>
                <a:gridCol w="1771560"/>
                <a:gridCol w="1771920"/>
              </a:tblGrid>
              <a:tr h="381240"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ный руковод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й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8280"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оздание условий для повышения качества образования для обучающихся и педагог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пределение методик, форм, критериев, показателей и процедур оценки результативности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беспечение эффективного социального партнерст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Создание эффективной информационной систем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Систематическое изучение образовательного спроса обучающихся, родителей, общественности по качеству образова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Обеспечение условий развития личности обучающегося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роведение оценки результативности  по установленной циклограмме и технологии мониторинг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бработка результатов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Оформление ЛИСТОВ ДОСТИЖЕНИЙ по предметным результатам. 5. Педагогическая рефлексия и взаимооценка колле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Обеспечение взаимодействия учителей-предметников, обучающихся, родителей по проведению мониторинга   классного коллекти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бработка данных мониторинга уровня обучаемости обучающихся класс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формление ЛИСТОВ ДОСТИЖЕНИЙ по метапредметным, личностным результатам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Индивидуальная работа с родителями по выполнению различных рекомендаций учителей-предметников и специалист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тремление к самопознанию, самовоспитанию, саморазвитию, самореализации, самопрезента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владение ключевыми компетентностями и культурой умственного труд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Накопление достижений ( в том числе и для формирования портфолио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оздание условий в семье, обеспечивающих физическое, нравственное и интеллектуальное развитие личности ребен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беспечение систематического контроля за результатами обучения ребен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Исполнение рекомендаций учителей, классного руководителя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Участие в соуправлении школо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результаты УВ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E572-BD80-46EC-8EE3-7617D47DE7B7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55640" y="1052640"/>
          <a:ext cx="7704000" cy="5697360"/>
        </p:xfrm>
        <a:graphic>
          <a:graphicData uri="http://schemas.openxmlformats.org/drawingml/2006/table">
            <a:tbl>
              <a:tblPr/>
              <a:tblGrid>
                <a:gridCol w="2573280"/>
                <a:gridCol w="1709640"/>
                <a:gridCol w="1711440"/>
                <a:gridCol w="1709640"/>
              </a:tblGrid>
              <a:tr h="884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5/2016 уч.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6/2017 уч.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7/2018 уч.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ество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4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6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12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е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511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ая меда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13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яная меда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263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ые олимпиады (муниц. этап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побе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призе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побе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призе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побе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призе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ые олимпиады (регион. этап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риз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риз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0152-393D-47F4-903D-50299F315E6E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9328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ЕГЭ -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тематик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68360" y="1341360"/>
          <a:ext cx="8280360" cy="5332320"/>
        </p:xfrm>
        <a:graphic>
          <a:graphicData uri="http://schemas.openxmlformats.org/drawingml/2006/table">
            <a:tbl>
              <a:tblPr/>
              <a:tblGrid>
                <a:gridCol w="1289160"/>
                <a:gridCol w="712800"/>
                <a:gridCol w="838080"/>
                <a:gridCol w="725400"/>
                <a:gridCol w="785880"/>
                <a:gridCol w="665280"/>
                <a:gridCol w="1087200"/>
                <a:gridCol w="1087560"/>
                <a:gridCol w="1089000"/>
              </a:tblGrid>
              <a:tr h="730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-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балл / отмет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. кол-во баллов (порог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успеваем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о район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о обла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-2016 (профильн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(35,7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852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-2016 (базов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0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(из 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-во знаний – 9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39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 (профильн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(50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065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 (базов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0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(из 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-во знаний – 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39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 (профильн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(79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852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 (базов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(93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(из 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-во знаний – 9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638F-810D-4052-98CC-DE48F33F581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9328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ЕГЭ –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й язык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24000" y="1773360"/>
          <a:ext cx="8496000" cy="2952720"/>
        </p:xfrm>
        <a:graphic>
          <a:graphicData uri="http://schemas.openxmlformats.org/drawingml/2006/table">
            <a:tbl>
              <a:tblPr/>
              <a:tblGrid>
                <a:gridCol w="1222200"/>
                <a:gridCol w="676440"/>
                <a:gridCol w="1071360"/>
                <a:gridCol w="1212840"/>
                <a:gridCol w="496800"/>
                <a:gridCol w="505080"/>
                <a:gridCol w="1150920"/>
                <a:gridCol w="993600"/>
                <a:gridCol w="1166760"/>
              </a:tblGrid>
              <a:tr h="665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-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. кол-во баллов (поро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успеваем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о райо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о обл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-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82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3C9F-FE8C-4DDF-B6D8-7E3AAAF402D1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сем  коллегам 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желаю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едагогических успехов и удачи!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6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B400-EA7E-438A-821C-9F92131E86DE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356000" y="1988640"/>
            <a:ext cx="3810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37644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6589800" y="2720880"/>
            <a:ext cx="25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ветит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Прямоугольник 11"/>
          <p:cNvSpPr/>
          <p:nvPr/>
        </p:nvSpPr>
        <p:spPr>
          <a:xfrm>
            <a:off x="4581360" y="105264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н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1187280" y="4511520"/>
            <a:ext cx="303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 педагогического процес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5003640" y="4048200"/>
            <a:ext cx="3892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ый участник общен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бучающимися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родителями, учителя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Прямоугольник 14"/>
          <p:cNvSpPr/>
          <p:nvPr/>
        </p:nvSpPr>
        <p:spPr>
          <a:xfrm>
            <a:off x="361800" y="2727360"/>
            <a:ext cx="2567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тор деятельности обучающихс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Прямоугольник 15"/>
          <p:cNvSpPr/>
          <p:nvPr/>
        </p:nvSpPr>
        <p:spPr>
          <a:xfrm>
            <a:off x="395280" y="190188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Прямоугольник 16"/>
          <p:cNvSpPr/>
          <p:nvPr/>
        </p:nvSpPr>
        <p:spPr>
          <a:xfrm>
            <a:off x="1760400" y="917640"/>
            <a:ext cx="281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14" descr=""/>
          <p:cNvPicPr/>
          <p:nvPr/>
        </p:nvPicPr>
        <p:blipFill>
          <a:blip r:embed="rId1"/>
          <a:stretch/>
        </p:blipFill>
        <p:spPr>
          <a:xfrm>
            <a:off x="0" y="25895160"/>
            <a:ext cx="5856120" cy="3289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5" descr="C:\Users\User\Desktop\Бобкова - Учитель года\DSC02799.JPG"/>
          <p:cNvPicPr/>
          <p:nvPr/>
        </p:nvPicPr>
        <p:blipFill>
          <a:blip r:embed="rId2"/>
          <a:stretch/>
        </p:blipFill>
        <p:spPr>
          <a:xfrm>
            <a:off x="2905200" y="1979640"/>
            <a:ext cx="368460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56C9-58F4-4D83-91AF-5D17A830E63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2" descr="https://bigslide.ru/images/2/1208/831/img2.jpg"/>
          <p:cNvPicPr/>
          <p:nvPr/>
        </p:nvPicPr>
        <p:blipFill>
          <a:blip r:embed="rId1"/>
          <a:stretch/>
        </p:blipFill>
        <p:spPr>
          <a:xfrm>
            <a:off x="395280" y="209520"/>
            <a:ext cx="850104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72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утренняя оценка:</a:t>
            </a:r>
            <a:r>
              <a:rPr b="1" i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812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предварительный контроль,   стартовая диагностика)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и тематическая оценка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школьный мониторинг индивидуальных образовательных достижений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обучающихся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фолио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2697-AA31-4CCB-A9F7-563692224B4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10" descr="https://c.pxhere.com/photos/95/40/still_life_school_retro_ink-1070694.jpg!d"/>
          <p:cNvPicPr/>
          <p:nvPr/>
        </p:nvPicPr>
        <p:blipFill>
          <a:blip r:embed="rId1"/>
          <a:stretch/>
        </p:blipFill>
        <p:spPr>
          <a:xfrm>
            <a:off x="5724360" y="4797360"/>
            <a:ext cx="31672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42920" y="2017800"/>
            <a:ext cx="79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ая итоговая аттестация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имая оценка качества образования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овые исследования муниципального, регионального и федерального уровн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F16E-709F-42E1-A8B8-AF078C60A0B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72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ешняя оценка:</a:t>
            </a:r>
            <a:r>
              <a:rPr b="1" i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157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Единая система качества образовани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А – 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А –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 (Национальные исследования качества образования по учебному предмету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 (Всероссийские проверочные работы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ые исследования качества образов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 профессиональных компетенций учител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6610-7AC3-447A-B7D0-CCC674CB491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39620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Анализ работы по ФГОС НОО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ФГОС ООО) в ___ классе за 20__- 20__ учебный год </a:t>
            </a:r>
            <a:br>
              <a:rPr sz="2800"/>
            </a:b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ФИО учителя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486640" cy="40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результаты вводного контроля - внутренняя оценк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результаты внутришкольного мониторинга индивидуальных образовательных достижений – внутренняя оценка (в соответствии с планом ВШК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результаты ВПР – внешняя оценк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результаты НИКО - внешняя оценк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результаты годовой промежуточной аттестации обучающихся по каждому учебному предмету – внутренняя оценк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результаты государственной итоговой аттестации - внешняя оценк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768E-8D88-474D-BE38-113D27C4FB2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6" descr="https://okru.ru/files/images/20150201/1423070417_u3.jpg"/>
          <p:cNvPicPr/>
          <p:nvPr/>
        </p:nvPicPr>
        <p:blipFill>
          <a:blip r:embed="rId1"/>
          <a:stretch/>
        </p:blipFill>
        <p:spPr>
          <a:xfrm>
            <a:off x="108000" y="260280"/>
            <a:ext cx="19429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, 3 классы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русский язык, математика) – внутренняя оценка)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(по каждому учебному предмету + итоговая комплексная работа на межпредметной основе (русский язык, литературное чтение, математика, окружающий мир)) - внутренняя оценк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предметных + метапредметных + личностных результат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CE96-C34F-4726-9C5E-89650AD8F0C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6" descr="http://images.tildacdn.info/ccc5032d-76ee-43d5-b06c-2602f500eda0/1291236603_1981.jpg"/>
          <p:cNvPicPr/>
          <p:nvPr/>
        </p:nvPicPr>
        <p:blipFill>
          <a:blip r:embed="rId1"/>
          <a:stretch/>
        </p:blipFill>
        <p:spPr>
          <a:xfrm>
            <a:off x="179280" y="115920"/>
            <a:ext cx="24004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4 класс</a:t>
            </a:r>
            <a:r>
              <a:rPr b="0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55640" y="227664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русский язык, математика) – внутренняя оценк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 -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 - внутрен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е + метапредметные результат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щита проектов) + личност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F165-EF8A-4D6E-88A8-F6CB2B9672E9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6" descr="http://images.tildacdn.info/ccc5032d-76ee-43d5-b06c-2602f500eda0/1291236603_1981.jpg"/>
          <p:cNvPicPr/>
          <p:nvPr/>
        </p:nvPicPr>
        <p:blipFill>
          <a:blip r:embed="rId1"/>
          <a:stretch/>
        </p:blipFill>
        <p:spPr>
          <a:xfrm>
            <a:off x="179280" y="115920"/>
            <a:ext cx="24004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08:11:03Z</dcterms:created>
  <dc:creator>проектор</dc:creator>
  <dc:description/>
  <dc:language>en-US</dc:language>
  <cp:lastModifiedBy>Пользователь Windows</cp:lastModifiedBy>
  <dcterms:modified xsi:type="dcterms:W3CDTF">2018-11-14T21:35:24Z</dcterms:modified>
  <cp:revision>57</cp:revision>
  <dc:subject/>
  <dc:title>Тема: «Ф. Абрамов «О чём плачут лошади»</dc:title>
</cp:coreProperties>
</file>