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928B-4FEF-4AA4-80A8-2AAD7B5DF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29E3-FE0D-4682-B1D1-3D20FDEA7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2B08-8921-421C-945C-6AFFEB7AF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DDC2-9513-4DA2-95AC-9D8010742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B4D61-1EA4-4C52-B334-EA1A1D5A2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2B028-FDC5-4D8C-9A3C-8AFBE2D22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7604A-B8AC-45CE-95BD-4AF1B5315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C94E0-7F59-4EF8-9785-6F9A179F3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549F2-3618-4E43-BA24-46EBA56A2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2826D-FE14-490C-8BE4-612B11867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C99FA-52F8-4129-951C-9E1929EF5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7F8F-122D-4BE2-A564-213B499AD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E09DA-A70F-4160-8461-8FD2AD173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94F37-0CB8-4A51-A6A3-5F9CF8378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FD040-9FF0-4D61-86D3-05D3C5F82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B8331-7F4F-4B5F-A271-90DF1F4EF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43ED7-0FAA-42C2-9E53-E22C99573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980B-B820-491A-9583-3BF3DB926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120D-DDEE-4A01-BEC5-EE9FD9E26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02E7-AEA3-4C9C-B8C0-D2839F9C3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4FE9-17A3-4EEC-978B-E036BE1AC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E549-A2BB-4652-BBE3-1ACF58E0F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2B1A-CC60-4926-B85A-AD22727E3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1B88-589A-453C-B762-CD7FDC111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1FD2A-4E9E-46E1-A65D-6AF381B3560B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8000" cy="474840"/>
              <a:chOff x="414360" y="2968560"/>
              <a:chExt cx="7380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4440" y="2968560"/>
                <a:ext cx="36792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3E878-22B1-437C-8601-65E556AC0C2F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7848720" cy="633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Управление качеством образования в образовательной организации </a:t>
            </a:r>
            <a:br>
              <a:rPr sz="3600"/>
            </a:br>
            <a:r>
              <a:rPr b="1" lang="ru-RU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на основе диагностико – технологического подхода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валева С. С.,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м. директора по УВР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 «Супоневская средняя общеобразовательная школа № 1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ни Героя Советского Союза Н. И. Чувина» Брянского района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Номер слайда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0DF16-1E8B-4A43-A5BA-D1E16296BE5E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Picture 9" descr="Изображение 007"/>
          <p:cNvPicPr/>
          <p:nvPr/>
        </p:nvPicPr>
        <p:blipFill>
          <a:blip r:embed="rId1"/>
          <a:stretch/>
        </p:blipFill>
        <p:spPr>
          <a:xfrm>
            <a:off x="1889280" y="2852640"/>
            <a:ext cx="5340240" cy="529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5 класс</a:t>
            </a:r>
            <a:r>
              <a:rPr b="0" lang="ru-RU" sz="4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: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10920" y="2017800"/>
            <a:ext cx="8343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одный контроль (русский язык, математика, история, география, т. к. в 4 классе – ВПР по окружающему миру) – внутренняя оценк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ПР  (по русскому языку, математике, истории, биологии) - внешняя оценк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овая промежуточная аттестация  - внутренняя оценка  + экзамен (по литературе)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метные + метапредметные результаты (защита проекта  - февральская сессия) + личностны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Номер слайда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84FAF-AEE1-4135-A6CC-A0C3DA1C4994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2" name="Picture 8" descr="https://www.youcubed.org/wp-content/uploads/2017/03/common_core_math.jpg"/>
          <p:cNvPicPr/>
          <p:nvPr/>
        </p:nvPicPr>
        <p:blipFill>
          <a:blip r:embed="rId1"/>
          <a:stretch/>
        </p:blipFill>
        <p:spPr>
          <a:xfrm>
            <a:off x="108000" y="115920"/>
            <a:ext cx="34164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Номер слайда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26E49-0857-48F0-88CB-D3C5E537C251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4" name="Таблица 5" descr=""/>
          <p:cNvPicPr/>
          <p:nvPr/>
        </p:nvPicPr>
        <p:blipFill>
          <a:blip r:embed="rId1"/>
          <a:stretch/>
        </p:blipFill>
        <p:spPr>
          <a:xfrm>
            <a:off x="536400" y="2157480"/>
            <a:ext cx="7778880" cy="372564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000" y="415440"/>
            <a:ext cx="8496360" cy="8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 «Супоневская СОШ № 1 имени Героя Советского Союза Н. И. Чувина» Брянского района за 20__ -  20 ___ учебный год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ст достижений обучающегося  4 «А» класса за Ι четверть по предметным результатам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предмет                                  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МАТИКА</a:t>
            </a:r>
            <a:endParaRPr b="0" lang="en-US" sz="1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Номер слайда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C70A2-DA3B-49E4-AF14-DC83198C7875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000" y="415440"/>
            <a:ext cx="8496360" cy="8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 «Супоневская СОШ № 1 имени Героя Советского Союза Н. И. Чувина» Брянского района за 20__ -  20 ___ учебный год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ст достижений учащегося  7  класса за Ι четверть по предметным результатам (Лист 1)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предмет                                  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ТЕРАТУРА</a:t>
            </a:r>
            <a:endParaRPr b="0" lang="en-US" sz="1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8" name="Таблица 6" descr=""/>
          <p:cNvPicPr/>
          <p:nvPr/>
        </p:nvPicPr>
        <p:blipFill>
          <a:blip r:embed="rId1"/>
          <a:stretch/>
        </p:blipFill>
        <p:spPr>
          <a:xfrm>
            <a:off x="249120" y="2030400"/>
            <a:ext cx="8570880" cy="42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11 класс: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0920" y="2017800"/>
            <a:ext cx="8343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одный контроль (русский язык, математика) – внутренняя оценк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зовые работы / пробные экзамены (по материалам БЦОКО) – внутренняя / внешняя оценк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ПР  - внешняя оценк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овая промежуточная аттестация - внутренняя оценк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енная итоговая аттестация - внешняя оценк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Номер слайда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D5159-F7E4-4889-8525-8365A21D1E7F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Picture 6" descr="https://duelit.ru/wp-content/uploads/2014/06/shkola.jpg"/>
          <p:cNvPicPr/>
          <p:nvPr/>
        </p:nvPicPr>
        <p:blipFill>
          <a:blip r:embed="rId1"/>
          <a:stretch/>
        </p:blipFill>
        <p:spPr>
          <a:xfrm>
            <a:off x="179280" y="200160"/>
            <a:ext cx="2468520" cy="164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9280" y="115560"/>
            <a:ext cx="8425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Система управления качеством образования на разных уровнях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Номер слайда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A046F-38A8-4CE0-AFBB-08615281348B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179280" y="1446120"/>
          <a:ext cx="8858520" cy="5429520"/>
        </p:xfrm>
        <a:graphic>
          <a:graphicData uri="http://schemas.openxmlformats.org/drawingml/2006/table">
            <a:tbl>
              <a:tblPr/>
              <a:tblGrid>
                <a:gridCol w="1771920"/>
                <a:gridCol w="1771560"/>
                <a:gridCol w="1771560"/>
                <a:gridCol w="1771560"/>
                <a:gridCol w="1771920"/>
              </a:tblGrid>
              <a:tr h="381240">
                <a:tc>
                  <a:txBody>
                    <a:bodyPr lIns="34200" rIns="34200" tIns="34200" bIns="342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министрац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4200" marR="34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4200" marR="34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ный руководите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4200" marR="34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учающийс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4200" marR="34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ите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4200" marR="34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48280">
                <a:tc>
                  <a:txBody>
                    <a:bodyPr lIns="34200" rIns="34200" tIns="34200" bIns="342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Создание условий для повышения качества образования для обучающихся и педагогов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8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Определение методик, форм, критериев, показателей и процедур оценки результативности.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8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Обеспечение эффективного социального партнерств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8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Создание эффективной информационной системы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8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Систематическое изучение образовательного спроса обучающихся, родителей, общественности по качеству образовани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4200" marR="34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Обеспечение условий развития личности обучающегося.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8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Проведение оценки результативности  по установленной циклограмме и технологии мониторинг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8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Обработка результатов.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8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Оформление ЛИСТОВ ДОСТИЖЕНИЙ по предметным результатам. 5. Педагогическая рефлексия и взаимооценка колле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4200" marR="34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Обеспечение взаимодействия учителей-предметников, обучающихся, родителей по проведению мониторинга   классного коллектив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8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Обработка данных мониторинга уровня обучаемости обучающихся класс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8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Оформление ЛИСТОВ ДОСТИЖЕНИЙ по метапредметным, личностным результатам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8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Индивидуальная работа с родителями по выполнению различных рекомендаций учителей-предметников и специалистов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4200" marR="34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Стремление к самопознанию, самовоспитанию, саморазвитию, самореализации, самопрезентаци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8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Овладение ключевыми компетентностями и культурой умственного труд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8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Накопление достижений ( в том числе и для формирования портфолио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4200" marR="34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Создание условий в семье, обеспечивающих физическое, нравственное и интеллектуальное развитие личности ребенк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8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Обеспечение систематического контроля за результатами обучения ребенк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8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Исполнение рекомендаций учителей, классного руководителя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8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алистов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8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Участие в соуправлении школой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4200" marR="34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92920" cy="650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сновные результаты УВР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Номер слайда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F027D-792A-4C97-91F5-F0A7F3AF56FB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755640" y="1052640"/>
          <a:ext cx="7704000" cy="5697360"/>
        </p:xfrm>
        <a:graphic>
          <a:graphicData uri="http://schemas.openxmlformats.org/drawingml/2006/table">
            <a:tbl>
              <a:tblPr/>
              <a:tblGrid>
                <a:gridCol w="2573280"/>
                <a:gridCol w="1709640"/>
                <a:gridCol w="1711440"/>
                <a:gridCol w="1709640"/>
              </a:tblGrid>
              <a:tr h="8841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15/2016 уч. г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16/2017 уч. г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17/2018 уч. г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чество зна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,4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,5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,6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512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ученн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511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олотая меда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513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ебряная меда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1263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метные олимпиады (муниц. этап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побед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 призер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 побед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 призер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 побед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 призер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1311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метные олимпиады (регион. этап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ризе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ризе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Номер слайда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CB511-E55A-4E78-90DF-18AB2047CF7F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00000" y="476280"/>
            <a:ext cx="7793280" cy="650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зультаты ЕГЭ -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атематика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468360" y="1341360"/>
          <a:ext cx="8280360" cy="5332320"/>
        </p:xfrm>
        <a:graphic>
          <a:graphicData uri="http://schemas.openxmlformats.org/drawingml/2006/table">
            <a:tbl>
              <a:tblPr/>
              <a:tblGrid>
                <a:gridCol w="1289160"/>
                <a:gridCol w="712800"/>
                <a:gridCol w="838080"/>
                <a:gridCol w="725400"/>
                <a:gridCol w="785880"/>
                <a:gridCol w="665280"/>
                <a:gridCol w="1087200"/>
                <a:gridCol w="1087560"/>
                <a:gridCol w="1089000"/>
              </a:tblGrid>
              <a:tr h="7304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.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-с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балл / отмет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ним. кол-во баллов (порог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л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n</a:t>
                      </a: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бал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успеваем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по район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по обла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7621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5-2016 (профильный уровень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(35,7 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,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8528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5-2016 (базовый уровень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00 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 (из 2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ч-во знаний – 9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639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6-2017 (профильный уровень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(50 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,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1065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6-2017 (базовый уровень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00 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 (из 2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ч-во знаний – 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639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7-2018 (профильный уровень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 (79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8528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7-2018 (базовый уровень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 (93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 (из 2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ч-во знаний – 9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Номер слайда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B618E-2842-4BFD-B486-7025C6F54417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00000" y="476280"/>
            <a:ext cx="7793280" cy="650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зультаты ЕГЭ –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усский язык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324000" y="1773360"/>
          <a:ext cx="8496000" cy="2952720"/>
        </p:xfrm>
        <a:graphic>
          <a:graphicData uri="http://schemas.openxmlformats.org/drawingml/2006/table">
            <a:tbl>
              <a:tblPr/>
              <a:tblGrid>
                <a:gridCol w="1222200"/>
                <a:gridCol w="676440"/>
                <a:gridCol w="1071360"/>
                <a:gridCol w="1212840"/>
                <a:gridCol w="496800"/>
                <a:gridCol w="505080"/>
                <a:gridCol w="1150920"/>
                <a:gridCol w="993600"/>
                <a:gridCol w="1166760"/>
              </a:tblGrid>
              <a:tr h="6656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.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-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бал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ним. кол-во баллов (порог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л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n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бал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успеваем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по район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по обла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7318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5-20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1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7318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6-20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,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82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7-20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Номер слайда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138FB-4F60-4652-9359-8E7E45DEE2E2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047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Всем  коллегам  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желаю 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педагогических успехов и удачи! 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Номер слайда 6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2A0D9-91E0-4712-B342-5C3480A4518A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356000" y="1988640"/>
            <a:ext cx="3810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3376440" y="248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Прямоугольник 2"/>
          <p:cNvSpPr/>
          <p:nvPr/>
        </p:nvSpPr>
        <p:spPr>
          <a:xfrm>
            <a:off x="6589800" y="2720880"/>
            <a:ext cx="253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ветител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Прямоугольник 11"/>
          <p:cNvSpPr/>
          <p:nvPr/>
        </p:nvSpPr>
        <p:spPr>
          <a:xfrm>
            <a:off x="4581360" y="1052640"/>
            <a:ext cx="228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ультан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Прямоугольник 12"/>
          <p:cNvSpPr/>
          <p:nvPr/>
        </p:nvSpPr>
        <p:spPr>
          <a:xfrm>
            <a:off x="1187280" y="4511520"/>
            <a:ext cx="3030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следователь педагогического процесс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Прямоугольник 13"/>
          <p:cNvSpPr/>
          <p:nvPr/>
        </p:nvSpPr>
        <p:spPr>
          <a:xfrm>
            <a:off x="5003640" y="4048200"/>
            <a:ext cx="38926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ый участник общения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обучающимися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х родителями, учителям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Прямоугольник 14"/>
          <p:cNvSpPr/>
          <p:nvPr/>
        </p:nvSpPr>
        <p:spPr>
          <a:xfrm>
            <a:off x="361800" y="2727360"/>
            <a:ext cx="2567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тор деятельности обучающихс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Прямоугольник 15"/>
          <p:cNvSpPr/>
          <p:nvPr/>
        </p:nvSpPr>
        <p:spPr>
          <a:xfrm>
            <a:off x="395280" y="1901880"/>
            <a:ext cx="26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Прямоугольник 16"/>
          <p:cNvSpPr/>
          <p:nvPr/>
        </p:nvSpPr>
        <p:spPr>
          <a:xfrm>
            <a:off x="1760400" y="917640"/>
            <a:ext cx="281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2" name="Picture 14" descr=""/>
          <p:cNvPicPr/>
          <p:nvPr/>
        </p:nvPicPr>
        <p:blipFill>
          <a:blip r:embed="rId1"/>
          <a:stretch/>
        </p:blipFill>
        <p:spPr>
          <a:xfrm>
            <a:off x="0" y="25895160"/>
            <a:ext cx="5856120" cy="32893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5" descr="C:\Users\User\Desktop\Бобкова - Учитель года\DSC02799.JPG"/>
          <p:cNvPicPr/>
          <p:nvPr/>
        </p:nvPicPr>
        <p:blipFill>
          <a:blip r:embed="rId2"/>
          <a:stretch/>
        </p:blipFill>
        <p:spPr>
          <a:xfrm>
            <a:off x="2905200" y="1979640"/>
            <a:ext cx="3684600" cy="20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Номер слайда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D8CFF-8F86-4308-A044-8757185EB6DB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6" name="Picture 2" descr="https://bigslide.ru/images/2/1208/831/img2.jpg"/>
          <p:cNvPicPr/>
          <p:nvPr/>
        </p:nvPicPr>
        <p:blipFill>
          <a:blip r:embed="rId1"/>
          <a:stretch/>
        </p:blipFill>
        <p:spPr>
          <a:xfrm>
            <a:off x="395280" y="209520"/>
            <a:ext cx="8501040" cy="63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72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Внутренняя оценка:</a:t>
            </a:r>
            <a:r>
              <a:rPr b="1" i="1" lang="ru-RU" sz="5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55640" y="1844640"/>
            <a:ext cx="8128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одный контроль (предварительный контроль,   стартовая диагностика)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кущая и тематическая оценка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школьный мониторинг индивидуальных образовательных достижений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овая промежуточная аттестация обучающихся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тфолио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Номер слайда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593D8-0A21-429B-8528-5E529ED26D30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0" name="Picture 10" descr="https://c.pxhere.com/photos/95/40/still_life_school_retro_ink-1070694.jpg!d"/>
          <p:cNvPicPr/>
          <p:nvPr/>
        </p:nvPicPr>
        <p:blipFill>
          <a:blip r:embed="rId1"/>
          <a:stretch/>
        </p:blipFill>
        <p:spPr>
          <a:xfrm>
            <a:off x="5724360" y="4797360"/>
            <a:ext cx="316728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042920" y="2017800"/>
            <a:ext cx="7912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енная итоговая аттестация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зависимая оценка качества образования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иторинговые исследования муниципального, регионального и федерального уровней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Номер слайда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2E9C4-1991-4950-8F9D-EAB0AD7287EC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72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Внешняя оценка:</a:t>
            </a:r>
            <a:r>
              <a:rPr b="1" i="1" lang="ru-RU" sz="5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157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4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Единая система качества образования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5640" y="2017800"/>
            <a:ext cx="8199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А – 9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А –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КО (Национальные исследования качества образования по учебному предмету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ПР (Всероссийские проверочные работы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дународные исследования качества образован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следование профессиональных компетенций учителе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Номер слайда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B753C-AEAA-4A2F-B345-29C0E17478D3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47280" y="259920"/>
            <a:ext cx="7396200" cy="18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Анализ работы по ФГОС НОО </a:t>
            </a:r>
            <a:br>
              <a:rPr sz="2800"/>
            </a:br>
            <a:r>
              <a:rPr b="1" lang="ru-RU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(ФГОС ООО) в ___ классе за 20__- 20__ учебный год </a:t>
            </a:r>
            <a:br>
              <a:rPr sz="2800"/>
            </a:b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ФИО учителя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8360" y="2276640"/>
            <a:ext cx="8486640" cy="40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результаты вводного контроля - внутренняя оценка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результаты внутришкольного мониторинга индивидуальных образовательных достижений – внутренняя оценка (в соответствии с планом ВШК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результаты ВПР – внешняя оценка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результаты НИКО - внешняя оценка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 результаты годовой промежуточной аттестации обучающихся по каждому учебному предмету – внутренняя оценка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) результаты государственной итоговой аттестации - внешняя оценка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Номер слайда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762DF-72B8-4454-9E57-2582F7D75BF5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0" name="Picture 6" descr="https://okru.ru/files/images/20150201/1423070417_u3.jpg"/>
          <p:cNvPicPr/>
          <p:nvPr/>
        </p:nvPicPr>
        <p:blipFill>
          <a:blip r:embed="rId1"/>
          <a:stretch/>
        </p:blipFill>
        <p:spPr>
          <a:xfrm>
            <a:off x="108000" y="260280"/>
            <a:ext cx="194292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2, 3 классы: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4360" y="2017800"/>
            <a:ext cx="827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одный контроль (русский язык, математика) – внутренняя оценка)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овая промежуточная аттестация (по каждому учебному предмету + итоговая комплексная работа на межпредметной основе (русский язык, литературное чтение, математика, окружающий мир)) - внутренняя оценка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слеживание предметных + метапредметных + личностных результато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Номер слайда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DA0DA-53B1-42AE-868B-8D8F1FB35945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4" name="Picture 6" descr="http://images.tildacdn.info/ccc5032d-76ee-43d5-b06c-2602f500eda0/1291236603_1981.jpg"/>
          <p:cNvPicPr/>
          <p:nvPr/>
        </p:nvPicPr>
        <p:blipFill>
          <a:blip r:embed="rId1"/>
          <a:stretch/>
        </p:blipFill>
        <p:spPr>
          <a:xfrm>
            <a:off x="179280" y="115920"/>
            <a:ext cx="240048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4 класс</a:t>
            </a:r>
            <a:r>
              <a:rPr b="0" lang="ru-RU" sz="4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: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55640" y="2276640"/>
            <a:ext cx="8199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одный контроль (русский язык, математика) – внутренняя оценка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ПР - внешняя оценк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овая промежуточная аттестация  - внутренняя оценк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метные + метапредметные результаты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защита проектов) + личностны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Номер слайда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5E81C-E665-4434-A1A8-302B526A83D0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8" name="Picture 6" descr="http://images.tildacdn.info/ccc5032d-76ee-43d5-b06c-2602f500eda0/1291236603_1981.jpg"/>
          <p:cNvPicPr/>
          <p:nvPr/>
        </p:nvPicPr>
        <p:blipFill>
          <a:blip r:embed="rId1"/>
          <a:stretch/>
        </p:blipFill>
        <p:spPr>
          <a:xfrm>
            <a:off x="179280" y="115920"/>
            <a:ext cx="240048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4T08:11:03Z</dcterms:created>
  <dc:creator>проектор</dc:creator>
  <dc:description/>
  <dc:language>en-US</dc:language>
  <cp:lastModifiedBy>Пользователь Windows</cp:lastModifiedBy>
  <dcterms:modified xsi:type="dcterms:W3CDTF">2018-11-14T21:35:24Z</dcterms:modified>
  <cp:revision>57</cp:revision>
  <dc:subject/>
  <dc:title>Тема: «Ф. Абрамов «О чём плачут лошади»</dc:title>
</cp:coreProperties>
</file>