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0168-3B74-4257-A4C8-3C9B33414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2FEC-7352-4452-B516-CFA3A78B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6D6C-139F-4ABA-9B66-90CCC8E2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A6B5-642F-4773-BFC0-04185482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FAEB-A566-4FB8-B452-A6CACF89F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F6E3-9496-498A-B823-1145D7C1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CDA8-4167-450B-A318-C5614ED5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D72F-DD58-4F79-8ED6-ABC93556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14EB-B767-4434-A434-FFC64619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78FB-D671-4D91-A4EB-0C4F5080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B17B-D0EB-45D0-BEB2-9E07D547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9FE9-482B-42EC-981B-9DAF1EAB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BBDB-4332-4D80-BA30-2102A3A3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A0F4-6C67-4A1F-89AF-622D2336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73C1-E629-4552-BAC6-1563B1D1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7FE1-55EE-452D-AFA5-110353E9E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F7FF-4008-4678-B9C3-0E6810DB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A2D5-6398-403E-808B-B122306F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806F-0DF6-4A80-87B4-7DC1F3A4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49C1-AE25-4156-89C8-35CE4D22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D2B5-FF8E-484E-ADEC-F37C5BC7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CCC7-B0FC-45FF-BE89-672D6BAD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8EA0-97E9-4795-8AB4-900C2246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291D-9EF7-4D95-8CF6-65816773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0222-1377-422A-97EE-C47C18FE452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3A67-4DBB-4BCD-A5E8-DEA46EBBCA1D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848720" cy="633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правление качеством образования в образовательной организации 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 основе диагностико – технологического подхода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ва С. С.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. директора по УВР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упоневская средняя общеобразовательная школа № 1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и Героя Советского Союза Н. И. Чувина» Брянского района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24D0-BA54-4269-90FD-210FA37E7B1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9" descr="Изображение 007"/>
          <p:cNvPicPr/>
          <p:nvPr/>
        </p:nvPicPr>
        <p:blipFill>
          <a:blip r:embed="rId1"/>
          <a:stretch/>
        </p:blipFill>
        <p:spPr>
          <a:xfrm>
            <a:off x="1889280" y="2852640"/>
            <a:ext cx="5340240" cy="52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5 класс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, история, география, т. к. в 4 классе – ВПР по окружающему миру) –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 (по русскому языку, математике, истории, биологии)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 - внутренняя оценка  + экзамен (по литературе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+ метапредметные результаты (защита проекта  - февральская сессия) + личност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6C88-46BD-4894-9456-9CDB8502240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8" descr="https://www.youcubed.org/wp-content/uploads/2017/03/common_core_math.jpg"/>
          <p:cNvPicPr/>
          <p:nvPr/>
        </p:nvPicPr>
        <p:blipFill>
          <a:blip r:embed="rId1"/>
          <a:stretch/>
        </p:blipFill>
        <p:spPr>
          <a:xfrm>
            <a:off x="108000" y="115920"/>
            <a:ext cx="34164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7BC8-61F7-4821-900A-FDA0B19134C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Таблица 5" descr=""/>
          <p:cNvPicPr/>
          <p:nvPr/>
        </p:nvPicPr>
        <p:blipFill>
          <a:blip r:embed="rId1"/>
          <a:stretch/>
        </p:blipFill>
        <p:spPr>
          <a:xfrm>
            <a:off x="536400" y="2157480"/>
            <a:ext cx="7778880" cy="37256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415440"/>
            <a:ext cx="849636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упоневская СОШ № 1 имени Героя Советского Союза Н. И. Чувина» Брянского района за 20__ -  20 ___ учебный год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достижений обучающегося  4 «А» класса за Ι четверть по предметным результата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предмет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228C-D252-45B7-BECE-BBFBDE9400A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415440"/>
            <a:ext cx="849636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упоневская СОШ № 1 имени Героя Советского Союза Н. И. Чувина» Брянского района за 20__ -  20 ___ учебный год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достижений учащегося  7  класса за Ι четверть по предметным результатам (Лист 1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предмет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Таблица 6" descr=""/>
          <p:cNvPicPr/>
          <p:nvPr/>
        </p:nvPicPr>
        <p:blipFill>
          <a:blip r:embed="rId1"/>
          <a:stretch/>
        </p:blipFill>
        <p:spPr>
          <a:xfrm>
            <a:off x="249120" y="2030400"/>
            <a:ext cx="857088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1 класс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) –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зовые работы / пробные экзамены (по материалам БЦОКО) – внутренняя /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-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итоговая аттестация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8DB7-6878-47A6-AEB6-12F60286F6F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6" descr="https://duelit.ru/wp-content/uploads/2014/06/shkola.jpg"/>
          <p:cNvPicPr/>
          <p:nvPr/>
        </p:nvPicPr>
        <p:blipFill>
          <a:blip r:embed="rId1"/>
          <a:stretch/>
        </p:blipFill>
        <p:spPr>
          <a:xfrm>
            <a:off x="179280" y="200160"/>
            <a:ext cx="246852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истема управления качеством образования на разных уровня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0FBD-9623-4850-BF1C-F279F399890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79280" y="1446120"/>
          <a:ext cx="8858520" cy="5429520"/>
        </p:xfrm>
        <a:graphic>
          <a:graphicData uri="http://schemas.openxmlformats.org/drawingml/2006/table">
            <a:tbl>
              <a:tblPr/>
              <a:tblGrid>
                <a:gridCol w="1771920"/>
                <a:gridCol w="1771560"/>
                <a:gridCol w="1771560"/>
                <a:gridCol w="1771560"/>
                <a:gridCol w="1771920"/>
              </a:tblGrid>
              <a:tr h="381240"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й руковод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й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8280"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оздание условий для повышения качества образования для обучающихся и педагог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пределение методик, форм, критериев, показателей и процедур оценки результативности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беспечение эффективного социального партнер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Создание эффективной информационной систем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Систематическое изучение образовательного спроса обучающихся, родителей, общественности по качеству образов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беспечение условий развития личности обучающегося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роведение оценки результативности  по установленной циклограмме и технологии мониторинг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бработка результатов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Оформление ЛИСТОВ ДОСТИЖЕНИЙ по предметным результатам. 5. Педагогическая рефлексия и взаимооценка колле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беспечение взаимодействия учителей-предметников, обучающихся, родителей по проведению мониторинга   классного коллекти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работка данных мониторинга уровня обучаемости обучающихся класс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формление ЛИСТОВ ДОСТИЖЕНИЙ по метапредметным, личностным результатам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Индивидуальная работа с родителями по выполнению различных рекомендаций учителей-предметников и специалис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тремление к самопознанию, самовоспитанию, саморазвитию, самореализации, самопрезент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владение ключевыми компетентностями и культурой умственного тру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акопление достижений ( в том числе и для формирования портфолио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оздание условий в семье, обеспечивающих физическое, нравственное и интеллектуальное развитие личности ребен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еспечение систематического контроля за результатами обучения ребен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Исполнение рекомендаций учителей, классного руководителя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Участие в соуправлении школо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результаты УВ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A2CD-3B3F-412E-A545-7893CE98007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55640" y="1052640"/>
          <a:ext cx="7704000" cy="5697360"/>
        </p:xfrm>
        <a:graphic>
          <a:graphicData uri="http://schemas.openxmlformats.org/drawingml/2006/table">
            <a:tbl>
              <a:tblPr/>
              <a:tblGrid>
                <a:gridCol w="2573280"/>
                <a:gridCol w="1709640"/>
                <a:gridCol w="1711440"/>
                <a:gridCol w="1709640"/>
              </a:tblGrid>
              <a:tr h="884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5/2016 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6/2017 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7/2018 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о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4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12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511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ая мед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13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яная мед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263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 олимпиады (муниц. этап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поб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приз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поб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приз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поб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приз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 олимпиады (регион. этап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риз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риз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39E3-7AC6-47B5-9F51-9D30997D683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9328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ЕГЭ -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ематик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68360" y="1341360"/>
          <a:ext cx="8280360" cy="5332320"/>
        </p:xfrm>
        <a:graphic>
          <a:graphicData uri="http://schemas.openxmlformats.org/drawingml/2006/table">
            <a:tbl>
              <a:tblPr/>
              <a:tblGrid>
                <a:gridCol w="1289160"/>
                <a:gridCol w="712800"/>
                <a:gridCol w="838080"/>
                <a:gridCol w="725400"/>
                <a:gridCol w="785880"/>
                <a:gridCol w="665280"/>
                <a:gridCol w="1087200"/>
                <a:gridCol w="1087560"/>
                <a:gridCol w="1089000"/>
              </a:tblGrid>
              <a:tr h="730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-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 / отмет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. кол-во баллов (порог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успеваем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райо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(35,7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52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из 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 знаний – 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(5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065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из 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 знаний – 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(79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52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(9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из 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 знаний – 9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DFF0-4AF3-4996-8482-A917297C2A9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9328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ЕГЭ –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язык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24000" y="1773360"/>
          <a:ext cx="8496000" cy="2952720"/>
        </p:xfrm>
        <a:graphic>
          <a:graphicData uri="http://schemas.openxmlformats.org/drawingml/2006/table">
            <a:tbl>
              <a:tblPr/>
              <a:tblGrid>
                <a:gridCol w="1222200"/>
                <a:gridCol w="676440"/>
                <a:gridCol w="1071360"/>
                <a:gridCol w="1212840"/>
                <a:gridCol w="496800"/>
                <a:gridCol w="505080"/>
                <a:gridCol w="1150920"/>
                <a:gridCol w="993600"/>
                <a:gridCol w="1166760"/>
              </a:tblGrid>
              <a:tr h="665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-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. кол-во баллов (поро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успеваем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рай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2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FAB2-055D-419E-BE23-B8971DC3103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сем  коллегам 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желаю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едагогических успехов и удачи!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6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F941-B663-409C-A6F4-1A5E2B8BBF9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356000" y="1988640"/>
            <a:ext cx="3810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3764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6589800" y="2720880"/>
            <a:ext cx="25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вети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4581360" y="105264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н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1187280" y="4511520"/>
            <a:ext cx="303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 педагогического процес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5003640" y="4048200"/>
            <a:ext cx="389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ый участник общ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бучающимис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родителями, учителя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Прямоугольник 14"/>
          <p:cNvSpPr/>
          <p:nvPr/>
        </p:nvSpPr>
        <p:spPr>
          <a:xfrm>
            <a:off x="361800" y="2727360"/>
            <a:ext cx="2567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тор деятельности обучающих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395280" y="190188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Прямоугольник 16"/>
          <p:cNvSpPr/>
          <p:nvPr/>
        </p:nvSpPr>
        <p:spPr>
          <a:xfrm>
            <a:off x="1760400" y="917640"/>
            <a:ext cx="281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14" descr=""/>
          <p:cNvPicPr/>
          <p:nvPr/>
        </p:nvPicPr>
        <p:blipFill>
          <a:blip r:embed="rId1"/>
          <a:stretch/>
        </p:blipFill>
        <p:spPr>
          <a:xfrm>
            <a:off x="0" y="25895160"/>
            <a:ext cx="5856120" cy="328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C:\Users\User\Desktop\Бобкова - Учитель года\DSC02799.JPG"/>
          <p:cNvPicPr/>
          <p:nvPr/>
        </p:nvPicPr>
        <p:blipFill>
          <a:blip r:embed="rId2"/>
          <a:stretch/>
        </p:blipFill>
        <p:spPr>
          <a:xfrm>
            <a:off x="2905200" y="1979640"/>
            <a:ext cx="36846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6D08-F682-4E82-9253-1BD42AC0CD6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2" descr="https://bigslide.ru/images/2/1208/831/img2.jpg"/>
          <p:cNvPicPr/>
          <p:nvPr/>
        </p:nvPicPr>
        <p:blipFill>
          <a:blip r:embed="rId1"/>
          <a:stretch/>
        </p:blipFill>
        <p:spPr>
          <a:xfrm>
            <a:off x="395280" y="209520"/>
            <a:ext cx="850104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утренняя оценка:</a:t>
            </a:r>
            <a:r>
              <a:rPr b="1" i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предварительный контроль,   стартовая диагностика)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тематическая оценка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школьный мониторинг индивидуальных образовательных достижений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обучающихся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оли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E682-6813-4326-981B-CA57C5E6D36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10" descr="https://c.pxhere.com/photos/95/40/still_life_school_retro_ink-1070694.jpg!d"/>
          <p:cNvPicPr/>
          <p:nvPr/>
        </p:nvPicPr>
        <p:blipFill>
          <a:blip r:embed="rId1"/>
          <a:stretch/>
        </p:blipFill>
        <p:spPr>
          <a:xfrm>
            <a:off x="5724360" y="4797360"/>
            <a:ext cx="31672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итоговая аттестац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ая оценка качества образовани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овые исследования муниципального, регионального и федерального уровн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22F2-3B8E-4ECF-81A5-C1A0BCEAB11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шняя оценка:</a:t>
            </a:r>
            <a:r>
              <a:rPr b="1" i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15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Единая система качества образовани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 – 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 –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 (Национальные исследования качества образования по учебному предмету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(Всероссийские проверочные работы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е исследования качества образ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профессиональных компетенций учител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E951-65A1-4D1D-8AB1-C0FCF0CDA12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39620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нализ работы по ФГОС НОО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ФГОС ООО) в ___ классе за 20__- 20__ учебный год </a:t>
            </a:r>
            <a:br>
              <a:rPr sz="28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ИО учителя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486640" cy="40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результаты вводного контроля - внутрен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результаты внутришкольного мониторинга индивидуальных образовательных достижений – внутренняя оценка (в соответствии с планом ВШК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результаты ВПР – внеш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результаты НИКО - внеш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результаты годовой промежуточной аттестации обучающихся по каждому учебному предмету – внутрен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результаты государственной итоговой аттестации - внешняя оценк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781F-510B-4680-82A1-A2579FE7DCF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6" descr="https://okru.ru/files/images/20150201/1423070417_u3.jpg"/>
          <p:cNvPicPr/>
          <p:nvPr/>
        </p:nvPicPr>
        <p:blipFill>
          <a:blip r:embed="rId1"/>
          <a:stretch/>
        </p:blipFill>
        <p:spPr>
          <a:xfrm>
            <a:off x="108000" y="260280"/>
            <a:ext cx="19429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, 3 классы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) – внутренняя оценка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(по каждому учебному предмету + итоговая комплексная работа на межпредметной основе (русский язык, литературное чтение, математика, окружающий мир)) - внутренняя оценк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редметных + метапредметных + личностных результат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3A36-C574-4A9B-8095-4FE393CC3C4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6" descr="http://images.tildacdn.info/ccc5032d-76ee-43d5-b06c-2602f500eda0/1291236603_1981.jpg"/>
          <p:cNvPicPr/>
          <p:nvPr/>
        </p:nvPicPr>
        <p:blipFill>
          <a:blip r:embed="rId1"/>
          <a:stretch/>
        </p:blipFill>
        <p:spPr>
          <a:xfrm>
            <a:off x="179280" y="115920"/>
            <a:ext cx="2400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4 класс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5640" y="227664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) – внутренняя оценк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 -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+ метапредметные результат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щита проектов) + личност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8EDC-57D9-4FF0-83F5-6F311A69378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6" descr="http://images.tildacdn.info/ccc5032d-76ee-43d5-b06c-2602f500eda0/1291236603_1981.jpg"/>
          <p:cNvPicPr/>
          <p:nvPr/>
        </p:nvPicPr>
        <p:blipFill>
          <a:blip r:embed="rId1"/>
          <a:stretch/>
        </p:blipFill>
        <p:spPr>
          <a:xfrm>
            <a:off x="179280" y="115920"/>
            <a:ext cx="2400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08:11:03Z</dcterms:created>
  <dc:creator>проектор</dc:creator>
  <dc:description/>
  <dc:language>en-US</dc:language>
  <cp:lastModifiedBy>Пользователь Windows</cp:lastModifiedBy>
  <dcterms:modified xsi:type="dcterms:W3CDTF">2018-11-14T21:35:24Z</dcterms:modified>
  <cp:revision>57</cp:revision>
  <dc:subject/>
  <dc:title>Тема: «Ф. Абрамов «О чём плачут лошади»</dc:title>
</cp:coreProperties>
</file>