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7307-B451-4892-B8C1-9B8969A0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BB54-724A-49AF-9083-380712F7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826B-CC30-4950-A4B1-1F32F01C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5DC-CB99-47AE-AE21-9325C4BC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28CB-8E7B-4DF8-A08A-A3B61123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F0D7-86FA-46F2-8767-8AD5B8CB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F731-3986-4638-BC8E-B4029FBE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80D9-4268-42C7-9A3E-5DB402FE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C3D4-E666-498B-9F27-F226964E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84A2-03BB-4F65-ABD5-7069CBC0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9EAA-D13A-4944-9617-4C6CC967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F4E-354E-45F8-8E5A-F338B409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127E-A41C-43D0-85E2-3993AF64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F0BD-B093-440D-9458-425F52A0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8DB5-046B-4633-A547-83549190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8A5D-BA8C-45C8-8683-E899306A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95F5-0F51-4A5D-937B-F2EB0E61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603-803B-4504-A4FD-A0D23305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6AD-6941-4BB1-9878-7ACC7D41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9460-F186-4EF5-A1B9-6B24E5FA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663-B7E8-4A5E-941D-D6AFC7BB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292E-3390-4AC0-AE39-43E8BC42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D611-4D76-4C19-9713-DF91FAAD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CB46-77D6-44A7-8861-9406B74F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EDE8-B019-4E17-B2D6-608079B766D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8AFD-147E-40CB-8F62-C7DBFA3BE0A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48720" cy="63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правление качеством образования в образовательной организации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 основе диагностико – технологического подход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ва С. С.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. директора по УВР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редняя общеобразовательная школа № 1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Героя Советского Союза Н. И. Чувина» Брянского района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E2A5-4A9B-465A-A79C-676ABCC22F9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9" descr="Изображение 007"/>
          <p:cNvPicPr/>
          <p:nvPr/>
        </p:nvPicPr>
        <p:blipFill>
          <a:blip r:embed="rId1"/>
          <a:stretch/>
        </p:blipFill>
        <p:spPr>
          <a:xfrm>
            <a:off x="1889280" y="2852640"/>
            <a:ext cx="534024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, история, география, т. к. в 4 классе – ВПР по окружающему миру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(по русскому языку, математике, истории, биологии)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  + экзамен (по литературе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 (защита проекта  - февральская сессия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EB79-8FF7-45DB-9875-1B316749A12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8" descr="https://www.youcubed.org/wp-content/uploads/2017/03/common_core_math.jpg"/>
          <p:cNvPicPr/>
          <p:nvPr/>
        </p:nvPicPr>
        <p:blipFill>
          <a:blip r:embed="rId1"/>
          <a:stretch/>
        </p:blipFill>
        <p:spPr>
          <a:xfrm>
            <a:off x="108000" y="115920"/>
            <a:ext cx="3416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4939-C0BA-4843-8188-F57B87588F7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Таблица 5" descr=""/>
          <p:cNvPicPr/>
          <p:nvPr/>
        </p:nvPicPr>
        <p:blipFill>
          <a:blip r:embed="rId1"/>
          <a:stretch/>
        </p:blipFill>
        <p:spPr>
          <a:xfrm>
            <a:off x="536400" y="2157480"/>
            <a:ext cx="7778880" cy="3725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обучающегося  4 «А» класса за Ι четверть по предметным результа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4B71-6D87-4DFF-984B-7B5676D6A1E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учащегося  7  класса за Ι четверть по предметным результатам (Лист 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Таблица 6" descr=""/>
          <p:cNvPicPr/>
          <p:nvPr/>
        </p:nvPicPr>
        <p:blipFill>
          <a:blip r:embed="rId1"/>
          <a:stretch/>
        </p:blipFill>
        <p:spPr>
          <a:xfrm>
            <a:off x="249120" y="2030400"/>
            <a:ext cx="85708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1 класс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зовые работы / пробные экзамены (по материалам БЦОКО) – внутренняя /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E5B5-8188-4494-9121-0FFCD582511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6" descr="https://duelit.ru/wp-content/uploads/2014/06/shkola.jpg"/>
          <p:cNvPicPr/>
          <p:nvPr/>
        </p:nvPicPr>
        <p:blipFill>
          <a:blip r:embed="rId1"/>
          <a:stretch/>
        </p:blipFill>
        <p:spPr>
          <a:xfrm>
            <a:off x="179280" y="200160"/>
            <a:ext cx="246852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истема управления качеством образования на разных уровн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736C-626A-4662-B01D-B2BF6CEC522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1446120"/>
          <a:ext cx="8858520" cy="5429520"/>
        </p:xfrm>
        <a:graphic>
          <a:graphicData uri="http://schemas.openxmlformats.org/drawingml/2006/table">
            <a:tbl>
              <a:tblPr/>
              <a:tblGrid>
                <a:gridCol w="1771920"/>
                <a:gridCol w="1771560"/>
                <a:gridCol w="1771560"/>
                <a:gridCol w="1771560"/>
                <a:gridCol w="1771920"/>
              </a:tblGrid>
              <a:tr h="381240"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й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8280"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для повышения качества образования для обучающихся и педагог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пределение методик, форм, критериев, показателей и процедур оценки результативности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еспечение эффективного социального партне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здание эффективной информационной систем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истематическое изучение образовательного спроса обучающихся, родителей, общественности по качеству обра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условий развития личности обучающегося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оведение оценки результативности  по установленной циклограмме и технологии мониторин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работка результатов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формление ЛИСТОВ ДОСТИЖЕНИЙ по предметным результатам. 5. Педагогическая рефлексия и взаимооценка колле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взаимодействия учителей-предметников, обучающихся, родителей по проведению мониторинга   классного коллекти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работка данных мониторинга уровня обучаемости обучающихся клас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формление ЛИСТОВ ДОСТИЖЕНИЙ по метапредметным, личностным результата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ндивидуальная работа с родителями по выполнению различных рекомендаций учителей-предметников и 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ремление к самопознанию, самовоспитанию, саморазвитию, самореализации, самопрезент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владение ключевыми компетентностями и культурой умственного тру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копление достижений ( в том числе и для формирования портфолио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в семье, обеспечивающих физическое, нравственное и интеллектуальное развитие личности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еспечение систематического контроля за результатами обучения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сполнение рекомендаций учителей, классного руководител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частие в соуправлении школо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результаты УВ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BB4C-4455-4207-902F-1938185EB97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5640" y="1052640"/>
          <a:ext cx="7704000" cy="5697360"/>
        </p:xfrm>
        <a:graphic>
          <a:graphicData uri="http://schemas.openxmlformats.org/drawingml/2006/table">
            <a:tbl>
              <a:tblPr/>
              <a:tblGrid>
                <a:gridCol w="2573280"/>
                <a:gridCol w="1709640"/>
                <a:gridCol w="1711440"/>
                <a:gridCol w="1709640"/>
              </a:tblGrid>
              <a:tr h="88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/2016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/2017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/2018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ян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26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муниц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регион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E436-38A9-48BE-9C61-D906145D6B3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68360" y="1341360"/>
          <a:ext cx="8280360" cy="5332320"/>
        </p:xfrm>
        <a:graphic>
          <a:graphicData uri="http://schemas.openxmlformats.org/drawingml/2006/table">
            <a:tbl>
              <a:tblPr/>
              <a:tblGrid>
                <a:gridCol w="1289160"/>
                <a:gridCol w="712800"/>
                <a:gridCol w="838080"/>
                <a:gridCol w="725400"/>
                <a:gridCol w="785880"/>
                <a:gridCol w="665280"/>
                <a:gridCol w="1087200"/>
                <a:gridCol w="1087560"/>
                <a:gridCol w="1089000"/>
              </a:tblGrid>
              <a:tr h="730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/ отме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35,7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065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7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9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E6F1-0B3D-475F-AE82-E4ADCF0FB4D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–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4000" y="1773360"/>
          <a:ext cx="8496000" cy="2952720"/>
        </p:xfrm>
        <a:graphic>
          <a:graphicData uri="http://schemas.openxmlformats.org/drawingml/2006/table">
            <a:tbl>
              <a:tblPr/>
              <a:tblGrid>
                <a:gridCol w="1222200"/>
                <a:gridCol w="676440"/>
                <a:gridCol w="1071360"/>
                <a:gridCol w="1212840"/>
                <a:gridCol w="496800"/>
                <a:gridCol w="505080"/>
                <a:gridCol w="1150920"/>
                <a:gridCol w="993600"/>
                <a:gridCol w="1166760"/>
              </a:tblGrid>
              <a:tr h="665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D4F1-4299-4513-804D-7B76DDB7F5D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сем  коллегам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елаю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дагогических успехов и удачи!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F6C0-FF06-46C4-81B9-48997D54DAC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56000" y="1988640"/>
            <a:ext cx="3810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3764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6589800" y="272088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т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581360" y="10526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1187280" y="4511520"/>
            <a:ext cx="303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 педагогического проце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5003640" y="4048200"/>
            <a:ext cx="389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й участник общ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учающимис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родителями, учител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361800" y="272736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 деятельности обучаю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395280" y="19018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1760400" y="91764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4" descr=""/>
          <p:cNvPicPr/>
          <p:nvPr/>
        </p:nvPicPr>
        <p:blipFill>
          <a:blip r:embed="rId1"/>
          <a:stretch/>
        </p:blipFill>
        <p:spPr>
          <a:xfrm>
            <a:off x="0" y="25895160"/>
            <a:ext cx="5856120" cy="328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Users\User\Desktop\Бобкова - Учитель года\DSC02799.JPG"/>
          <p:cNvPicPr/>
          <p:nvPr/>
        </p:nvPicPr>
        <p:blipFill>
          <a:blip r:embed="rId2"/>
          <a:stretch/>
        </p:blipFill>
        <p:spPr>
          <a:xfrm>
            <a:off x="2905200" y="1979640"/>
            <a:ext cx="36846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CE9B-8AF2-4643-A534-AD9AD7E0C07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2" descr="https://bigslide.ru/images/2/1208/831/img2.jpg"/>
          <p:cNvPicPr/>
          <p:nvPr/>
        </p:nvPicPr>
        <p:blipFill>
          <a:blip r:embed="rId1"/>
          <a:stretch/>
        </p:blipFill>
        <p:spPr>
          <a:xfrm>
            <a:off x="395280" y="209520"/>
            <a:ext cx="850104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ен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предварительный контроль,   стартовая диагностика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тематическая оцен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школьный мониторинг индивидуальных образовательных достижени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обучающих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оли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3A29-C67D-43FB-BE54-493314CD6EC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0" descr="https://c.pxhere.com/photos/95/40/still_life_school_retro_ink-1070694.jpg!d"/>
          <p:cNvPicPr/>
          <p:nvPr/>
        </p:nvPicPr>
        <p:blipFill>
          <a:blip r:embed="rId1"/>
          <a:stretch/>
        </p:blipFill>
        <p:spPr>
          <a:xfrm>
            <a:off x="5724360" y="4797360"/>
            <a:ext cx="3167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я оценка качества образовани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овые исследования муниципального, регионального и федерального уровн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FA59-6F8F-4295-95CB-6093C97533A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ш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Единая система качества образ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 (Национальные исследования качества образования по учебному предмету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(Всероссийские проверочные работы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исследования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профессиональных компетенций учите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B743-B3FB-4025-9809-2652426A33E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962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нализ работы по ФГОС НОО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ФГОС ООО) в ___ классе за 20__- 20__ учебный год </a:t>
            </a:r>
            <a:br>
              <a:rPr sz="28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О учителя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48664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езультаты вводного контроля -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езультаты внутришкольного мониторинга индивидуальных образовательных достижений – внутренняя оценка (в соответствии с планом ВШК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езультаты ВПР –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езультаты НИКО -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езультаты годовой промежуточной аттестации обучающихся по каждому учебному предмету –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результаты государственной итоговой аттестации - внешняя оценк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A47E-1257-4478-97A5-860B674AC7C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https://okru.ru/files/images/20150201/1423070417_u3.jpg"/>
          <p:cNvPicPr/>
          <p:nvPr/>
        </p:nvPicPr>
        <p:blipFill>
          <a:blip r:embed="rId1"/>
          <a:stretch/>
        </p:blipFill>
        <p:spPr>
          <a:xfrm>
            <a:off x="108000" y="260280"/>
            <a:ext cx="1942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, 3 классы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(по каждому учебному предмету + итоговая комплексная работа на межпредметной основе (русский язык, литературное чтение, математика, окружающий мир)) - внутренняя оцен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редметных + метапредметных + личностных результа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9470-3661-436A-B21E-09EF3E73221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щита проектов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9DD9-63C6-41AB-A1D7-87CF561C840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8:11:03Z</dcterms:created>
  <dc:creator>проектор</dc:creator>
  <dc:description/>
  <dc:language>en-US</dc:language>
  <cp:lastModifiedBy>Пользователь Windows</cp:lastModifiedBy>
  <dcterms:modified xsi:type="dcterms:W3CDTF">2018-11-14T21:35:24Z</dcterms:modified>
  <cp:revision>57</cp:revision>
  <dc:subject/>
  <dc:title>Тема: «Ф. Абрамов «О чём плачут лошади»</dc:title>
</cp:coreProperties>
</file>